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50C-852F-440D-BFB9-84D23CC6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266-1441-492E-997C-E56056C1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37E-C38C-402C-B601-B2CA381A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C3C6-CE91-43D8-9D2C-FDF86F22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89E-1648-4B39-826A-DF9311FA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72D-0FFE-47D3-804B-8A160BF0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C59-EE33-4800-B987-A93324E4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921-0206-4B0C-973E-11EF365B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357-1600-49F2-BCD0-4A88F00C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015-9E44-4F9D-84D2-C68BD98E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E95-D5A2-4EE8-B36B-6DFFEAD8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1AD-DA75-4BD1-90D4-7AADE2F5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1592-695E-4577-813E-FAC0E22B0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2133720"/>
            <a:ext cx="87120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Крестьянство в гражданской войне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Политический кризис 1920-1921 гг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148360" y="476280"/>
            <a:ext cx="396072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а освобожденные терри-тории Махно не пускал и красных.В 1919 г. он занял Екатеринослав и начал контролировать большую часть Украи-ны.Во время борьбы с Деникиным он влился в Красную Армию,но сохранял при этом свою политическую самосто-ятельность.После разг-рома Врангеля махнов-цы были разоружены,т. к.не брезговали грабе-жами,но сам Махно с не большим отрядом про-должил борьбу и вскоре был вынужден эмигри- ровать за гра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4.«Зеленые».Махновское дви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14360" y="6051600"/>
            <a:ext cx="1959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естор Мах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3375360" cy="489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о окончании Гражданс-кой войны политика бо-льшевиков в отношении крестьянства не измени-лась,а продразверстка ужесточилась.Это приве-ло к строашному голоду в Поволжье и др. райо-нах страны.Летом 1920 г. в Тамбовской губернии крестьяни получив план разверстки взбунтова-лись.Во главе восстания встал начальник Кирса-новской милиции,эсер А. Антонов.Одновременно восстания вспыхнули и в др.районах.этот период был назван «Малой гражданской»вой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5.«Малая гражданская войн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54320" y="6195960"/>
            <a:ext cx="1774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.С.Ант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403280" y="706320"/>
            <a:ext cx="3438720" cy="5099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31640" y="3573000"/>
            <a:ext cx="7777080" cy="3240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рестьяне создавали свои армии захватывали города, создавали новые органы власти и выступали под лозунгом свержения власти большевиков.В ряде районов раздавались требования созыва Учредите-льного собрания и денационализации промышлен-ности. Многие крестьянские отряды превращал-ись в банды.На борьбу с мятежниками были броше ны регулярные части во главе с М.Фрунзе,С.Буден ным,М.Тухачевским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5.«Малая гражданская войн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10800" y="1482840"/>
            <a:ext cx="13406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Ба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там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ван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706920" y="536400"/>
            <a:ext cx="5257800" cy="2980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552600"/>
            <a:ext cx="5695920" cy="2947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31640" y="3500280"/>
            <a:ext cx="7777080" cy="3313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оследствия войны сказывались и в городах-нехва-тало продовольствия и топлива, останавливались предприятия,росли безработица и стачечное движе ние.28 февраля 1921 г.на линкоре «Петропавловск» в Кронштадте на собрании были выдвинуты поли-тические требования-тайные перевыборы Советов, амнистия меньшевикам и эсерам, ликвидация продразверстки, свободная торговля хлебом.1 мар-та резолюция была приня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onotype Corsiva"/>
              </a:rPr>
              <a:t>6.Кронштадтское восст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2600" y="981000"/>
            <a:ext cx="2253240" cy="19234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етричен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оловья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озловски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руко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ронштадт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осс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31640" y="3500280"/>
            <a:ext cx="7777080" cy="3313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ласть в Кронштадте перешла к Временному револю ционному комитету.2 марта Советское правительс-тво объявило о мятеже и ввело в Петрограде воен-ное положение.5 марта на переговорах Троцкий предъявил ультиматум.Ответа на него не последо-вало и большевики двинули на крепость войска во главе с Тухачевским.18 марта Кронштадт пал.Око-ло 6 тыс. матросов ушли в Финляндию, а 2,5 тыс оказались в плену.Руководители восстания были расстреляны по решению военного трибу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onotype Corsiva"/>
              </a:rPr>
              <a:t>6.Кронштадтское восст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5080" y="1268280"/>
            <a:ext cx="268920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.Дыбенко и чл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штаба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давл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осс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16360" y="555480"/>
            <a:ext cx="4176720" cy="2901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052280"/>
            <a:ext cx="763272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469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1.Крестьянские восст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2.»Расказачивани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3.Крестьяне против бел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4.«Зеленые».Махновское движ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5.«Малая гражданская войн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6.Кронштадтское восст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3280" y="1052280"/>
            <a:ext cx="763272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Monotype Corsiva"/>
              </a:rPr>
              <a:t>Докажите, что именно позиция крестьянства определила в конечном итоге исход Гражданской войн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03640" y="475920"/>
            <a:ext cx="4105440" cy="6381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Исход Гражданской войны зависел прежде всего от позиции крестьянства. Декрет о земле дал ему помещичью землю,но сражаться за советскую власть крестьяне не спе-шили.Введение продово-льственной диктатуры они встретили враждеб-но и по стране прокати-лась волна крестьянских восстаний.крестьяне ук-рывались от мобилиза-ции и громили комбеды. Большевики объявили эти выступления кулац-кими и бросили на их по давление отряды ВЧК. Руководители расстре-ливались на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onotype Corsiva"/>
              </a:rPr>
              <a:t>1.Крестьянские восст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00240" y="5950080"/>
            <a:ext cx="200196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гне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рестьян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403280" y="692280"/>
            <a:ext cx="3425760" cy="498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31640" y="3429000"/>
            <a:ext cx="7777080" cy="3384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азачество колебалось в отношении большевиков.В свою очередь ряд большевистских руководителей считали казаков контрреволюционной силой враж дебной остальному народу и против них началась политика «расказачивания». Богатых казаков ист-ребляли, у середняков конфисковывали землю и имущество, всех казаков насильно разоружали. В ответ в ряде районов на юге вспыхнули крестьян-ские восс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Monotype Corsiva"/>
              </a:rPr>
              <a:t>2.»Расказачивание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47320" y="1409760"/>
            <a:ext cx="19105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озвра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аз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 ох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43280" y="581040"/>
            <a:ext cx="3961080" cy="2770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148360" y="476280"/>
            <a:ext cx="396072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а Дону, проведя мобили-зацию казаки создали отряд в 30 тыс. человек. Вокруг станиц были во зведены укрепления. Для борьбы с восстав-шими по приказу Троц-кого был создан экспе-диционный корпус.Каж дого пятого пленного расстреливали.Борьба с казаками приостанови-ла наступление Крас-ной армии на юге в н. 1919 г.Это привело к из менению политики бо-льшевиков-в составе Красной армии возник корпус под командова-нием Ф.К.Мирон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Monotype Corsiva"/>
              </a:rPr>
              <a:t>2.»Расказачивание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33160" y="5661000"/>
            <a:ext cx="18403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Ф.К.Мир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е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сстр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547640" y="585720"/>
            <a:ext cx="3327480" cy="4859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356000" y="531720"/>
            <a:ext cx="4464000" cy="2738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331640" y="3284280"/>
            <a:ext cx="7777080" cy="352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рестьяне были недовольны и политикой белых. Здесь их движение приобретало пробольшевистс-кий характер, т.к. белогвардейцы лишали их зем-ли. Союзниками крестьян становились рабочие и в тылу белых возникал антибелогвардейский фронт, который укрепился за счет меньшевиков и эсеров, не сумевших договориться с белогвардейцами. В Сибири в начале белые получили от крестьян под-держку, т.к. там помещичьего землевладения ни-когда не бы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3.Крестьяне против бел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19960" y="1177920"/>
            <a:ext cx="143496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.Лапт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зъ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злиш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 кул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331640" y="3284280"/>
            <a:ext cx="7777080" cy="352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о Колчак отменил все декреты Советской власти и начал раздачу земель дворянам и белогвардейским офицерам.Это привело к антиколчаковским восста ниям.В ответ он ввел «исключительные законы», и тем самым потерял социальную оп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а Юге решение земельного вопроса отодвигалось до созыва Учредительного собрания, а до той поры бе лые требовали часть урожая и отбирали у кресть-ян земли. В итоги казаки и крестьяне отвернулись от Дени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3.Крестьяне против бел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8200" y="1338120"/>
            <a:ext cx="241020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Большевист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гитаторы среди</a:t>
            </a:r>
            <a:br>
              <a:rPr sz="2000"/>
            </a:b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рестья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788000" y="533520"/>
            <a:ext cx="3960720" cy="2665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49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31640" y="3429000"/>
            <a:ext cx="7777080" cy="3384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прифронтовых районах крестьяне, спасаясь от красных и от белых, создавали свои партизанские отряды.Своим цветом они избрали зеленый-цвет леса. «Зеленое»движение охватило весь юг России. Наибольшего размаха оно достигло на Украине.Во главе повстанческой армии встал Н.Махно.Став председателем Совета в с.Гуляй-Поле он 25.09.17 подписал указ о ликвидации помещичьего землев-ладения.Во время немецкой оккупации он сражал-ся не только с немцами но и с националистами-пе-тлюров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4.«Зеленые».Махновское дви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71640" y="1341360"/>
            <a:ext cx="20462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етлюров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ойск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гайдам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73440" y="563400"/>
            <a:ext cx="4319640" cy="2818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3-01-21T15:32:32Z</dcterms:modified>
  <cp:revision>49</cp:revision>
  <dc:subject/>
  <dc:title>Слайд 1</dc:title>
</cp:coreProperties>
</file>