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9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3D4-20A8-4F67-BC16-A2A2BFDF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A14-F570-4186-AA7A-1C49088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D4B-1516-476B-9861-268FE78F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E7A-DC86-4F01-9A28-E968EE9D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49F-5D4B-40A0-A1C2-05CE9AC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D35-F0F6-4193-9F5C-0A7DD36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314-2B48-49AF-B738-853E21A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DC9-AA41-49DA-9059-4A840E9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718-526B-4A40-B719-27B3FDD3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81B-3B3C-4C88-9E4F-C89BB58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C5E-7EFC-4D07-9D23-CE933D58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207-C877-4909-B761-DAEDFA51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DE8-9B1F-4588-9A84-88AA8FCD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ССР на завершающе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этапе II мировой войны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17 июля-2 августа в Потсдаме состоялаь последняя встреча «Большой тройки».США представлял Г. Трумен, а британскую делегацию взамен Черчилля возглавил в ходе конференции К.Эттли.Было реше но сохранить Германию единым государством,про-вести ее демилитаризаци,денацификацию и демок-ратизацию.Был решен вопрос о репарациях в по льзу СССР,установлены новые европейские грани-цы, и определены «зоны оккуп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Потсдамская конфере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5200" y="1557360"/>
            <a:ext cx="19530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тли, Трум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та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отсда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068720" y="560520"/>
            <a:ext cx="4751280" cy="293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8 августа СССР, выполняя союзнический долг, объя-вил войну Японии.Красная армия начала наступ-ление из Забайкалья и из Приморья.Японцы были опрокинуты и в панике отступали к югу Китая. В сер.августа был освобожден Пекин, а в конце меся-ца-Порт-Артур, Дайрен, а также Пхеньян.В ходе де сантных операций японцы были изгнаны с Южно-го Сахалина и с Курильских остро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Разгром Японии. Итоги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87720" y="1482840"/>
            <a:ext cx="2890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г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мпериалис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Яп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720" y="554040"/>
            <a:ext cx="4680000" cy="294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2 сентября 1945 г. На линкоре «Миссури» японские представители подписали акт о безоговорочной ка- питуляции.Победа усилила международный автори тет нашей страны.СССР внес решающий вклад в разгром фашистского блока.Он уничтожил 607 немецких дивизий численностью 10 млн человек, 48 тыс. танков,77 тыс. самолетов.Победа далась страшной ценой.Мы потеряли 27 млн. человек, бы ли разрушены 1480 городов и 80 тыс. населенных пун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Разгром Японии. Итоги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3080" y="1571760"/>
            <a:ext cx="18266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апитуля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Яп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635280" y="573120"/>
            <a:ext cx="5257800" cy="3019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426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1.Военная обстановка к н. 1944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2. «Десять сталинских удар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3.Крымская конферен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4.Освобождение Европы от  фашиз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5.Потсдамская конферен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6.Разгром Японии. Итоги вой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99"/>
                </a:solidFill>
                <a:latin typeface="Monotype Corsiva"/>
              </a:rPr>
              <a:t>Докажите, что советские войска сыграли решающую роль в разгроме фашистского блока  на завершающем этапе войн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44 г. Немецкая армия перешла к стратегической обороне.СССР имел на фронте 6,3 млн солдат-нем- цы-5 млн.Мы имели преимущество по самолетам-10,2тыс против 3 тыс.,орудиям и минометам-96 тыс. против 54,6 тыс.По танкам и САУ силы были равны-5,3 тыс. против 5,4 тыс.исходя из этого соот ношения Ставка приказала обеспечить в 1944 г. окончательный разгром фашистской Германии и освобождение территории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Военная обстановка к н. 194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0" y="1268280"/>
            <a:ext cx="2517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отношение с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ермании и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н. 194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71640" y="549360"/>
            <a:ext cx="6156360" cy="2779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январе 1944 г.была снята блокада Ленинграда,в мае в результате наступ- пления на Украине со-ветские войска вышли к Государственной грани-це.6 июня союзники отк-рыли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фронт в Норман дии.10 июня, чтобы не дать немцам перебро-сить силы на Запад,со-ветское командование начало атаку на «линию Маннергейма».Вскоре Финляндия капитулиро-вала.23 июня началась операция «Багратион» в Белоруссии.30 дивизий врага попали в окруже-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 «Десять сталинских уда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3840" y="5675400"/>
            <a:ext cx="29116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6 марта 194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раница с Румын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3449880" cy="425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ыли освобождены Бело-руссия,часть Литвы и восточная Польша. Груп па немецких армий «Се-вер» в Прибалтике была рассечена надвое.В июле подо Львовом  8 немец-ких дивизий попали в окружение,а в город во-шли советские войска. В августе под Кишиневом  были окружены 22 диви-зии и Красная армия вступила на территорию Румынии.к концу октяб-ря 1944 г. территория СССР была полностью освобож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 «Десять сталинских уда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1640" y="5891040"/>
            <a:ext cx="2125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10 сталин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дар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3371760" cy="4773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январе 1945 г.советские войска по просьбе Черчил- ля начали наступление в Восточной Пруссии.В 4-11 февраля в Ялте состоялась 2 встреча Сталина, Рузвельта и Черчилля.Были согласованы условия безоговорочной капитуляции, оккупации и деми-литаризации Германии.Стороны подписали Декла рацию об освобожденной Европе, заявили о созыве ассамблеии Организации Объединенных наций, а СССР подтвердил свое намерение вступить в вой- ну с Японией после разгрома Герм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Крымская конфере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8680" y="1557360"/>
            <a:ext cx="19746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Налбанд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 Крым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284720" y="581040"/>
            <a:ext cx="4319640" cy="290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свободив свою территорию советские войска всту-пили в Европу.31 августа они заняли Бухарест, а в сер. Сентября освободили Болгарию.20 октября со-вместно с  НОАЮ был освобожден Белград.В октя-бре началась операция в Венгрии.Под Будапештом была блокирована 200 тыс. группировка.Германии пришлось воевать на 2 фронта.В сер.апреля нача-лась Берлинская операция.Группировка Жукова и Конева наносили прямой удар,а группа Конева должна была обойти Берлин с Юга, чтобы не допу-стить в город англо-американски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Освобождение Европы от  фаш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2720" y="1484280"/>
            <a:ext cx="1473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нтяб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94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354560" y="550800"/>
            <a:ext cx="4465440" cy="2803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219640" y="549000"/>
            <a:ext cx="3889440" cy="626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24 апреля кольцо вокруг Берлина сомкнулось. Гитлер решил снять войска с Западного фро нта.В результате этого американцы стремите-льно двинулись вперед и 25 апрелю на Эльбе встретились с армией Конева.30 апреля на Рейхстагом взвилось Красное Знамя.2 мая Берлин пал. 8 мая в Ка рлхорсте в присутст-вии Жукова фельдмар- шал Кейтель подписал капитуляцию.9 мая капитулировала груп-пировка в Праге.Этот день стал Днем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Освобождение Европы от  фаш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58920" y="6195960"/>
            <a:ext cx="23050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итва за Бер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76360" y="836640"/>
            <a:ext cx="3583080" cy="5027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0-31T15:26:55Z</dcterms:modified>
  <cp:revision>55</cp:revision>
  <dc:subject/>
  <dc:title>Слайд 1</dc:title>
</cp:coreProperties>
</file>