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684-4211-4CE8-A01F-D9260A85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2EA-01F4-4F66-AA5D-FFBF0399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5B7-2C0F-46F1-A1A4-2EE740C1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24C-F855-4DA0-B9D2-2A8C74C2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BDF-9AA6-4249-9ABE-7DE0F5F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784-316E-4E98-8CDF-305B6CF2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DF6-0D77-499F-A2F9-09E7BB6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1B1-02C3-4483-9979-A108608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014-72A2-40F4-9DD3-FC25BE8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2E3-074E-4F90-88F0-F1BED3D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3BF-0116-4714-87DA-8F639F8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EDE-9746-472D-A8C8-6C2EFEF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3083-7F7B-4B7D-9379-1C87399A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2000" y="249228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Духовная жизнь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ветского обще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оветский балет ставший лучшим в мире гордил-ся М.Плиссецкой,М.Ли епой, В.Васильевым, Н. Павловой,в то же вре-мя остались за грани-цей и получили там признание Р.Нуриев,М. Барышников, А.Году-нов.оперное искусство было представлено И. Архиповой,В.Атланото вым,З.Соткилавой,Е.образцовой,Т.Синявской,Б.Штокол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рхитектурные достиже- ния были связаны с именами В.Вучетича,Л. Кребель Н.Томско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витие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47880" y="5514840"/>
            <a:ext cx="2617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.Вучет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плекс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маевом ку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73200" y="620640"/>
            <a:ext cx="3286080" cy="462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48360" y="692280"/>
            <a:ext cx="3889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Характерной чертой куль туры 60-70-х гг.стал ра сцвет авторской песни. Он был связан с твор-чеством мэтров жанра-Б.Окуджавы,Ю.Визбора,А.Городницкого,Ю.Кима,А.Галича и более молодых авторов-В.Вы соцкого, В.Егорова, А. Сух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громной популярности на советской эстраде получили А.Пугачева, И.Кобзон,Э.Пьеха, Л. Лещенко, М.Криста-линская,М.Магомаев, В.Леонтьев,С.Ротару,Э. Хи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витие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00040" y="5589720"/>
            <a:ext cx="1803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.Высоц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.Окуд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Ю.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2313000" cy="1514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03280" y="2768760"/>
            <a:ext cx="1973160" cy="159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610080" y="3738600"/>
            <a:ext cx="1393560" cy="1635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31640" y="3789000"/>
            <a:ext cx="7777080" cy="302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альнейшее развитие получила система образования. В 1974 г.был осуществлен переход ко всеобщему среднему образованию, но при этом качество обра-зования снизилось, т.к. не было отбора в старшие классы школы.за 20 лет число ВУЗов выросло в 1,8 раза.Ежегодно они выпускали 1 млн.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многие задачи реформы 1974 г.не были достигнуты из-за катастрофической нехватки ре-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Система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89080" y="1787400"/>
            <a:ext cx="12096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МИЭ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40360" y="549360"/>
            <a:ext cx="4464000" cy="3176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Кризис официальной идеоло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Движение диссид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Борьба с «Буржуазной культуро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Развитие художественной куль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Система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Докажите двойственный характер советской культуры в период «Застоя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азрыв между официальной идеологией и реальной жизнью привел к тому, что население перестало до верять властям.Люди стали терять веру не только в конечную веру, но и стимулы к труду. В 80 г.ком- ммунизм так и не был построен и власти выдвину-ли новую концепцию- «дальнейшего совершенст-вования развитого социализма».Это означало на-чало серьезного кризиса официальной иде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Кризис официальной иде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73960" y="1700280"/>
            <a:ext cx="19562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И.Бреж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 М.А.Су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88000" y="528480"/>
            <a:ext cx="3887640" cy="305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.60-х гг.часть интеллигенции,осознав идейный кризис коммунистической идеологии,начала гово-рить об обновлении марксизма-ленинизма.Вскоре в стране возникло диссидентское движение.Оно включало 3 направления:правозащитное,национа-льное и религиозное.Диссидентство было представ лено либерализмом(А.Сахаров) и национализмом (А.Солженицын).Сахаров выдвинул идею конвер-генции-объединения социализма и капит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Движение диссид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2200" y="1773360"/>
            <a:ext cx="17640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Д.Сах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789440" y="530280"/>
            <a:ext cx="3959280" cy="304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48360" y="764640"/>
            <a:ext cx="3889440" cy="59756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олженицын выступал за возрождение национа-льн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65 г.диссиденты выс-тупили в защиту А.Си-нявского и Ю.Даниэля, опубликовавших свои произведения за грани- цей.В 1969 г.возникла инициативная группа защиты прав человека (С.Ковалев),в 1975-гру-ппа во главе с Ю.Орло-вым.В 1975 г.капитан 3-ранга В.Саблин под-нял мятеж на корабле «Сторожевой.»За изме-ну Родине он был рас-стре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Движение диссид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8360" y="5950080"/>
            <a:ext cx="2276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Новодво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тюр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3664080" cy="4848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932360" y="692280"/>
            <a:ext cx="4105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диссидентском движении власти видели влияние Запада и выдвинули те-зис об обострении клас-совой борьбы.Диссиден-тов стали представлять как «агентов влияния» Запада,или как шпио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70-е гг. усилилась борьба с буржуазной культурой. Из репертуаров театров изымались пьесы зару-бежных авторов,отменя-лись концерты извест-ных исполнителей,запре щался прокат западных кинофиль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Борьба с «Буржуазной культур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72720" y="5516640"/>
            <a:ext cx="2518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деолог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ивер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70-х г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3440160" cy="4084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73520" y="476280"/>
            <a:ext cx="4219560" cy="314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331640" y="3644640"/>
            <a:ext cx="7777080" cy="3097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ласти требовали от деятелей культуры «золотой се-редины»-отказа от «очернительства» и от «лакиро-вания действительности».Предписывалось созда-вать произведения на производственную тематику с положительным героем-партийным руководите-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инематографе на этот период пришелся расцвет творчества С.Бондарчука,Ю.Озерова,Т.Лиозновой, А.Тарковского,Э.Рязанова,Л.Гайда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витие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56000" y="1700280"/>
            <a:ext cx="2619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.Бондарч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роли П.Безух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еатре свой взгляд на жизнь предлагали Г.Товсто-ногов,А.Эфрос,М.Захаров,О.Ефремоф,Г.Волчек и др.Огромной популярности достигли актеры,Е.Ле-бедев,К.Лавров,С.Юрский,О.Басилашвили,В.Тихонов,Р.Плятт,Т.Дорони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то же время ряд деятелей культуры эммигрировали за границу-В.Аксенов,А.Солженицин,И.Бродский, А.Тарковский,М.Растропович,Г.Вишневская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витие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1393920"/>
            <a:ext cx="26114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Каляг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роли В.И.Ле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Так победи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Х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282920" y="549360"/>
            <a:ext cx="4681800" cy="3017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29T13:41:03Z</dcterms:modified>
  <cp:revision>67</cp:revision>
  <dc:subject/>
  <dc:title>Слайд 1</dc:title>
</cp:coreProperties>
</file>