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CBD-C682-4738-834D-7593299F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D89-A6AE-4A73-AD4D-5A4FD320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EFD-1B44-4E20-B8A3-78BF1E02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98F-1346-4D30-B5BB-93240D66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A19-78FE-4CBB-AFE0-7FE19396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14A-9A89-4B96-8A85-A710FEFF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733-355D-4F32-8F50-0CEFC807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CC7-EAEE-4E9D-A97C-1A463F7F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6FC-31BC-40B3-9953-7FEC770A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469-7521-4375-BC73-A305B852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FED-1903-46B7-B225-45B20F8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10D-F7A8-4A38-8BAC-53CD7A5E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F76F-34B4-4322-AC0A-81DC7BD2F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800" y="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4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2492280"/>
            <a:ext cx="87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Духовная жизнь стран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56000" y="523800"/>
            <a:ext cx="4537080" cy="308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Демократизация культуры привела к дальнейшему развитию многонациональной культуры.В 50-е гг. началось творчество Ч.Айтматова,И.Гусейнова,Д. Шенгелая,Ю.Германа. М.Ауэзов завершил работу над эпопеей «Путь Абая».Огромную роль в разви-тии национальной культуры сыграл журнал «Дру-жба народов».В поэзии заблисталиЭ.Межелайтис, М. Турсун-Заде,М.Рыльский,А.Бровка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Развитие многонациональн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65880" y="1557360"/>
            <a:ext cx="18770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.С.Хрущ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 М.Шагин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32360" y="484200"/>
            <a:ext cx="3960720" cy="3089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урс на развернутое строительство коммунизма при вел к новому давлению на церковь.Ее деятель-ность была поставлена под контроль местных ор-ганов власти.священники утверждались властями. За верующими осуществлялась слежка-члены пар-тии и ВЛКСМ в случае посещения церкви исклю-чались из этих организаций.Вновь началась кампа ния по разрушению церковных зданий.Статьи Кон ституции 1936 г.о свободе совести не выполня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Власть и церк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16160" y="1484280"/>
            <a:ext cx="16696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.С.Хрущ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ыступ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ради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50-е гг.началось обновле-ние системы образова-ния.Ликвидировалось раздельное обучение ма-льчиков и девочек.Отк-рылись новые ВУ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58 г.началась школь-ная реформа.Вводилось обязательное 8-летнее обучение.Для желающих обучаться в ВУЗе вводил ся обязательный 2-годич ный трудовой стаж. Бы-ла отменена плата за обу чение в старших классах школы и ВУ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Обра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360" y="5661000"/>
            <a:ext cx="20797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.Реше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ять двой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441440" y="925560"/>
            <a:ext cx="3417840" cy="4303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Начало  «Оттепел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Художественная куль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Обновление системы идеологического контро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Развитие многонациональной куль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Власть и церков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6.Образо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99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99"/>
                </a:solidFill>
                <a:latin typeface="Monotype Corsiva"/>
              </a:rPr>
              <a:t>Приведите пример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сле смерти Сталина наи-более серьезные измене-ния произошли в духов-ной жизни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.Эренбург назвал наступи вшую эпоху «Оттепе-лью».Она характеризо-валась снятием наиболее жестких запретов в сфе-ре культуры и началом контактов с зарубежны-ми стра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57 г.в Москве состоял-ся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I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Всемирный фести-валь молодежи и студен-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Начало  «Оттепе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44000" y="6093000"/>
            <a:ext cx="2328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.Т.Твард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79600" y="692280"/>
            <a:ext cx="3308400" cy="5089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литературе А.Твардовс-кий,И.Эренбург,Ф.Пан-феров и др. ставили воп-рос о губительности для интеллигенции сталинс-кой эпохи.В итоге Твар-довский был отстранен от руководства «Новым мир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Яркие произведения были созданы Д.Граниным, В. Дудинцевым, М.Шоло-ховым,В.Катаевым и др. Ю.Болдырев,Г.Бакланов Э.Казакевич и М.Шоло-хов поставили вопрос о цене победы в во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Начало  «Оттепе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34520" y="5979960"/>
            <a:ext cx="169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.Эренбур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3328920" cy="4434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0580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58 г.были сняты идеологические обвинения с ко-мпозиторов,Прокофьева,Шостаковича,Хачатуря-на.В этот период начинается творческая деятель-ность Э.Денисова,А.Петрова,А.Шнитке,Р.Шедри-на,А.Эшпа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Огромной популярностью пользовались произведе-ния Г.Свиридова и песни А.Пахмутовой на стихи Н.Добронрав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Художественная куль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8000" y="1557360"/>
            <a:ext cx="28126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.С.Хрущ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 деятели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5080" y="579600"/>
            <a:ext cx="4103640" cy="2993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Художественная куль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1840" y="1557360"/>
            <a:ext cx="3660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.С.Хрущ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выставке посвящ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0-летию МОСХ в Ман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284720" y="544680"/>
            <a:ext cx="4680000" cy="30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0580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живописи был реабилитирован авангард.В нем развивалось «классическое» и новое на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62 г.по инициативе М.Суслова Н.Хрущев закрыл выставку абстракционистов в Ман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оветский зритель вновь увидел творчество С.Кон-ненкова и С.Эрь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инематограф добился огромных успехов.  Фильм «Летят журавли»(М.Калатозов) получил Гран-при фестиваля в Каннах,а «Иваново детство»(А.Тарко-вский в Вен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зменение духовной атмос-феры в обществе вызва-ло беспокойство у влас-тей. В результате были очерчены «рамки дозво-ленн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огда Б Пастернаку прису-дили Нобелевскую пре-мию за роман «Доктор Живаго»,то он подвергся гонениям и был исклю-чен из Союза пис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то же время Н.Хрущев помог А.Солженицину опубликовать рассказы «Один день Ивана Дени-совича»,и «Матренин Двор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Обновление системы идеологического 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1040" y="5979960"/>
            <a:ext cx="18158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.Пастерн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403280" y="692280"/>
            <a:ext cx="3454560" cy="5062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артийный контроль «сде-рживал» критику стали-низма,начатую самой парт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Ограничения действовали во всех сферах культу-ры.Резкой критике под-верглись А.Вознесенс-кий,Е.Евтушенко, Д.Гра нин,К,Паустовский,Э.неизвестный,М.Хуци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ямые репрессии против интеллигенции были уже невозможны,поэто-му партийные органы проводили регулярные идеологические «накач-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Обновление системы идеологического 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96480" y="6093000"/>
            <a:ext cx="2350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.И.Солжениц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3432240" cy="473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1-20T16:00:07Z</dcterms:modified>
  <cp:revision>64</cp:revision>
  <dc:subject/>
  <dc:title>Слайд 1</dc:title>
</cp:coreProperties>
</file>