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93E-65F4-421F-8996-A95348A8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BE3-DA71-4784-A247-0FC71758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C5E-6B72-4C8A-B83D-3833EC01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A70-F31B-4250-B9B0-7E62C248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266-3BF1-434A-8472-D15E56FC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4E5-F2C4-4E8A-8112-5F03FAF3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429-2164-406B-8070-949C54B3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217-9F92-47BA-9F51-64E35A3E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C09-860A-4BCE-98AF-5B0EBDA8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091-3FA7-4B87-86BC-61CE29C4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040-65F0-429C-BA77-944784D1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839-71BE-4674-B1AD-CF6F38B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DB6A-B187-4836-876B-E76D46FEC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2492280"/>
            <a:ext cx="871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нешняя политика СССР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 60-80-е гг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003640" y="260280"/>
            <a:ext cx="4105440" cy="655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60-70-е гг.военное проти-востояние СССР и США перешло на региональ-ный уровень.СССР ока-зывал помощь Вьетнаму и его победа в войне с США воспринималась как собственный успех.В 1967 г.во время израиль-ской агрессии на терри-торию арабских стран СССР разорвал отноше-ния с Израилем,ввел во-енно-морской флот в Средиземное море и до-бился от США помощи в прекращении агрессии. В 70-80-е гг.мы оказыва-ли военную помощь ос-вободительному движе-нию в Азии,Африке и Латинской Амер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28908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Региональные конфли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4000" y="5661000"/>
            <a:ext cx="3061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бомбардир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о Вьетнаме.196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476360" y="765000"/>
            <a:ext cx="3379680" cy="4370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ССР надеялся,что освободившиеся страны пойдут по пути коммунизма.Особые надежды возлагались на Афганистан.В 1978 г.здесь к власти пришли про коммунистические силы,но между их лидерами раз горелась борьба за власть.25 декабря 1979 г.после долгих споров среди советских руководителй в Аф-ганистан были введены советские войска для  под- держания стабильности в регионе.Война обошлась в 1млн. жертв для афганцев и 35 тыс.-для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Региональные конфлик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88000" y="1643040"/>
            <a:ext cx="17686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.Брежнев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Карма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16360" y="558720"/>
            <a:ext cx="4176720" cy="3014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45120" y="517680"/>
            <a:ext cx="4719600" cy="3044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к.60-х гг.мировая коммунистическая система всту-пила в полосу затяжного кризиса.В 1968 г.на путь  реформ вступила ЧССР.А.Дубчек заявил о поощ-рении рыночных механизмов,о самоуправлении предприятий, перестройке внутри КПЧ.Но в руко-водстве партии его поддержали не все.Эта часть ру ководства обратилась за помощью к КПСС.В итоге в августе 1968 г.в ЧССР были введены войска ВД. Но этот шаг усилил раскол соцлаге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Кризис мирового социал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15760" y="1554120"/>
            <a:ext cx="20278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емонс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Пра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Июль 196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31640" y="3284280"/>
            <a:ext cx="7777080" cy="352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Албания вышла из ОВД,а Китай,Румыния,СФРЮ и Сев.Корея еще более отдалились от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скоре на свет появилась «Доктрина Брежнева»-она предусматривала усиление роли СССР и ограниче-ние суверенитета соцстран.Но это не решило проб-лем.В 1979 г. Вспыхнула война между Китаем и Вьетнамом, а в Польше в 1981 г.пришлось вводить военное положение для предотвращения прихода к власти лидеров профсоюза «Солидар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64920" y="1484280"/>
            <a:ext cx="13845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Танк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арша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616720" cy="3057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Кризис мирового социал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Еще быстрее развивался кризис мировой коммунис-тической системы. После «реабилитации» стали-низма от КПСС отошли компартии Италии и Фра-нции.Ввод войск в ЧССР углубил противоречия внутри коммунистического движения.В 1969 г.Бре-жнев созвал в Москве Международное совещание коммунистических и рабочих партий для поддерж-ки своего внешнеполитического курса, но цели не дост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КПСС и мировое коммунисти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1720" y="1484280"/>
            <a:ext cx="22395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емонстрация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итай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о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627440" y="558720"/>
            <a:ext cx="4337280" cy="3014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вод войск в Афганистан привел к серьезным проб-лемам у недавних союзников-компартий Западной Европы.Их ряды заметно сократились.Лидеры этих партий пытаясь спасти ситуацию начали дрей фовать в сторону социал-демократических ценнос-тей и убрали из программных установок положе-ния о диктатуре прлетариата,мировой революции, атеизме и др. и внесли пункту о свободе личности, правах человека, демократи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КПСС и мировое коммунисти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85080" y="1341360"/>
            <a:ext cx="232056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стре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уков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тран соцлаге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Крыму.197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558720"/>
            <a:ext cx="4680000" cy="3014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1.Характеристика международной обстанов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2.Отношения с Запад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3.Хельсинское Совещ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4.Региональные конфлик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5.Кризис мирового социализ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6.КПСС и мировое коммунистическое дви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4720" y="1052280"/>
            <a:ext cx="755964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99"/>
                </a:solidFill>
                <a:latin typeface="Monotype Corsiva"/>
              </a:rPr>
              <a:t>Выделите причины начала, сущность и  причины свертывания «Разрядки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сер.60-х гг.международ-ная обстановка осложни-лась. Война во Вьетнаме привела к обострению от ношений СССР и США. Идеологические споры с Китаем привели к терри ториальным претензиям с его стороны и в 1969 г. произошел вооружен-ный конфликт из-за о.До манский. Критика стали низма привела к конфли кту с Китаем,Кореей и Албанией,а его «реабили тация» к спорам с ком-партиями Западной Ев-ро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Характеристика международной обстан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73920" y="5675400"/>
            <a:ext cx="31798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итинг на АЗЛК про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ойны во Вьетна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476360" y="836640"/>
            <a:ext cx="3333600" cy="4113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 к.60-х гг.СССР смог добиться паритета с США в ракетно-ядерных вооружениях.Это подтолкнуло стороны к нормализации отношений.СССР считал, что это-проявление слабости со стороны Запада, а в США полагали, что режимы в социалистических странах способны держаться лишь в условиях жест кого противостояния и мирное сосуществование вызовет их па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Характеристика международной обстан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51640" y="1393920"/>
            <a:ext cx="291168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ежконтинент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кета на Кра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арад 7.11.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211640" y="546120"/>
            <a:ext cx="4753080" cy="3014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осток и Запад предприняли ряд шагов навстречу друг другу.1968 г.был подписан Договор о нерасп-ространении ядерного оружия.1969 г.-начало подго товки Общеевропейского Совещания по безопасно-сти и сотрудничеству в Европе. 1970 г. - договор СССР и ФРГ о нерушимости границ в Европе.1971 г.-Четырехстороннее соглашение по Западному Берлину. 1972 г.взаимное признание ФРГ и Г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Отношения с Запа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60840" y="1482840"/>
            <a:ext cx="19515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.Брежне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.Никсон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.Подго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427640" y="554040"/>
            <a:ext cx="4608360" cy="3019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68680" y="568440"/>
            <a:ext cx="4496040" cy="3076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мае 1972 г. Президент США Р.Никсон совершил официальный визит в Москву, во время которого были подписаны договоры о принципах взаимоот-ношений между 2-я странами, об ограничении сис-тем противоракетной обороны и об ограничении стратегических наступательных вооружений.В 1973 г.во время визита Л.Брежнева в США было подписано соглашение о предотвращении ядерн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Отношения с Запа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840" y="1628640"/>
            <a:ext cx="16117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.Брежне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Апогеем разрядки стало Хельсинское Совещание по безопасности и сотрудничеству в Европе летом 1975 г.В нем закреплялись принципы:невмешате-льства во внутренние дела др.стран,нерушимость границ,соблюдение основных прав и свобод челове ка и др.Но СССР самым важным считал,неруши-мость послевоенных границ, а Запад-соблюдение прав человека.В итоге усилилась его помощь дис-сидентам в странах Восточной Евро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Хельсинское Совещ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50040" y="1628640"/>
            <a:ext cx="20368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Зал засе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Б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00720" y="549360"/>
            <a:ext cx="4392360" cy="3002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скоре «разрядка» начала сходить на нет.Запад обви-нял СССР в нарушении прав человека,СССР на-чал размещать в Европе ракеты средней дальности в Европе,что привело к изменению соотношения сил.Летом 1979 г.был подписан Договор ОСВ-2,но он не был ратифицирован сенатом США.Ввод со-ветских войск в Афганистан,привел к окончатель-ному краху «эпохи довери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Хельсинское Совещ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50040" y="1628640"/>
            <a:ext cx="20368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Зал засе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Б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00720" y="549360"/>
            <a:ext cx="4392360" cy="3002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2-04T16:31:34Z</dcterms:modified>
  <cp:revision>73</cp:revision>
  <dc:subject/>
  <dc:title>Слайд 1</dc:title>
</cp:coreProperties>
</file>