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.jpeg" ContentType="image/jpeg"/>
  <Override PartName="/ppt/media/image3.png" ContentType="image/png"/>
  <Override PartName="/ppt/media/image1.jpeg" ContentType="image/jpeg"/>
  <Override PartName="/ppt/media/image4.gif" ContentType="image/gif"/>
  <Override PartName="/ppt/media/image6.jpeg" ContentType="image/jpeg"/>
  <Override PartName="/ppt/media/image11.jpeg" ContentType="image/jpeg"/>
  <Override PartName="/ppt/media/image14.jpeg" ContentType="image/jpeg"/>
  <Override PartName="/ppt/media/image5.gif" ContentType="image/gif"/>
  <Override PartName="/ppt/media/image9.png" ContentType="image/png"/>
  <Override PartName="/ppt/media/image7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5DC5-8521-4376-A343-3775BA334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03E4-4350-444A-9EC5-BDFC928E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573-2DC0-45F2-9310-B73D52702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E693-0FE2-4A41-B538-07745D789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AF91-ABA3-4F39-B7DF-978EE40DE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1752-E921-47A1-A4E2-B4474F4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AE91-E3AE-4642-AA84-4BC1BDEA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FF9A-8B28-44DD-A9F6-E373948A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435-6F31-478A-B44B-653B22C9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13DEF-5B2E-41AC-85D5-1B4C0B621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A65-822B-4FE9-ACBF-6D114E0BE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997D-39F7-4198-997A-C1682AFD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648A6-2A7A-4453-8D56-999EC09C43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849800" y="5868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9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6144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800080"/>
                </a:solidFill>
                <a:uFillTx/>
                <a:latin typeface="Times New Roman"/>
              </a:rPr>
              <a:t>Урок №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Боевые действия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весной-летом 1942 г.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 городах занятых врагом действовали подпольщи-ки.Н.Кузнецов уничтожил главного судью Украи-ны Функа,вице-губернатора Галиции Бауэра, по-хитил ген.Ильгена.Елена Мазаник взорвала Гене-рального комиссара Белоруссии Кубе.За годы вой ны 249 партизан стали Героями Советского Союза, а легендарные партизанские командиры С.Ковпак и А.Федоров были удостоены этого звания дваж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Партизан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84360" y="1393920"/>
            <a:ext cx="189360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Эшело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уще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од отк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ртизан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851280" y="568440"/>
            <a:ext cx="5041800" cy="2982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Летом 1941 г.Англия и США заявили о своей поддержке Советского Союза.В июле 1941 г. СССР и Великобрита-ния подписали соглаше ние о совместных дейс-твиях,а в августе США объявили об оказании нашей стране экономи-ческой и военно-техни-ческой помощи.В сен-тябре к этому соглаше-нию присоединилась Англия.1 января 1942 г. была образована анти-гитлеровская коалиция из 26 государ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5.Образование антигитлеровской коали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860120" y="5659560"/>
            <a:ext cx="267552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талин и Г.Хопкин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на переговора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 ленд-ли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606680" y="692280"/>
            <a:ext cx="3252600" cy="4797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3645000"/>
            <a:ext cx="7777080" cy="3168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ервый период Великой Отечественной войны про-должавшийся до сер.ноября 1942 г. показал, что СССР способен противостоять Германии.Такой удар не смогла бы выдержать ни одна страна.Му-жество и героизм советских воинов и тружеников тыла прервали череду побед германской армии.К лету 1942 г.советская экономика была переведена на военные рельсы,была создана Антигитлеровс-кая коалиция-все это создало предпосылки для на-чала коренного перелома в ходе вой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6.Итоги первого периода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98920" y="1557360"/>
            <a:ext cx="22014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Запишите ме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добровольцем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4645080" y="552600"/>
            <a:ext cx="4319640" cy="3020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1.Планы сторон в н.194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2.Немецкое наступление летом 1942 г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3.Оккупационный режи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4.Партизанское движени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5.Образование антигитлеровской коали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694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Monotype Corsiva"/>
              </a:rPr>
              <a:t>6.Итоги первого периода вой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Почему, несмотря на просчеты советского командования, Германии не удалось разгромить СССР в 1942 году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беда под Москвой поро-дила у Сталина иллю-зию о быстром разгроме немецких войск и он по-ставил задачу в 1942г.на- чать общее наступление. Против этого выступил Г.Жуков, но ставка под-держала главкома.Ста-лин думал,что немцы ве-сной –летом 1942 г.вновь начнут наступление на Москву.Германия в это время начала испыты-вать недостаток сырья и поэтому Гитлер решил наступать на Юге,а для дезинформации Сталина немцы провели опера-цию «Кремль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Планы сторон в н.19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98560" y="5819760"/>
            <a:ext cx="27302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Гитлер и Манштей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у кар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>
            <a:lum contrast="36000"/>
          </a:blip>
          <a:stretch/>
        </p:blipFill>
        <p:spPr>
          <a:xfrm>
            <a:off x="1476360" y="836640"/>
            <a:ext cx="3317760" cy="4524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есной 1942 г. Перевес по-прежнему был у немцев. Они начали наступление в Крыму и наконец смо-гли овладеть Севастопо-лем и Керченским полу-островом.В мае по ини-циативе С.Тимошенко советские войска начали наступление под Харько вом и даже смогли осво-бодить город. Но немцы перешли в котрнаступ-ление и окружив ряд ар- мий уничтожили 230тыс. советских солдат.Стра-тегическая инициатива возвратилась к Герма-нии и в к.июня немцы устремились на юго-вост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Немецкое наступление летом 19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32360" y="5516640"/>
            <a:ext cx="18374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емец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ступ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летом 1942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360600" cy="4183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Они вышли к Дону 24июля заняли Ростов-на-Дону. Сталин,чтобы спасти ситаацию подписывает приказ №227(«Ни шагу назад!»).В начале сентя-бря немцы подошли к Сталинграду и на окраи-нах города завязались уличные бои. Врагу уда-лось разрезать город на-двое выйдя к Волге в са-мом центре Сталингра-да, но постепенно их нас-тупательный потенциал иссяк и немцы сами пе-решли к оборо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Немецкое наступление летом 1942 г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33400" y="5675400"/>
            <a:ext cx="28432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Воронежский фрон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ежду бо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298680" cy="423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осени 1942 г. Германия заняла большую часть ев-ропейской территории СССР.На этих землях был установлен оккупационный режим.Немцы стреми-лись уничтожить единое государство, и превратить СССР в аграрно-сырьевой придаток  и источник рабочей силы для Третьего рейха.Вся полнота влас ти принадлежала военным,они создавали лагеря смерти, проводили массовые показательные казни, угоняли жителей на каторжные работы в Герма-н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ккупационный р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95800" y="1773360"/>
            <a:ext cx="217404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сстреля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ашист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4140360" y="563400"/>
            <a:ext cx="4679640" cy="29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331640" y="3573000"/>
            <a:ext cx="7777080" cy="3240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Все жители должны были работать на оккупантов по 14-16 часов в неделю.Немцы разработали план «Ост».По нему полному уничтожению подлежали евреи и коммунисты.Такая же судьба ожтдала 30 млн.русских, а остальные должны были стать ра-бами.Всего немцы уничтожили на оккупирован-ных территориях 11 млн.человек. Но достигнуть своих целей им не удалось-экономика на захвачен-ных землях так и не начала функционировать да-же в ограниченном объ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Оккупационный реж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69480" y="1643040"/>
            <a:ext cx="14410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Уз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фашиз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3924360" y="544680"/>
            <a:ext cx="4824360" cy="29397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31640" y="3429000"/>
            <a:ext cx="7777080" cy="338472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Зверства оккупантов привели к ответным действи-ям-население начало партизанскую войну. На ок-купированных территориях действовало 6 тыс. пар тизанских отрядов.Они уничтожили более 1 млн. фашистов,4 тыс танков,1100самолетов,20000 же-лезнодорожных эшелонов.Для координации их дей ствий в мае 1942 г.был образован Центральный штаб партизанского движения во главе с П.Поно-марен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Партизанское движ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587960" y="1197000"/>
            <a:ext cx="2225880" cy="161856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Ф.Мод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В Централь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штаб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артизанск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282920" y="546120"/>
            <a:ext cx="4321440" cy="2843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Чернов Алексей</cp:lastModifiedBy>
  <dcterms:modified xsi:type="dcterms:W3CDTF">2002-10-17T14:20:16Z</dcterms:modified>
  <cp:revision>56</cp:revision>
  <dc:subject/>
  <dc:title>Слайд 1</dc:title>
</cp:coreProperties>
</file>