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E6B-A48C-4239-8BAD-2E32B3EA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D5D-DFC3-42FF-A776-B8B5257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9F3-B9F3-49EB-AEDB-E8CD8000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713-6189-48BD-B1D8-DF434650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D82-F35F-4DA4-A09D-59A23974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197-6413-417D-9260-0CADF1C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5CA-DA12-4262-A155-5ACE370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2CE-106A-468D-B96E-8FA9855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FBF-3984-4C0A-9814-865533D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927-6B4A-42E6-A360-F63491C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52A-F4FC-4411-975B-43232FD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B83-CDE4-40F4-8428-57FAC90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CA3-C5D5-41FE-B43C-41A72332F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219320"/>
            <a:ext cx="59212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осси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Первой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мировой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ойн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458640"/>
            <a:ext cx="4752720" cy="29847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Восточной Пруссии русская армия под командова-нием ген.Самсонова взломала оборону врага.Гер-мания вынуждена была снять часть войск с Запад-ного фронта и вскоре нанесла контрудар.Самсонов не получив помощи от армии ген.Рененкапфа по-пал в окружение. Но зато союзники смогли разгро-мить немцев под Марной.В сентябре русские нача-ли наступление на Юго-Западном фронте.Таким образом «блицкриг» был сорв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чало боевых дейст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04680" y="1268280"/>
            <a:ext cx="1575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точ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ус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17960" y="476280"/>
            <a:ext cx="4191120" cy="633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1915 г.немцы решили сконцентрировать си лы на Востоке и в мае началось австро-гер-манское наступление. Русские войска были вытеснены из Гали-ции,Польши  и ряда районов Украины,Бе-лоруссии и Прибал-тики.Армия испыты-вала недостаток ору-жия,боепрпасов,медикаментов и  продово-ль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Ход войны в 1915-16 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0560" y="5661000"/>
            <a:ext cx="34160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еликое отступле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347840" y="981000"/>
            <a:ext cx="3368520" cy="4173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лдаты собирали винтовки убитых товари-щей.Тем не менее сопротивление врагу на-растало и вскоре стали говорить,о «великом отступлении», т.к. немецкие потери достиг-ли огромной цифры.Союзники помочь Рос-сии отказались,и остановить наступление неприятеля удалось лишь к началу ос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Ход войны в 1915-16 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7360" y="1228680"/>
            <a:ext cx="15127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т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ец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х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95640" y="554040"/>
            <a:ext cx="4824360" cy="2809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17960" y="476280"/>
            <a:ext cx="4191120" cy="633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16 г. Германия вновь нанесла удар по Франции Основные события раз-вернулись под Верденом. Это сражение продолжа-лось полгода.Франция обратилась за помощью к России и по решению Генштаба ген. Брусилов начал наступление на Юго-Западном Фронте.В результате «Брусиловс-кого прорыва русская ар мия продвинулась на 340 км,и немцам пришлось спасать союзников,сняв ряд частей из-под Верде-на.Но успех Брусилова не был поддержан на других фронтах и он отступ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Ход войны в 1915-16 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36040" y="5775480"/>
            <a:ext cx="330804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усиловский проры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32000" y="692280"/>
            <a:ext cx="3452760" cy="4282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1520" y="692280"/>
            <a:ext cx="1604880" cy="1798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тягивание войны с особой остротой поставило воп-рос о перестройке экономики  на военный лад.Эко-номический рост даже увеличился и Россия начала экспортировать оружие.В 1915 г. Для обеспечения поставок на фронт всего необходимого государство и буржуазия объединили усилия-в стране возник го сударственно-монополистический сектор экономи-ки в виде ОСО(особых совещаний),по топливу воо-ружению,продовольствию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Экономика в годы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94760" y="1052640"/>
            <a:ext cx="24271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съез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ышл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т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35280" y="561960"/>
            <a:ext cx="5292720" cy="27957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920" y="3429000"/>
            <a:ext cx="7850160" cy="33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них входили государственные чиновники, представители Думы и предприниматели.В стране начали возникать общественные ор-ганизации-Военно-промышленные комите-ты  и др.В результате их деятельности были разработаны новейшие образцы вооруже-ния-самолеты,броневики,пистолет-пулемет, самозарядная винтовк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Экономика в годы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5280" y="1301760"/>
            <a:ext cx="16696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О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р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37080" y="611280"/>
            <a:ext cx="5256000" cy="2719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850160" cy="345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ражения в кампании 1915 г. Изменили от-ношение к войне в обществе.Кадеты не веря в правительство выдвинули идею создания правительства «народного доверия».Вокруг этой идеи сплотились все политические си-лы,кроме крайне правых и левых и был соз-дан «Прогрессивный блок».В 1916 г. Милю-ков фактически обвинил правительство в изм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Революционная ситу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8600" y="1197000"/>
            <a:ext cx="24134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ессив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4920" y="571680"/>
            <a:ext cx="3960720" cy="2728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585720"/>
            <a:ext cx="4248000" cy="28432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15 г. Царь взял командование армией в свои руки и проводил много времени  в Ставке в Могилеве. Управление страной легло на императрицу, кото-рую в обществе  подозревали в измене.Кроме того она попала под влияние авантюриста Г.Распутина. Он получил возможность влиять на принятие ре-шений.Чтобы спасти авторитет монархии в выс-ших русского общества кругах возник загов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Революционная ситу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90520" y="1341360"/>
            <a:ext cx="15768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т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фро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4487760" cy="2835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920" y="3357720"/>
            <a:ext cx="7850160" cy="3456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декабре 1916 г.Распутин был убит В.Пуришкевичем и Ф.Юсупов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годы войны жизнь населения ухудшилась.Возникли перебои со снабжением городов продовольствием, началась инфляция.Борясь с этим правительство объявило о введении продовольственной разверст-ки,но ситуация на изменилась.В городах начались стачки,которые проходили не только под экономи-ческими,но и под политическими лозунг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Революционная ситу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34560" y="1341360"/>
            <a:ext cx="19044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.Распу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Начало войн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Война и русское общест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Начало боевых действ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Ход войны в 1915-16 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.Экономика в годы вой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.Революционная ситу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Что повлияло на изменение отношения русского общества к 1-й мировой войне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03280" y="475920"/>
            <a:ext cx="4140360" cy="6381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тиворечия между Антантой и Тройст-венным Союзом при-вели к началу 1 миро вой войны.28 июня 1914 г в Сараево Гав-риил Принцип заст-релил наследника ав-стрийского престола Франца-Фердинан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коре Австрия под да-влением Германии предъявила Сербии ультимату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Начало вой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9760" y="5734080"/>
            <a:ext cx="30747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нди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ранца-Фердин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55840" y="782640"/>
            <a:ext cx="3332160" cy="4591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58560" y="3499920"/>
            <a:ext cx="7885080" cy="3357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8 июля началась австро-сербская война.Николай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сле долгих колебаний объявил всеобщую мобили-зацию, и в ответ 1 августа Германия объявила вой-ну России.В войну было вовлечено 38 государств с населением в 1,5 млрд.Все они преследовали агрес-сивные цели, но основная ответственность легла ,на Германию, стремившуюся разгромить Францию и Россию и завладеть английскими и французскими коло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Начало вой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2760" y="1228680"/>
            <a:ext cx="1616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аври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ц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32360" y="506520"/>
            <a:ext cx="3672000" cy="29224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чало войны вызвало в России взрыв патри-отизма.В крупных городах прошли антигер-манские манифестации и погромы. Санкт-Петербург был переименован в Петроград. Уже в 1-е дни на мобилизационные пункты явились почти все военнообязанные. Жен-щины добровольно работали санитар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Война и русское об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6600" y="1341360"/>
            <a:ext cx="2736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евс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 объя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й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500040"/>
            <a:ext cx="4176720" cy="2919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Война и русское об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88120" y="1197000"/>
            <a:ext cx="19501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в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ут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8920" y="3357720"/>
            <a:ext cx="7850160" cy="345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ума приняла решение о поддержке правительства в войне, но среди левых единства не было.Часть от-носилась к патриотам,2-я группа объявила себя па-цифистами, а большевики,считая войну империа-листической,заняли пораженческую позицию,при-зывая повернуть штыки против правительств на-чавших мировую бойню.Дума осудила их позицию. Большевистская фракция была лишена депутатс-кой неприкосновенности и отдана под су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56000" y="530280"/>
            <a:ext cx="4392720" cy="2738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331640" y="3213000"/>
            <a:ext cx="7777080" cy="360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мецкий план войны базировался на идее «блицкрига».Немцы развертывали свою ар мию за 17 дней, а Россия-за 40.Поэтому Гер- мания хотела вначале разгромить Фран-цию,а затем перебросить свои войска на Вос ток и взять верх над Россией.Россия конк-ретного плана не имела.Верховным главно-командующим стал дядя царя -  великий князь Николай Николаеви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чало боевых дейст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0400" y="1197000"/>
            <a:ext cx="15645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рм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27640" y="453960"/>
            <a:ext cx="4392360" cy="2720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3213000"/>
            <a:ext cx="7777080" cy="360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августе 1914 немцы начали наступление на Западе.Обойдя линию укреплений на фран- ко-германской границе они нанесли удар че рез территорию Бельгии,и поставили Фран-цию в тяжелое положение.На р.Марна на-чалась тяжелая битва.Французы обрати-лись к России за помощью,прося начать наступление на Восточном Фрон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чало боевых дейст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3040" y="1085760"/>
            <a:ext cx="19378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а уби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ранц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р.Мар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211640" y="425520"/>
            <a:ext cx="4608360" cy="27590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12T15:43:44Z</dcterms:modified>
  <cp:revision>68</cp:revision>
  <dc:subject/>
  <dc:title>Презентация PowerPoint</dc:title>
</cp:coreProperties>
</file>