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C8C-2A5B-49E5-BD7E-CC0F7605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645-A1A4-4542-ABB3-A5F0B13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E3B-9EB6-49FB-8C10-45E70A5C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52F-5D15-425D-9B75-387DCBD1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B9C7-DCCB-4817-B109-113A1C0A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27E1-27FB-4646-BC59-3A48688B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701-8DE1-4214-B5EF-9C59524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0620-0625-4C54-B357-F121DBC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A2B-EA99-4B60-9446-BF15832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E961-71E5-4D51-A83F-1C0199B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BB6-D001-435F-B46B-8CA6B3B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65A-6C1E-4995-B2E8-40B5E6FC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9572-B07C-45B2-AAF4-A4844BF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EF8-14D5-4D28-8592-FBB61DE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ACB5-352C-4F57-BBC9-2E55E16D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839-860B-4815-83B5-4A055E9A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1EAF-2A63-4157-85A7-D9F65E77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7847-7EAE-4652-ADC0-03084458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CDB8-74B3-4CBB-805A-1801635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F53B-0236-42BF-9B4C-C47566D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C4C2-6A0E-4951-8B72-A60B4244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FC46-67DE-406E-9FF3-6F8DFFD5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663-1B0C-4FBA-8513-A83245C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3C43-38B7-491C-909E-EA35DF42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5640-297B-40F6-AECD-919CDBA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8714-590F-48B8-A056-91C7C76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F9E5-9114-4E68-A377-E863399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4A63-0857-4045-BDC4-FE2A41C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9BCA-33AB-4D79-BC2B-D577DB6B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305C-90C1-466B-B675-E91B175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FAE2-8F3F-4B82-9258-B9C56FDB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E4EA-091F-4067-A2AC-4CD6E0E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4436-D287-4267-AF4A-1B6ADF56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B10-6ACE-4930-A490-B7BD2F2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37B8-E106-4873-BDB4-2521BFE0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B416-B150-4141-BBB9-4AE5A69B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1155-1C26-47C9-8045-7BEE28E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EE75-4050-4714-8210-CA1CCD13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1F88-F3B0-44A5-9032-C1B1310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8E97-B47B-442F-9765-A568031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C844-6421-4962-9B3C-138561FD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9A87-2044-40EF-AA99-08D7F8B9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3720-6412-4547-ACCA-74AF9702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33C-D4F9-4693-81F8-8C0F180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5CA-5C1F-4557-B609-C22DF618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BB2-9B7E-416F-B012-D1C8709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9B5-42D8-40E9-A4F8-CD7157C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473-18F8-477A-96E5-5860D38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49B9-90C8-41CA-9B94-55EB2B904A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582F-B3B3-48A0-8A64-5F81AE17E2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ADE-169E-4631-8DF4-6AFEC4A399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F8B-25C2-4C3F-9CB5-24D9A7C7BB4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5"/>
          <p:cNvSpPr/>
          <p:nvPr/>
        </p:nvSpPr>
        <p:spPr>
          <a:xfrm>
            <a:off x="1000080" y="71424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 19 им.Н.З.Поповичевой г.Липец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2151000" y="2500200"/>
            <a:ext cx="5052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геометрии в 8 класс по тем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ощадь многоугольник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857920" y="430560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кова Ольга Георги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66"/>
                </a:solidFill>
                <a:latin typeface="Arial"/>
              </a:rPr>
              <a:t>Свойства площадей</a:t>
            </a:r>
            <a:endParaRPr b="1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Georgia"/>
              </a:rPr>
              <a:t>Равные многоугольники имеют равные площа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Georgia"/>
              </a:rPr>
              <a:t>Если многоугольник состоит из нескольких многоугольников, то его площадь равна сумме площадей этих многоуголь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Georgia"/>
              </a:rPr>
              <a:t>Площадь квадрата равна квадрату его стор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0"/>
          <p:cNvSpPr/>
          <p:nvPr/>
        </p:nvSpPr>
        <p:spPr>
          <a:xfrm>
            <a:off x="136440" y="428760"/>
            <a:ext cx="11638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187280" y="549360"/>
            <a:ext cx="2448000" cy="1297080"/>
          </a:xfrm>
          <a:prstGeom prst="parallelogram">
            <a:avLst>
              <a:gd name="adj" fmla="val 4718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4"/>
          <p:cNvSpPr/>
          <p:nvPr/>
        </p:nvSpPr>
        <p:spPr>
          <a:xfrm flipV="1">
            <a:off x="1187280" y="549360"/>
            <a:ext cx="2448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81680" y="159696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915120" y="22860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02640" y="21276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2799360" y="158112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728520" y="212760"/>
            <a:ext cx="51858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АВСД – паралле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136080" y="2228760"/>
            <a:ext cx="11642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547640" y="2637000"/>
            <a:ext cx="172908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1547640" y="2637000"/>
            <a:ext cx="352908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154764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775440" y="342900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775440" y="220500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2726280" y="215748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2944080" y="338148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2511720" y="273204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4518720" y="2205000"/>
            <a:ext cx="10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3203640" y="28526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3203640" y="34290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33"/>
          <p:cNvSpPr/>
          <p:nvPr/>
        </p:nvSpPr>
        <p:spPr>
          <a:xfrm>
            <a:off x="5292720" y="2349360"/>
            <a:ext cx="38512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АВСД – прям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Q, 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=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174240" y="4116240"/>
            <a:ext cx="11642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1476360" y="458136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1476360" y="4581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37"/>
          <p:cNvSpPr/>
          <p:nvPr/>
        </p:nvSpPr>
        <p:spPr>
          <a:xfrm>
            <a:off x="2627280" y="4581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38"/>
          <p:cNvSpPr/>
          <p:nvPr/>
        </p:nvSpPr>
        <p:spPr>
          <a:xfrm>
            <a:off x="1476360" y="566100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2627280" y="49417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41"/>
          <p:cNvSpPr/>
          <p:nvPr/>
        </p:nvSpPr>
        <p:spPr>
          <a:xfrm flipV="1">
            <a:off x="3419640" y="4941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697680" y="534204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43"/>
          <p:cNvSpPr/>
          <p:nvPr/>
        </p:nvSpPr>
        <p:spPr>
          <a:xfrm>
            <a:off x="697680" y="426096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44"/>
          <p:cNvSpPr/>
          <p:nvPr/>
        </p:nvSpPr>
        <p:spPr>
          <a:xfrm>
            <a:off x="2294640" y="424512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45"/>
          <p:cNvSpPr/>
          <p:nvPr/>
        </p:nvSpPr>
        <p:spPr>
          <a:xfrm>
            <a:off x="2195640" y="486900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46"/>
          <p:cNvSpPr/>
          <p:nvPr/>
        </p:nvSpPr>
        <p:spPr>
          <a:xfrm>
            <a:off x="3086280" y="460548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47"/>
          <p:cNvSpPr/>
          <p:nvPr/>
        </p:nvSpPr>
        <p:spPr>
          <a:xfrm>
            <a:off x="3086640" y="5324400"/>
            <a:ext cx="10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3924360" y="4149720"/>
            <a:ext cx="4572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АВ=ВС=3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=5, EF=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АВ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49"/>
          <p:cNvSpPr/>
          <p:nvPr/>
        </p:nvSpPr>
        <p:spPr>
          <a:xfrm>
            <a:off x="1476360" y="4581360"/>
            <a:ext cx="142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0"/>
          <p:cNvSpPr/>
          <p:nvPr/>
        </p:nvSpPr>
        <p:spPr>
          <a:xfrm>
            <a:off x="1476360" y="551664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3"/>
          <p:cNvSpPr/>
          <p:nvPr/>
        </p:nvSpPr>
        <p:spPr>
          <a:xfrm>
            <a:off x="2484360" y="4581360"/>
            <a:ext cx="142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4"/>
          <p:cNvSpPr/>
          <p:nvPr/>
        </p:nvSpPr>
        <p:spPr>
          <a:xfrm>
            <a:off x="2627280" y="479736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55"/>
          <p:cNvSpPr/>
          <p:nvPr/>
        </p:nvSpPr>
        <p:spPr>
          <a:xfrm>
            <a:off x="3276720" y="4941720"/>
            <a:ext cx="142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56"/>
          <p:cNvSpPr/>
          <p:nvPr/>
        </p:nvSpPr>
        <p:spPr>
          <a:xfrm>
            <a:off x="3276720" y="551664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57"/>
          <p:cNvSpPr/>
          <p:nvPr/>
        </p:nvSpPr>
        <p:spPr>
          <a:xfrm>
            <a:off x="1403280" y="51577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58"/>
          <p:cNvSpPr/>
          <p:nvPr/>
        </p:nvSpPr>
        <p:spPr>
          <a:xfrm>
            <a:off x="2050920" y="4508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7080" y="333360"/>
            <a:ext cx="116388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39840" y="27612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042920" y="333360"/>
            <a:ext cx="85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квадрат, площадь которого выражается числом 4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26720" y="3357720"/>
            <a:ext cx="11642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042920" y="3284640"/>
            <a:ext cx="835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площадь квадрата, а – сторона квадрата. Найдите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87280" y="4292640"/>
          <a:ext cx="6624720" cy="1736640"/>
        </p:xfrm>
        <a:graphic>
          <a:graphicData uri="http://schemas.openxmlformats.org/drawingml/2006/table">
            <a:tbl>
              <a:tblPr/>
              <a:tblGrid>
                <a:gridCol w="1325880"/>
                <a:gridCol w="1323720"/>
                <a:gridCol w="1325520"/>
                <a:gridCol w="1324080"/>
                <a:gridCol w="1325520"/>
              </a:tblGrid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6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⅔</a:t>
                      </a:r>
                      <a:endParaRPr b="0" lang="en-US" sz="5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6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6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6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4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6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27"/>
          <p:cNvSpPr/>
          <p:nvPr/>
        </p:nvSpPr>
        <p:spPr>
          <a:xfrm>
            <a:off x="395280" y="1197000"/>
            <a:ext cx="81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прямоугольник, отличный от квадрата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щадь которого выражается числом 4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468360" y="21337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треугольник, площадь котор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жается числом 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84360" y="5634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ahoma"/>
              </a:rPr>
              <a:t>Домашне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ahoma"/>
              </a:rPr>
              <a:t>задание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. 48, 49*(самост.), вопр. 1,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№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48, 449(а,б),450 (а,б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казать, что египетская формула S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a+c)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b+d)/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для вычисления площади четырехугольника верна для прямоугольника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932360" y="3068640"/>
            <a:ext cx="230364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4692240" y="3236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939640" y="2781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7222320" y="32367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5992200" y="3741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4932360" y="3068640"/>
            <a:ext cx="230364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4692240" y="3236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7222320" y="32367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21" descr="котёнок"/>
          <p:cNvPicPr/>
          <p:nvPr/>
        </p:nvPicPr>
        <p:blipFill>
          <a:blip r:embed="rId1"/>
          <a:stretch/>
        </p:blipFill>
        <p:spPr>
          <a:xfrm>
            <a:off x="971640" y="4187880"/>
            <a:ext cx="3456000" cy="1689120"/>
          </a:xfrm>
          <a:prstGeom prst="rect">
            <a:avLst/>
          </a:prstGeom>
          <a:ln w="0">
            <a:noFill/>
          </a:ln>
        </p:spPr>
      </p:pic>
      <p:sp>
        <p:nvSpPr>
          <p:cNvPr id="290" name="Line 22"/>
          <p:cNvSpPr/>
          <p:nvPr/>
        </p:nvSpPr>
        <p:spPr>
          <a:xfrm>
            <a:off x="4859280" y="4941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23"/>
          <p:cNvSpPr/>
          <p:nvPr/>
        </p:nvSpPr>
        <p:spPr>
          <a:xfrm>
            <a:off x="7308720" y="4508640"/>
            <a:ext cx="358920" cy="3585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24"/>
          <p:cNvSpPr/>
          <p:nvPr/>
        </p:nvSpPr>
        <p:spPr>
          <a:xfrm>
            <a:off x="7380360" y="4292640"/>
            <a:ext cx="216000" cy="216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4717800" y="4941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7669080" y="4941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3"/>
          <p:cNvSpPr/>
          <p:nvPr/>
        </p:nvSpPr>
        <p:spPr>
          <a:xfrm>
            <a:off x="642960" y="357120"/>
            <a:ext cx="79135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Используемая литера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1. Атанасян Л.С. Геометрия 7 – 9. Учебник для 7 – 9 классов средней школы. М., «Просвещение»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2. Юшкевича Ю.П. История математики с древнейших времён до начала XIXстолетия, М., «Наука», 197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50c04"/>
                </a:solidFill>
                <a:latin typeface="Times New Roman"/>
                <a:ea typeface="Times New Roman"/>
              </a:rPr>
              <a:t>1.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http://images.yandex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684360" y="549360"/>
            <a:ext cx="1439640" cy="1655640"/>
          </a:xfrm>
          <a:prstGeom prst="triangle">
            <a:avLst>
              <a:gd name="adj" fmla="val 2679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059280" y="765000"/>
            <a:ext cx="2592360" cy="1224000"/>
          </a:xfrm>
          <a:prstGeom prst="parallelogram">
            <a:avLst>
              <a:gd name="adj" fmla="val 5294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443640" y="981000"/>
            <a:ext cx="201600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971640" y="3068640"/>
            <a:ext cx="1439640" cy="2160720"/>
          </a:xfrm>
          <a:prstGeom prst="diamond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348000" y="3645000"/>
            <a:ext cx="1655640" cy="143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9"/>
          <p:cNvSpPr/>
          <p:nvPr/>
        </p:nvSpPr>
        <p:spPr>
          <a:xfrm flipV="1">
            <a:off x="5867280" y="3716280"/>
            <a:ext cx="2305080" cy="1152720"/>
          </a:xfrm>
          <a:custGeom>
            <a:avLst/>
            <a:gdLst>
              <a:gd name="textAreaLeft" fmla="*/ 480240 w 2305080"/>
              <a:gd name="textAreaRight" fmla="*/ 1824840 w 2305080"/>
              <a:gd name="textAreaTop" fmla="*/ 240120 h 1152720"/>
              <a:gd name="textAreaBottom" fmla="*/ 9126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Многоуголники"/>
          <p:cNvPicPr/>
          <p:nvPr/>
        </p:nvPicPr>
        <p:blipFill>
          <a:blip r:embed="rId1"/>
          <a:stretch/>
        </p:blipFill>
        <p:spPr>
          <a:xfrm>
            <a:off x="1835280" y="620640"/>
            <a:ext cx="6913440" cy="528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097080" cy="1967040"/>
          </a:xfrm>
          <a:prstGeom prst="rect">
            <a:avLst/>
          </a:prstGeom>
          <a:ln w="0">
            <a:noFill/>
          </a:ln>
        </p:spPr>
      </p:pic>
      <p:sp>
        <p:nvSpPr>
          <p:cNvPr id="192" name="WordArt 9"/>
          <p:cNvSpPr txBox="1"/>
          <p:nvPr/>
        </p:nvSpPr>
        <p:spPr>
          <a:xfrm>
            <a:off x="900000" y="1844640"/>
            <a:ext cx="7128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ощад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ногоугольни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img060"/>
          <p:cNvPicPr/>
          <p:nvPr/>
        </p:nvPicPr>
        <p:blipFill>
          <a:blip r:embed="rId1"/>
          <a:stretch/>
        </p:blipFill>
        <p:spPr>
          <a:xfrm>
            <a:off x="1403280" y="944640"/>
            <a:ext cx="7345440" cy="517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СФИНКС"/>
          <p:cNvPicPr/>
          <p:nvPr/>
        </p:nvPicPr>
        <p:blipFill>
          <a:blip r:embed="rId2"/>
          <a:stretch/>
        </p:blipFill>
        <p:spPr>
          <a:xfrm>
            <a:off x="395280" y="260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RTN006"/>
          <p:cNvPicPr/>
          <p:nvPr/>
        </p:nvPicPr>
        <p:blipFill>
          <a:blip r:embed="rId3"/>
          <a:stretch/>
        </p:blipFill>
        <p:spPr>
          <a:xfrm>
            <a:off x="324000" y="4076640"/>
            <a:ext cx="1157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4"/>
          <p:cNvSpPr/>
          <p:nvPr/>
        </p:nvSpPr>
        <p:spPr>
          <a:xfrm>
            <a:off x="1332000" y="3573360"/>
            <a:ext cx="201600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788000" y="1916280"/>
            <a:ext cx="1944720" cy="1728720"/>
          </a:xfrm>
          <a:prstGeom prst="rect">
            <a:avLst/>
          </a:prstGeom>
          <a:solidFill>
            <a:srgbClr val="ffff99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м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421640" y="3716280"/>
            <a:ext cx="17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4"/>
          <p:cNvGraphicFramePr/>
          <p:nvPr/>
        </p:nvGraphicFramePr>
        <p:xfrm>
          <a:off x="2556000" y="1484280"/>
          <a:ext cx="396072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484280"/>
                    <a:ext cx="3960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7"/>
          <p:cNvSpPr/>
          <p:nvPr/>
        </p:nvSpPr>
        <p:spPr>
          <a:xfrm rot="10800000">
            <a:off x="1763640" y="2491920"/>
            <a:ext cx="2448000" cy="2016360"/>
          </a:xfrm>
          <a:prstGeom prst="hexagon">
            <a:avLst>
              <a:gd name="adj" fmla="val 30352"/>
              <a:gd name="vf" fmla="val 115470"/>
            </a:avLst>
          </a:pr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9"/>
          <p:cNvSpPr/>
          <p:nvPr/>
        </p:nvSpPr>
        <p:spPr>
          <a:xfrm rot="16200000">
            <a:off x="5452920" y="2403360"/>
            <a:ext cx="2341440" cy="2087640"/>
          </a:xfrm>
          <a:prstGeom prst="hexagon">
            <a:avLst>
              <a:gd name="adj" fmla="val 28039"/>
              <a:gd name="vf" fmla="val 115470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258920" y="4797360"/>
            <a:ext cx="68104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97160" y="3141720"/>
            <a:ext cx="12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755640" y="620640"/>
            <a:ext cx="797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 Равные многоугольники имеют равные площади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7022160" y="47973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7623720" y="4724280"/>
            <a:ext cx="93204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Georgia"/>
              </a:rPr>
              <a:t>2. Если многоугольник состоит из нескольких многоугольников, то его площадь равна сумме площадей этих многоуголь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619280" y="2708280"/>
            <a:ext cx="2881440" cy="2160720"/>
          </a:xfrm>
          <a:prstGeom prst="pentagon">
            <a:avLst/>
          </a:pr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6"/>
          <p:cNvSpPr/>
          <p:nvPr/>
        </p:nvSpPr>
        <p:spPr>
          <a:xfrm flipV="1">
            <a:off x="2195640" y="2708280"/>
            <a:ext cx="863640" cy="21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7"/>
          <p:cNvSpPr/>
          <p:nvPr/>
        </p:nvSpPr>
        <p:spPr>
          <a:xfrm flipV="1">
            <a:off x="2195640" y="3573000"/>
            <a:ext cx="2305080" cy="129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575360" y="3284640"/>
            <a:ext cx="12448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2726640" y="3284640"/>
            <a:ext cx="12448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898000" y="4221000"/>
            <a:ext cx="12448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482120" y="4668840"/>
            <a:ext cx="114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833040" y="3228840"/>
            <a:ext cx="114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2777760" y="2220840"/>
            <a:ext cx="114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230720" y="3141720"/>
            <a:ext cx="11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654000" y="4581360"/>
            <a:ext cx="112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1835280" y="5127480"/>
            <a:ext cx="3504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4395600" y="5143680"/>
            <a:ext cx="3115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684360" y="692280"/>
            <a:ext cx="777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. Площадь квадрата равна квадрату его стороны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258920" y="2565360"/>
            <a:ext cx="230508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5076720" y="3068640"/>
            <a:ext cx="158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к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783080" y="4437000"/>
            <a:ext cx="11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602040" y="2997360"/>
            <a:ext cx="67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0:24:19Z</dcterms:created>
  <dc:creator>Маликова Ольга Г.</dc:creator>
  <dc:description/>
  <dc:language>en-US</dc:language>
  <cp:lastModifiedBy>Ольга</cp:lastModifiedBy>
  <dcterms:modified xsi:type="dcterms:W3CDTF">2013-02-04T19:41:16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