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C9D-D710-4192-A6B5-64F6E85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CAF-6621-4327-ACC9-42F19E8A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F95-0EE0-4C20-92A9-01FB959A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32D-9219-47FA-93C6-02D5D143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6ECC-8E8D-42E3-BDD9-C967BE6B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60B4-BF2B-4AE7-95F3-9526AD3E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62D-55C1-4CBA-B0AB-1C4B931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0DF-E97A-4599-8CD9-75FA04C6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2B56-86CD-4F21-A865-BD6B242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31A9-D635-484C-A3CE-F388867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C856-2154-4D13-96A2-B307C53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C44-0323-445C-9D5B-49196F0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AF58-64C1-496D-86F4-62E74F5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3C8-C3D0-49A4-912A-C3A14A6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553B-102B-45D2-BA1C-C249BF2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F23D-2CCE-4E81-836E-6CA89681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A0DF-D9C4-4900-ABA1-6F830FB7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6C6C-CB75-46A7-8EFF-B7AD1CB1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69BB7-5FD2-4832-8F62-F606F7C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E475-6427-4B49-BF94-EF9DE931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011C-6644-4D26-ADCA-DABD5B1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9361-6F1D-4AFA-81CF-A19B0F4E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63C-3112-4F3B-825C-A91D94F5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F6F1-1D83-41C3-BB33-44A9599C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A2B0-2954-4934-B351-8E1A030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C51B-70C5-41AB-961E-DE1A154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114B-7420-4CB8-9450-345CA6A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059B-59A6-4F6B-AED0-9F204A9C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E515-10AC-47DD-8AB4-88E1AEA6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D30A-FF07-4A42-A92F-EEF2A43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3CF-6D1A-4D72-AB0A-813428D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B9A-F91E-4155-817A-7B58D5C1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249-1B19-43A6-8217-C1B8B64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7F4-2078-4EC3-A870-77A4D6BA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D15-3A53-44A6-A13A-B96F90B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F23-04AF-4B0C-9E92-82298CDD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63C-C82E-4104-9E92-74C1968B41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E172-3B2F-4108-81F8-DECC88250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379-0703-4A5E-97C5-5A80831B0D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сследовательская работа учащихся 10 класса по информатике на тему «Кредитный калькулятор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ыполнили: Дорожкин И., Умеренко 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Руководитель: Дикалов Д.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нас в школе есть предмет «Информатика». В курсе данного предмета мы изучаем раздел  - Электронные таблицы в форма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как часто это бывает, мы недооцениваем уникальность этого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же электронные таблицы могут помочь современной молодой российской семье? В чем их актуальнос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worker_place_displey"/>
          <p:cNvPicPr/>
          <p:nvPr/>
        </p:nvPicPr>
        <p:blipFill>
          <a:blip r:embed="rId1"/>
          <a:stretch/>
        </p:blipFill>
        <p:spPr>
          <a:xfrm>
            <a:off x="4140360" y="3860640"/>
            <a:ext cx="3600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, в электронных таблица очень легко подсчитать проценты, переплаты по кредиту, остаток долга и т.п. Для этого нужно знать, каким образом считаются ежемесячные плат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8893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нуитетные плат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нуите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р.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nnuité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nnu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годовой, ежегодный)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ая р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щий термин, описывающий график погашения финансового инструмента (выплаты вознаграждения или уплаты части основного долга и процентов по нему), когда выплаты устанавливаются периодически равными суммами через равные промежутки времени. Аннуитетный график отличается от такого графика погашения, при котором выплата всей причитающейся суммы происходит в конце срока действия инструмента, или графика, при котором на периодической основе выплачиваются только проценты, а вся сумма основного долга подлежит к оплате в ко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ула расчёта аннуитетных платежей: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П = СК ( ПС / 1-(1+ПС) –КП 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аннуитетный платеж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 процентная ставка за период начисления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ая сумма креди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период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.е. если платежи ежемесячные, то КП – срок в месяцах, а ПС месячная процентная ставка (1/12 год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казывают наши исследования, данная формула применяется в большинстве банков наше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Рисунок1"/>
          <p:cNvPicPr/>
          <p:nvPr/>
        </p:nvPicPr>
        <p:blipFill>
          <a:blip r:embed="rId1"/>
          <a:stretch/>
        </p:blipFill>
        <p:spPr>
          <a:xfrm>
            <a:off x="1042920" y="108000"/>
            <a:ext cx="705816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фференцированные плате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ифференцированные плат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начале срока кредитования больше, а затем постепенно уменьшаются, т.е. регулярные платежи по кредиту не равны между собой. Структура дифференцированного платежа состоит из двух частей: фиксированной на весь период суммы, идущей на погашение суммы задолженности, и убывающей части — процентов по кредиту, которая рассчитывается от суммы остатка заложенности по кредиту. Из-за постоянного уменьшения суммы долга уменьшается и размер процентных выплат, а с ними и ежемесячный плате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вычислить сумму возврата основного долга, необходимо первоначальную сумму кредита разделить на срок кредита (количество периодов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           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Д = СК / К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— возврат основного долга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— первоначальная сумма кредита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П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— количество пери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ше, как показывают наши исследования, начинаются различия: основных подходов два, разница — в используемой временной баз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ь банков исходят из того, ч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в году 12 месяцев»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огда размер ежемесячных процентных выплат определяется по формул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П = ОК * ( ПС / 12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начисленные проценты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остаток кредита в данном месяце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С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— годовая процентная став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нная формула используется большинством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ь банков исходит из того, ч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в году 365 дней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Размер ежемесячных процентных выплат в данном случае определяется по формуле: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П = ОК * ПС * ( ЧДМ / 36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начисленные проценты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остаток кредита в данном месяце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годовая процентная ставка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Д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— число дней в меся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Объект 5" descr=""/>
          <p:cNvPicPr/>
          <p:nvPr/>
        </p:nvPicPr>
        <p:blipFill>
          <a:blip r:embed="rId1"/>
          <a:stretch/>
        </p:blipFill>
        <p:spPr>
          <a:xfrm>
            <a:off x="179280" y="168120"/>
            <a:ext cx="871380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исследовательск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нашей исследовательской работы – научиться с помощью электронных таблиц вычислять размеры ежемесячных платежей, переплаты по процентам и т.д. двух видов платежей (аннуитетных и дифференцированных),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ыла достигнут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примеры будут приведены ниж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Образован не тот, кто много знает, а тот, кто хочет много знать, и умеет добывать эти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. Вахт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ng19"/>
          <p:cNvPicPr/>
          <p:nvPr/>
        </p:nvPicPr>
        <p:blipFill>
          <a:blip r:embed="rId1"/>
          <a:stretch/>
        </p:blipFill>
        <p:spPr>
          <a:xfrm>
            <a:off x="874800" y="620640"/>
            <a:ext cx="732780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8"/>
          <p:cNvSpPr txBox="1"/>
          <p:nvPr/>
        </p:nvSpPr>
        <p:spPr>
          <a:xfrm>
            <a:off x="431640" y="3357720"/>
            <a:ext cx="79916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– работа, связанная с решением творческой, исследовательской задачи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с заранее неизвестным результатом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одна из форм человеческой деятельности, в основе которой лежат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нтерес и любознательност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активное отношение к окружающему миру с целью его изменения и преобразовани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учное исследова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целенаправленное познание, результаты которого выступают в виде системы понятий, законов, теорий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 исследовательский проект имее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 – решение практических задач, поставленных заказчиком. Проектным продуктом могут стать учебные пособия, макеты и модели, инструкции, памятки, рекомендации и т.п. Такой продукт имеет реальные потребительские свойства – он способен удовлетворить насущную потребность конкретного заказчика, группы лиц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5986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итогам 2012 года банки выдали россиянам 690,7 тысячи ипотечных кредитов на общую су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ллиардов рублей. И большинство из них молодые люди в возрас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 – 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диты берут практически на любые цели: приобретение жилья, автомобиля, имущества, лечения, образования.  Сначала конечно все рады, что у них что-то получилось купить, но…. радость проходит через несколько меся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олженность россиян перед банками на конец 2012 года составляет око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лрд.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920077141"/>
          <p:cNvPicPr/>
          <p:nvPr/>
        </p:nvPicPr>
        <p:blipFill>
          <a:blip r:embed="rId1"/>
          <a:stretch/>
        </p:blipFill>
        <p:spPr>
          <a:xfrm>
            <a:off x="6443640" y="404640"/>
            <a:ext cx="2700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задолженности баналь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нание и непонимание способов начисления процентов бан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оценка своих финансовых возмож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верное планирование семейного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692360" y="3789360"/>
            <a:ext cx="43923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% % 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месячный платеж не должен превышать 20 – 25 % семейного бюд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492360" y="1844640"/>
          <a:ext cx="5472360" cy="39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547236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д тем как взять кредит, попробовать откладывать данные 20 – 25% в месяц (метод «пробы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ирать кредит с меньшим сроком, нежели с меньшим процентом годо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лучше взять кредит на 4 года, а не на 5, чем вместо 15% годовых взять 1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18:11Z</dcterms:created>
  <dc:creator>User</dc:creator>
  <dc:description/>
  <dc:language>en-US</dc:language>
  <cp:lastModifiedBy>User</cp:lastModifiedBy>
  <cp:lastPrinted>2013-04-08T06:05:04Z</cp:lastPrinted>
  <dcterms:modified xsi:type="dcterms:W3CDTF">2013-04-11T09:08:48Z</dcterms:modified>
  <cp:revision>14</cp:revision>
  <dc:subject/>
  <dc:title>Исследовательская работа учащихся 10 класса по информатике на тему «Кредитный калькулятор»</dc:title>
</cp:coreProperties>
</file>