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C9E-35BE-4AC9-A30D-C4ACAFA1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3DB-DB3E-4CB8-8002-6BABDE6D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CFB-DE7C-4D7F-AF10-11394891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E4A-AAF8-4FE2-8C25-7E8FB7F1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695E-E535-4E9F-8A28-9DC39B34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9D64-8936-4591-B57C-B3EC5D70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E87D-350C-406E-9836-EF65C827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7662-AE3A-4593-8027-59465C88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7C49-9B59-4F6F-846A-180E31DE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8598-CDE8-4B13-BA0E-B01A186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2218-060D-47AB-8FAF-82D3B011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B79-78A6-4667-AEA8-B7C71D4D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479A-D382-43AF-A09A-58C05C2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80E2-520E-428E-A720-FA7FBD2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16F4-6760-406D-8735-FE8424BA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AF03-98E6-4951-9DB4-7E8FE35E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59EA-EEF9-42ED-8E57-AB22B741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5E5-002C-44B2-9B1B-06A0BC15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D05-025E-4C20-9203-20DE2770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AFA-F48F-4930-AAB3-C27FB4B6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62B-54B1-4105-AFC1-5117A16F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48A-74B7-4595-BBC7-BCC712A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098-AA18-4E61-BDAB-ED2728AE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6A3-BF5A-4124-B437-0D451660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DE71-EBCB-4058-B82D-EFC1FB6CC04D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63D5-3929-432D-B6D1-DC8EC5E8A1D0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hablonov.com/" TargetMode="External"/><Relationship Id="rId2" Type="http://schemas.openxmlformats.org/officeDocument/2006/relationships/hyperlink" Target="http://www.ru.all-biz.info/" TargetMode="External"/><Relationship Id="rId3" Type="http://schemas.openxmlformats.org/officeDocument/2006/relationships/hyperlink" Target="http://www.m-impulse.net/" TargetMode="External"/><Relationship Id="rId4" Type="http://schemas.openxmlformats.org/officeDocument/2006/relationships/hyperlink" Target="http://www.newvers.ru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3840" cy="1844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999933"/>
                </a:solidFill>
                <a:latin typeface="Times New Roman"/>
              </a:rPr>
              <a:t>Тема урока:</a:t>
            </a:r>
            <a:r>
              <a:rPr b="0" i="1" lang="en-US" sz="4400" spc="-1" strike="noStrike">
                <a:solidFill>
                  <a:srgbClr val="999933"/>
                </a:solidFill>
                <a:latin typeface="Times New Roman"/>
              </a:rPr>
              <a:t>Environmental Protection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( Охрана окружающей среды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резентация урока в 7 классе по УМК В.П.Кузовлева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7164360" y="5877000"/>
            <a:ext cx="863640" cy="64764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99"/>
                </a:solidFill>
                <a:latin typeface="Times New Roman"/>
              </a:rPr>
              <a:t>Your homework:</a:t>
            </a:r>
            <a:br>
              <a:rPr sz="5400"/>
            </a:b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Новые слова и выражения с.74-75, записи в тетради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АВ</a:t>
            </a: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 No.7 All about me “What we recycle”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chimes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54144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 algn="ctr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Тема: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nvironmental Protection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(Охрана окружающей среды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Выполнила: Гилязетдинова                                                                                  Наталья Александровна,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еподаватель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английского языка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МОУ СОШ №4 г.Миньяр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 algn="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 algn="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7093080" y="5877000"/>
            <a:ext cx="574560" cy="57636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68">
                <a:moveTo>
                  <a:pt x="0" y="0"/>
                </a:moveTo>
                <a:lnTo>
                  <a:pt x="21600" y="0"/>
                </a:lnTo>
                <a:lnTo>
                  <a:pt x="21600" y="21668"/>
                </a:lnTo>
                <a:lnTo>
                  <a:pt x="0" y="21668"/>
                </a:lnTo>
                <a:close/>
              </a:path>
              <a:path fill="lightenLess" w="21600" h="216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8">
                <a:moveTo>
                  <a:pt x="21600" y="0"/>
                </a:moveTo>
                <a:lnTo>
                  <a:pt x="21600" y="21668"/>
                </a:lnTo>
                <a:lnTo>
                  <a:pt x="20200" y="20268"/>
                </a:lnTo>
                <a:lnTo>
                  <a:pt x="20200" y="1400"/>
                </a:lnTo>
                <a:close/>
              </a:path>
              <a:path fill="darkenLess" w="21600" h="21668">
                <a:moveTo>
                  <a:pt x="21600" y="21668"/>
                </a:moveTo>
                <a:lnTo>
                  <a:pt x="0" y="21668"/>
                </a:lnTo>
                <a:lnTo>
                  <a:pt x="1400" y="20268"/>
                </a:lnTo>
                <a:lnTo>
                  <a:pt x="20200" y="20268"/>
                </a:lnTo>
                <a:close/>
              </a:path>
              <a:path fill="lighten" w="21600" h="21668">
                <a:moveTo>
                  <a:pt x="0" y="216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8"/>
                </a:lnTo>
                <a:close/>
              </a:path>
              <a:path fill="darken" w="21600" h="21668">
                <a:moveTo>
                  <a:pt x="3794" y="10834"/>
                </a:moveTo>
                <a:lnTo>
                  <a:pt x="17806" y="3827"/>
                </a:lnTo>
                <a:lnTo>
                  <a:pt x="17806" y="1784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Times New Roman"/>
              </a:rPr>
              <a:t>Источники: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ddddd"/>
                </a:solidFill>
                <a:latin typeface="Arial"/>
              </a:rPr>
              <a:t>Текст и таблица : БЭНП «Английский язык (основная школа)»/Т.Б. Клементьева, Е.И. Дмитриева, 2005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ddddd"/>
                </a:solidFill>
                <a:latin typeface="Arial"/>
              </a:rPr>
              <a:t>Фильм создан на основе фотоматериалов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bcbcb"/>
                </a:solidFill>
                <a:uFillTx/>
                <a:latin typeface="Arial"/>
                <a:hlinkClick r:id="rId1"/>
              </a:rPr>
              <a:t>http://shablonov.co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bcbcb"/>
                </a:solidFill>
                <a:uFillTx/>
                <a:latin typeface="Arial"/>
                <a:hlinkClick r:id="rId2"/>
              </a:rPr>
              <a:t>www.ru.all-biz.info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bcbcb"/>
                </a:solidFill>
                <a:uFillTx/>
                <a:latin typeface="Arial"/>
                <a:hlinkClick r:id="rId3"/>
              </a:rPr>
              <a:t>www.m-impulse.ne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bcbcb"/>
                </a:solidFill>
                <a:uFillTx/>
                <a:latin typeface="Arial"/>
              </a:rPr>
              <a:t>www.ecologylaw,narod2.ru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bcbcb"/>
                </a:solidFill>
                <a:uFillTx/>
                <a:latin typeface="Arial"/>
                <a:hlinkClick r:id="rId4"/>
              </a:rPr>
              <a:t>www.newvers.ru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ddddd"/>
                </a:solidFill>
                <a:latin typeface="Times New Roman"/>
              </a:rPr>
              <a:t>Задачи урока:</a:t>
            </a:r>
            <a:endParaRPr b="0" i="1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1.Познакомиться с проблемой охраны окружающей среды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2. Расширить словарный запас по данной теме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3. Развивать навыки чтения и устной речи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1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06364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Georgia"/>
              </a:rPr>
              <a:t>“</a:t>
            </a:r>
            <a:r>
              <a:rPr b="1" i="1" lang="en-US" sz="3200" spc="-1" strike="noStrike">
                <a:solidFill>
                  <a:srgbClr val="336699"/>
                </a:solidFill>
                <a:latin typeface="Georgia"/>
              </a:rPr>
              <a:t>If you don’t think about the future, you will not have it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                                 </a:t>
            </a:r>
            <a:r>
              <a:rPr b="1" i="1" lang="en-US" sz="3200" spc="-1" strike="noStrike">
                <a:solidFill>
                  <a:srgbClr val="336699"/>
                </a:solidFill>
                <a:latin typeface="Georgia"/>
              </a:rPr>
              <a:t>John Golsworth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9"/>
                </a:solidFill>
                <a:latin typeface="Times New Roman"/>
              </a:rPr>
              <a:t>There are some new words and expressions: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 protect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защищат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lants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are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дкий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sects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асекомые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tmorphere - 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xcessive radiation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чрезмерная 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armful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редный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nvironment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кружающая сред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rference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мешательство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e Earth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anish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счезающий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vote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свящат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velop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азвиват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lossom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вести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cientific        science 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339640" y="6237360"/>
            <a:ext cx="36036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8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8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8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8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8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8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8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800" fill="hold"/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800" fill="hold"/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800" fill="hold"/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800" fill="hold"/>
                                        <p:tgtEl>
                                          <p:spTgt spid="3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39640" y="333360"/>
          <a:ext cx="7778880" cy="62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7778880" cy="62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  <p:sndAc>
      <p:stSnd>
        <p:snd r:embed="rId3" name="chimes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7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Rockwell Extra Bold"/>
              </a:rPr>
              <a:t>There are another new words. Let’s read them.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772400" cy="460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tect nature - 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educe pollution –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сокращать загрязнение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Destroy wildlife –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разрушать дикую природу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Damage nature –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овреждать природу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ollute nature - 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Disturb wild animals –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беспокоить 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row away litter –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бросать мусор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poil the environment –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ортить 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himes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64072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9900"/>
                </a:solidFill>
                <a:latin typeface="Times New Roman"/>
              </a:rPr>
              <a:t>Соедини эквиваленты верно!</a:t>
            </a:r>
            <a:endParaRPr b="0" i="1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Keep your country tidy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Береги природу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Keep off the grass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                  Не сорить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ut your litter in the bin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       Перерабатывайте отходы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Arial"/>
              </a:rPr>
              <a:t>Keep dogs under control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     Уважай жизнь природы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                                  По газонам не ходить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Respect the life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                 Выгул собак запрещён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nd work of the countrysid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80000" y="1125360"/>
            <a:ext cx="10080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03640" y="1628640"/>
            <a:ext cx="1655640" cy="158436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780000" y="1628280"/>
            <a:ext cx="1079280" cy="5050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67280" y="2708280"/>
            <a:ext cx="288720" cy="8650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476360" y="2205000"/>
            <a:ext cx="3024360" cy="93672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059280" y="2636640"/>
            <a:ext cx="1512720" cy="12236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0920" y="765000"/>
          <a:ext cx="8496360" cy="522936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547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imate Decomposition Times in a Landfill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2ce7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ticket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nth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ana peel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six month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l sock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year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len stake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x paper cup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ted wooden stake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year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 can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 cans plastic bottle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500 year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s containers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66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4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для ознакомления с дополнительной информацией по теме.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0" name=""/>
          <p:cNvSpPr txBox="1"/>
          <p:nvPr/>
        </p:nvSpPr>
        <p:spPr>
          <a:xfrm>
            <a:off x="1908000" y="0"/>
            <a:ext cx="5185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is interesting to know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randomBar dir="vert"/>
    <p:sndAc>
      <p:stSnd>
        <p:snd r:embed="rId1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4:27:57Z</dcterms:created>
  <dc:creator>ДАНИЛА И НАТАЛЬЯ</dc:creator>
  <dc:description/>
  <dc:language>en-US</dc:language>
  <cp:lastModifiedBy>ДАНИЛА И НАТАЛЬЯ</cp:lastModifiedBy>
  <dcterms:modified xsi:type="dcterms:W3CDTF">2011-08-10T03:44:33Z</dcterms:modified>
  <cp:revision>17</cp:revision>
  <dc:subject/>
  <dc:title> Тема урока:                           How do you treat the Earth?</dc:title>
</cp:coreProperties>
</file>