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8CA-1E44-422A-993B-0F78AC97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8868-5BCA-4687-8685-7ED1155B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80A-A8C8-49CD-8FFA-9C447E7A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091-D6E0-42D1-97BE-47950874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3AFE-C235-4090-9522-A1630ADE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9126-98CE-4F96-AF47-71BB5CB3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5C46-71BA-44BC-A90A-80158E23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15DE-707F-429F-99A4-723EA52C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664E-9CE7-4205-81EF-3BA15399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C124-9D4E-481E-9349-53675436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1722-24D6-4791-A1CD-9ECAE40F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860A-183C-46BA-907E-3DE488CB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749A-B0CA-45B1-AA1C-6936BD0C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D18E-59A7-45EA-92AD-60036418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B50E-7549-4341-8F2C-95404D43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CBEA-7AC7-44B9-839C-71A74D14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CCEA-0C4C-46EB-96AF-E4C1A4C1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A8F4-5655-491A-B312-FC342B30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D31F-803A-4163-BB23-17526EE9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B72-FCEC-4A97-B585-192741DD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0C0C-51D9-4120-B188-C7AC17EF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6D0-85B6-48EA-B6C3-83A1FF7A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045D-BDC8-4BA8-B36B-6FBB65D8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2A2-15BB-4C64-B717-4E21A577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3162-97E7-48D4-BDA0-0B47A0DA88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A5AD-A5B8-4B7C-9C83-A4A379F3E9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or.edu.ru/" TargetMode="External"/><Relationship Id="rId3" Type="http://schemas.openxmlformats.org/officeDocument/2006/relationships/hyperlink" Target="http://school-collection.edu.ru/" TargetMode="External"/><Relationship Id="rId4" Type="http://schemas.openxmlformats.org/officeDocument/2006/relationships/hyperlink" Target="http://window.edu.ru/" TargetMode="External"/><Relationship Id="rId5" Type="http://schemas.openxmlformats.org/officeDocument/2006/relationships/hyperlink" Target="http://www.edu.ru/" TargetMode="Externa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26d18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a26d18"/>
                </a:solidFill>
                <a:latin typeface="Times New Roman"/>
              </a:rPr>
              <a:t>Информационные технологии  </a:t>
            </a:r>
            <a:endParaRPr b="1" lang="en-US" sz="66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1" name="Picture 4" descr="MCj04326460000[1]"/>
          <p:cNvPicPr/>
          <p:nvPr/>
        </p:nvPicPr>
        <p:blipFill>
          <a:blip r:embed="rId1"/>
          <a:stretch/>
        </p:blipFill>
        <p:spPr>
          <a:xfrm>
            <a:off x="5651640" y="3643200"/>
            <a:ext cx="293508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Открытость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хнологический аспект общей парадигмы Открытого образ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иск и извлечение информационного источ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ключение своего информационного источ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зможность создания своих источников (постановка эксперимент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print"/>
          <p:cNvPicPr/>
          <p:nvPr/>
        </p:nvPicPr>
        <p:blipFill>
          <a:blip r:embed="rId1"/>
          <a:stretch/>
        </p:blipFill>
        <p:spPr>
          <a:xfrm>
            <a:off x="34920" y="1320840"/>
            <a:ext cx="7381800" cy="55371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a20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е электронные образовательные ресур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763640" y="1628640"/>
            <a:ext cx="716436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. Федеральный центр информационно-образовательных ресурсов (ФЦИОР, </a:t>
            </a:r>
            <a:r>
              <a:rPr b="0" lang="ru-RU" sz="2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eor.edu.ru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. Единая коллекция цифровых образовательных ресурсов (Единая коллекция ЦОР, </a:t>
            </a:r>
            <a:r>
              <a:rPr b="0" lang="ru-RU" sz="22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http://school-collection.edu.ru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3. Информационная система "Единое окно доступа к образовательным ресурсам" (ИС "Единое окно"</a:t>
            </a:r>
            <a:r>
              <a:rPr b="0" lang="ru-RU" sz="22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window.edu.ru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);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4. Ресурсы, описания которых находятся на Федеральном портале "Российское образование" (</a:t>
            </a:r>
            <a:r>
              <a:rPr b="0" lang="ru-RU" sz="22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http://www.edu.ru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В подготовке выпускников можно выделить два направления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21844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владение практическими умениями работать с компьютерными технология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владение практическими умениями применять компьютерные технологии в своей будущей профессиональной 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a26d18"/>
                </a:solidFill>
                <a:uFillTx/>
                <a:latin typeface="Times New Roman"/>
              </a:rPr>
              <a:t>Умения  применять ИКТ</a:t>
            </a: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 показывают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42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е учащиеся, занимающиеся исследовательской и инновационной деятельностью, в своей работе используют информационную сред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ь исследовательских работ учащихся заняла призовые места в районных, областных, российских конференциях и  конкурса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школьные конференции, семинары включают в себя презентации, доклады, которые подготавливаются с использованием информационной сред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базе информационной среды создан «Сайт школы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38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Сегодня информатика и ИКТ становится неотъемлемой частью практически всех профессий, прочно входят в наш быт, образование, культуру.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6" name="Picture 4" descr="j0234657"/>
          <p:cNvPicPr/>
          <p:nvPr/>
        </p:nvPicPr>
        <p:blipFill>
          <a:blip r:embed="rId1"/>
          <a:stretch/>
        </p:blipFill>
        <p:spPr>
          <a:xfrm>
            <a:off x="0" y="4861080"/>
            <a:ext cx="2050920" cy="19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j0195384"/>
          <p:cNvPicPr/>
          <p:nvPr/>
        </p:nvPicPr>
        <p:blipFill>
          <a:blip r:embed="rId2"/>
          <a:stretch/>
        </p:blipFill>
        <p:spPr>
          <a:xfrm>
            <a:off x="3132000" y="4149720"/>
            <a:ext cx="2448000" cy="2232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j0300520"/>
          <p:cNvPicPr/>
          <p:nvPr/>
        </p:nvPicPr>
        <p:blipFill>
          <a:blip r:embed="rId3"/>
          <a:stretch/>
        </p:blipFill>
        <p:spPr>
          <a:xfrm>
            <a:off x="6877080" y="4908600"/>
            <a:ext cx="226692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Информационные технологии в учебном процессе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л. Сендов 1980-е гг.: Модель учебного процесса для ученика с компьютер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же тогда – ученик с калькулятор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 этого – ученик с телевизором, магнитофон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ще раньше – ученик с фотоаппаратом и радиоприемник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ще раньше – ученик с естественно-научной лаборатори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ще раньше – ученик с книгой: учебником, атласом, словарем, энциклопеди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Информационная революция?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егодн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ученик с сотовым телефоном, компьютер в кубике ЛЕГО, цифровые датч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Завтра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(уже сегодн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 – полная ОС в сотовом телефоне, аккордная клавиатура, распознавание речи, цифровой микроскоп, документ-камера и т.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23360" y="901440"/>
            <a:ext cx="8325000" cy="5551560"/>
          </a:xfrm>
          <a:prstGeom prst="rect">
            <a:avLst/>
          </a:prstGeom>
          <a:gradFill rotWithShape="0">
            <a:gsLst>
              <a:gs pos="0">
                <a:srgbClr val="fff6de"/>
              </a:gs>
              <a:gs pos="100000">
                <a:srgbClr val="fff7de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ладание фронтальных методов обуч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 всё отвечает, в основном, учитель: планирование, процесс, оценива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ётся единый темп прохождения материал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граниченность источников информац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жности в организации дифференцированного обуч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адиционное оцени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339640" y="333360"/>
            <a:ext cx="55450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Обучение без ИК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Content Placeholder 12"/>
          <p:cNvGrpSpPr/>
          <p:nvPr/>
        </p:nvGrpSpPr>
        <p:grpSpPr>
          <a:xfrm>
            <a:off x="390600" y="828720"/>
            <a:ext cx="8296200" cy="5273640"/>
            <a:chOff x="390600" y="828720"/>
            <a:chExt cx="8296200" cy="5273640"/>
          </a:xfrm>
        </p:grpSpPr>
        <p:pic>
          <p:nvPicPr>
            <p:cNvPr id="129" name="Content Placeholder 12" descr=""/>
            <p:cNvPicPr/>
            <p:nvPr/>
          </p:nvPicPr>
          <p:blipFill>
            <a:blip r:embed="rId1"/>
            <a:stretch/>
          </p:blipFill>
          <p:spPr>
            <a:xfrm>
              <a:off x="390600" y="828720"/>
              <a:ext cx="8296200" cy="527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395280" y="836640"/>
              <a:ext cx="828360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spcBef>
                  <a:spcPts val="601"/>
                </a:spcBef>
                <a:buClr>
                  <a:srgbClr val="ff0000"/>
                </a:buClr>
                <a:buSzPct val="6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Разнообразие форм и методов обучения (индивидуальная, парная, групповая работа, ….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spcBef>
                  <a:spcPts val="601"/>
                </a:spcBef>
                <a:buClr>
                  <a:srgbClr val="ff0000"/>
                </a:buClr>
                <a:buSzPct val="6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 ученика больше ответственности за результаты своей работы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spcBef>
                  <a:spcPts val="601"/>
                </a:spcBef>
                <a:buClr>
                  <a:srgbClr val="ff0000"/>
                </a:buClr>
                <a:buSzPct val="6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каждый ученик работает в своём темпе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spcBef>
                  <a:spcPts val="601"/>
                </a:spcBef>
                <a:buClr>
                  <a:srgbClr val="ff0000"/>
                </a:buClr>
                <a:buSzPct val="6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расширение информационного пространства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spcBef>
                  <a:spcPts val="601"/>
                </a:spcBef>
                <a:buClr>
                  <a:srgbClr val="ff0000"/>
                </a:buClr>
                <a:buSzPct val="6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озможность для творчества в учебном процессе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spcBef>
                  <a:spcPts val="601"/>
                </a:spcBef>
                <a:buClr>
                  <a:srgbClr val="ff0000"/>
                </a:buClr>
                <a:buSzPct val="6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расширение возможностей для оценивания (формирующее оценивание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2880" indent="-272880">
                <a:spcBef>
                  <a:spcPts val="601"/>
                </a:spcBef>
                <a:buClr>
                  <a:srgbClr val="ff0000"/>
                </a:buClr>
                <a:buSzPct val="60000"/>
                <a:buFont typeface="Wingdings" charset="2"/>
                <a:buChar char="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339640" y="333360"/>
            <a:ext cx="404172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учение с ИК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Владение компьютерными технологиями включает в себя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нание их назначения, областей применения, основных принципов работ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нание основных функциональных возможностей, предоставляемых технология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нание методов и приемов работы с программными средствами, реализующими технологии, и умение применять их на практи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5DB4-F09A-47A0-91EA-2A2FDD4E61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68320" y="1773000"/>
            <a:ext cx="82756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Aft>
                <a:spcPts val="1199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Aft>
                <a:spcPts val="1199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Aft>
                <a:spcPts val="1199"/>
              </a:spcAft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395280" y="26028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25a5"/>
                </a:solidFill>
                <a:latin typeface="Times New Roman"/>
              </a:rPr>
              <a:t>Электронное образование в  нашей школ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b25a5"/>
                </a:solidFill>
                <a:latin typeface="Times New Roman"/>
              </a:rPr>
              <a:t>Этапы формирова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1314360" y="1989000"/>
            <a:ext cx="6535800" cy="719280"/>
          </a:xfrm>
          <a:prstGeom prst="rect">
            <a:avLst/>
          </a:prstGeom>
          <a:solidFill>
            <a:srgbClr val="00b050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хническое обеспеч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1265400" y="2971800"/>
            <a:ext cx="6603840" cy="720720"/>
          </a:xfrm>
          <a:prstGeom prst="rect">
            <a:avLst/>
          </a:prstGeom>
          <a:solidFill>
            <a:srgbClr val="beb212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ифровой конте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1293840" y="3956040"/>
            <a:ext cx="6602400" cy="719280"/>
          </a:xfrm>
          <a:prstGeom prst="rect">
            <a:avLst/>
          </a:prstGeom>
          <a:solidFill>
            <a:srgbClr val="ffcc00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подготовка учит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67"/>
          <p:cNvSpPr/>
          <p:nvPr/>
        </p:nvSpPr>
        <p:spPr>
          <a:xfrm>
            <a:off x="1293840" y="4950000"/>
            <a:ext cx="6602400" cy="718920"/>
          </a:xfrm>
          <a:prstGeom prst="rect">
            <a:avLst/>
          </a:prstGeom>
          <a:solidFill>
            <a:srgbClr val="ff0000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цифровых технолог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0000000298023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0000000298023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00000002980232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Цифровые образовательные ресурсы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94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лектронные учебные изда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лектронные учебни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ртуальные лаборатории и лаборатор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бот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лектронные учебно-методические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плексы отдельных учебных дисциплин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лектронные учебно-методические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нажер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Качество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 ниже, чем у книг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сегда открывае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писи под картинками соответствуют картинк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написано «см.», то можно посмотреть и увиде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деральный экспертный сов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8:02:48Z</dcterms:created>
  <dc:creator>Комп учителя</dc:creator>
  <dc:description/>
  <dc:language>en-US</dc:language>
  <cp:lastModifiedBy>п</cp:lastModifiedBy>
  <dcterms:modified xsi:type="dcterms:W3CDTF">2013-10-31T05:05:43Z</dcterms:modified>
  <cp:revision>11</cp:revision>
  <dc:subject/>
  <dc:title>«Использование информационных технологий для активизации познавательного интереса учащихся»</dc:title>
</cp:coreProperties>
</file>