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hyperlink" Target="file:///&#1084;&#1086;&#1076;&#1077;&#1083;&#1080;&#1088;&#1086;&#1074;&#1072;&#1085;&#1080;&#1077;%20&#1101;&#1083;&#1077;&#1082;&#1090;&#1088;&#1086;&#1085;&#1085;&#1099;&#1081;%20&#1090;&#1077;&#1089;&#1090;.xls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371600" y="1511280"/>
            <a:ext cx="64008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тематическое 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7199280" y="4319640"/>
            <a:ext cx="1608120" cy="213048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360360" y="360360"/>
            <a:ext cx="180036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50840"/>
            <a:ext cx="687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научный семинар собрались ученые и обменялись друг с другом визитными карточками. Всего было роздано 210 визитных карточек. Сколько ученых приехало на семинар, если известно, что их было не более 2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50840"/>
            <a:ext cx="6870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197000"/>
            <a:ext cx="7696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становка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x – количество ученых, приехавших на семинар. Так как в процессе обмена каждый раздает по одной карточке всем, кроме себя, то он раздаст (x-1) карточку. Следовательно, всего будет роздано n = x*(x-1) карточек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тематическая мод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404640"/>
            <a:ext cx="741528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ьютерный экспери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500280"/>
            <a:ext cx="763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нем эксперимент, последовательно вводя в ячейку В1 числа 2, 3, 4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проведенного эксперимента получаем ответ: 15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полученных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им результат, решив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яющий условию задачи корень уравнения  x=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15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26920" y="1125360"/>
          <a:ext cx="6050160" cy="2283120"/>
        </p:xfrm>
        <a:graphic>
          <a:graphicData uri="http://schemas.openxmlformats.org/drawingml/2006/table">
            <a:tbl>
              <a:tblPr/>
              <a:tblGrid>
                <a:gridCol w="352440"/>
                <a:gridCol w="2306880"/>
                <a:gridCol w="1763640"/>
                <a:gridCol w="1627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участников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карточек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В1*(В1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50840"/>
            <a:ext cx="68706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48428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менатель правильной дроби на 2 больше числителя. Если числитель увеличить в 5 раз, а к знаменателю прибавить 5 и сократить дробь, то в результате получится 3/2. Найти исходную дроб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4360" y="490680"/>
            <a:ext cx="687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 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л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ого реш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828800"/>
            <a:ext cx="769608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ники шахматного турнира после окончания очередной партии обменялись друг с другом рукопожатиями. Всего сыграно 210 партий, значит, 210 раз противники пожали друг другу руки. Сколь человек принимали участие в турнире, если каждый сыграл по одному разу со всеми остальными и известно, что участников было не более 3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3360"/>
            <a:ext cx="687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765000"/>
            <a:ext cx="7696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учить консп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Ответьте на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omic Sans MS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что такое математическое моделировани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omic Sans MS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что называется математической модель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omic Sans MS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перечислите этапы решения задачи на компьюте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а 1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сстояние между Дашей и Машей 4,8 км. Они одновременно вышли навстречу друг другу и встретились через 32 мин, причем Даша шла в 1,5 раза быстрее Маши. Какова путь прошла каждая из девоче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а 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сстояние между поселками 126. За первый час автобус проехал 4/9 этого пути. Сколько километров осталось проехать автобус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а 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на повторение) По указу Управления культуры была изготовлена бронзовая статуя девушки с веслом. Определите те свойства статуи, которые существенны для решения каждой из следующих задач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omic Sans MS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перевести статую из мастерской в городской пар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omic Sans MS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установить статую на площади пар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omic Sans MS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увеличить посещаемость городского пар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omic Sans MS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продать статую с аукцио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omic Sans MS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) переплавить стату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 понятия «модель задачи», «математическая модель», «вычислительный эксперимент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этапы решения задач на компьюте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алгоритм решения за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сти вычислительны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1844640"/>
            <a:ext cx="7705800" cy="12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0" y="3240000"/>
            <a:ext cx="1979640" cy="3141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360360"/>
            <a:ext cx="8820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оверка усвоения пройденного материал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160720"/>
            <a:ext cx="63039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Электронный тест (5-7 ми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20720" y="360360"/>
            <a:ext cx="769608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ожения, которые позволяют в «море» информации об изучаемом явлении или объекте выделить исходные данные, определить, что будет служить результатом и какова связь между исходными данными и результатом,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делью зада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800360" y="3068640"/>
            <a:ext cx="572436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260280"/>
            <a:ext cx="68706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а различных пути моделирования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модель может быть копией объекта, выполненной из другого материала, в другом масштабе, с отсутствием ряда дета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модель может отображать реальность в абстрактной фор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79280"/>
            <a:ext cx="769608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 представленная в виде копии объекта, выполненная из другого материала, в другом масштабе, с отсутствием ряда деталей и т.д. назыв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турной мод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берите натурные мод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соедините лини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740720" y="5400720"/>
            <a:ext cx="1403280" cy="145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580000" y="5400720"/>
            <a:ext cx="1440000" cy="1457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600360" y="5400720"/>
            <a:ext cx="1440000" cy="1457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60480" y="5219640"/>
            <a:ext cx="1379520" cy="1619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480" y="5219640"/>
            <a:ext cx="13795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979640" y="5400720"/>
            <a:ext cx="1260360" cy="1457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79640" y="5400720"/>
            <a:ext cx="12603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84280" y="360360"/>
            <a:ext cx="7696080" cy="32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ая мод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ражает существенные черты объекта или процесса языком уравнений и других математических сред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79930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60360"/>
            <a:ext cx="769608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ематической модел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нимают систему математических соотношений – формул, уравнений, неравенств и т.д., отражающих существенные свойства объекта или проце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60360" y="3600360"/>
            <a:ext cx="6659640" cy="41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50840"/>
            <a:ext cx="68706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апы решения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компьютер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остановка за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строение математической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Разработка алгорит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ь алгоритма на языке программ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Отладка и тестирование программы на компьют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Анализ полученны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2-02-24T04:49:24Z</dcterms:modified>
  <cp:revision>5</cp:revision>
  <dc:subject/>
  <dc:title>Слайд 1</dc:title>
</cp:coreProperties>
</file>