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66D-1C57-447A-8920-789E73CD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982-2D4B-412F-A722-0B6A3B45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1E4-330F-4E01-BCCB-E7235F9B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8E9-F17D-43D9-ADFB-92BA79CE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DDE-5134-4E4A-8854-034A6BB4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813-B96C-4C7C-8372-239CC34D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33B-D26F-4A70-B7A8-36380DCE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1D8-734E-427C-AF9B-C2A73EAB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393-BC07-4F2F-89BB-6388573A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339-F014-474C-BFA4-4A84FD7D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AF1-E05D-4EE6-8B4C-5F4CFEFD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384-C0DF-42C8-944A-79399D1F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41E4-07BF-4094-ACC0-B21565F9E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76;&#1083;&#1103;%20&#1078;&#1102;&#1088;&#1080;/&#1053;&#1077;&#1084;&#1085;&#1086;&#1075;&#1086;%20&#1086;%20&#1082;&#1086;&#1084;&#1087;&#1100;&#1102;&#1090;&#1077;&#1088;&#1072;&#1093;.doc" TargetMode="External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549360"/>
            <a:ext cx="770400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Занимательная информатик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543560"/>
            <a:ext cx="693432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рогу осилит идущий,</a:t>
            </a:r>
            <a:endParaRPr b="1" lang="en-US" sz="5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информатику мыслящий.</a:t>
            </a:r>
            <a:endParaRPr b="1" lang="en-US" sz="54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Драйв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rectole0000000013"/>
          <p:cNvGraphicFramePr/>
          <p:nvPr/>
        </p:nvGraphicFramePr>
        <p:xfrm>
          <a:off x="324000" y="1197000"/>
          <a:ext cx="8569080" cy="51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rectole00000000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97000"/>
                    <a:ext cx="8569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rectole0000000001"/>
          <p:cNvGraphicFramePr/>
          <p:nvPr/>
        </p:nvGraphicFramePr>
        <p:xfrm>
          <a:off x="324000" y="1700280"/>
          <a:ext cx="835164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rectole000000000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700280"/>
                    <a:ext cx="83516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Дисп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rectole0000000002"/>
          <p:cNvGraphicFramePr/>
          <p:nvPr/>
        </p:nvGraphicFramePr>
        <p:xfrm>
          <a:off x="468360" y="1700280"/>
          <a:ext cx="8136000" cy="43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rectole000000000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8136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rectole0000000003"/>
          <p:cNvGraphicFramePr/>
          <p:nvPr/>
        </p:nvGraphicFramePr>
        <p:xfrm>
          <a:off x="468360" y="1700280"/>
          <a:ext cx="820728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rectole000000000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82072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rectole0000000008"/>
          <p:cNvGraphicFramePr/>
          <p:nvPr/>
        </p:nvGraphicFramePr>
        <p:xfrm>
          <a:off x="395280" y="1628640"/>
          <a:ext cx="8280360" cy="468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rectole000000000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628640"/>
                    <a:ext cx="82803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авильные ответы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задания №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11280" y="1413000"/>
            <a:ext cx="403704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ние №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628640"/>
          <a:ext cx="8424720" cy="48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28640"/>
                    <a:ext cx="842472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912000" cy="5197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195640" y="476280"/>
            <a:ext cx="48956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Внешняя кнопка Reset</a:t>
            </a:r>
            <a:endParaRPr b="1" lang="en-US" sz="40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624720" cy="4977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55640" y="476280"/>
            <a:ext cx="7848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амый маленький жесткий диск в мире</a:t>
            </a:r>
            <a:endParaRPr b="1" lang="en-US" sz="40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6121440" cy="5365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340000" y="333360"/>
            <a:ext cx="459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Неломающаяся мышка</a:t>
            </a:r>
            <a:endParaRPr b="1" lang="en-US" sz="40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24000" y="981000"/>
            <a:ext cx="4492800" cy="561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124000" y="260280"/>
            <a:ext cx="4524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деальный журналист</a:t>
            </a:r>
            <a:endParaRPr b="1" lang="en-US" sz="40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408720" cy="481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0" y="333360"/>
            <a:ext cx="92487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ддинг. </a:t>
            </a:r>
            <a:endParaRPr b="1" lang="en-US" sz="40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Что можно сделать из старого ПК?</a:t>
            </a:r>
            <a:endParaRPr b="1" lang="en-US" sz="40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723000" cy="504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619280" y="476280"/>
            <a:ext cx="5743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ддинг. Ретро-компьютер.</a:t>
            </a:r>
            <a:endParaRPr b="1" lang="en-US" sz="40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FingerSense - технология распознавания вида касания"/>
          <p:cNvPicPr/>
          <p:nvPr/>
        </p:nvPicPr>
        <p:blipFill>
          <a:blip r:embed="rId2"/>
          <a:stretch/>
        </p:blipFill>
        <p:spPr>
          <a:xfrm>
            <a:off x="1187280" y="1484280"/>
            <a:ext cx="7201080" cy="4808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619280" y="476280"/>
            <a:ext cx="5743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FingerSense - технология </a:t>
            </a:r>
            <a:endParaRPr b="1" lang="en-US" sz="40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аспознавания вида касания</a:t>
            </a:r>
            <a:endParaRPr b="1" lang="en-US" sz="40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836640"/>
          <a:ext cx="835200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836640"/>
                    <a:ext cx="835200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Интер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6:50:48Z</dcterms:created>
  <dc:creator>Dom</dc:creator>
  <dc:description/>
  <dc:language>en-US</dc:language>
  <cp:lastModifiedBy>Admin</cp:lastModifiedBy>
  <dcterms:modified xsi:type="dcterms:W3CDTF">2005-01-04T02:47:49Z</dcterms:modified>
  <cp:revision>11</cp:revision>
  <dc:subject/>
  <dc:title>Слайд 1</dc:title>
</cp:coreProperties>
</file>