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9.png" ContentType="image/png"/>
  <Override PartName="/ppt/media/image6.png" ContentType="image/png"/>
  <Override PartName="/ppt/media/image31.png" ContentType="image/png"/>
  <Override PartName="/ppt/media/image26.gif" ContentType="image/gif"/>
  <Override PartName="/ppt/media/image20.jpeg" ContentType="image/jpeg"/>
  <Override PartName="/ppt/media/image12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0.jpeg" ContentType="image/jpe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6B5-B005-4E2E-9F2B-A05F4E19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A7D-A45C-4AC6-9193-812C6A2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D85-8E85-42B5-A1C2-F1A5E8D5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27A-BF0B-48D5-A9CB-C71D9565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417-4F66-486F-BE21-18BB2649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5229-29DC-4FF3-AC37-48FCC40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3E4-4301-4FFE-8B6D-C45CE3E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6916-81B4-438D-9BFA-67E7DA3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C71-0AB0-4C9E-9196-4637008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244-3D2A-41B5-9C22-7D733532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73C-5361-4929-92F9-043F848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6E5-1971-4F0E-956F-89A2E91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578B-14F1-46D0-9579-981DE87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22C2-E8DF-494C-9FE2-41064F0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54B-1A2D-4760-B6C2-3A450D5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85BD-0598-4B7D-8E27-35F80AFE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950E-3D8C-4A98-9A53-CA9D7B8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B3C-7EFE-4AD2-AA09-23D45B7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0D7-16CE-440C-871E-F142B7C4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665-6148-4F5E-AD4A-F1715D8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017-306C-4C6A-ABD6-4246FD11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197-78EA-4577-9603-7147149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B73-4016-4D9F-8B1A-513A8A9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C1A-9368-40C0-95F8-B4EE5DA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6D2-D42D-47F2-B12C-B766CF895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8EE-F4EA-48B4-95C6-B40FCA8B4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noutremontirui.ru/remont-noutbukov-lenovo-v-barnaule.html" TargetMode="External"/><Relationship Id="rId2" Type="http://schemas.openxmlformats.org/officeDocument/2006/relationships/hyperlink" Target="http://domodedovo.sravni.com/images/mid=58807.html" TargetMode="External"/><Relationship Id="rId3" Type="http://schemas.openxmlformats.org/officeDocument/2006/relationships/hyperlink" Target="http://www.ilost.ru/?p=2&amp;p2=90000&amp;pi=0&amp;start=14&amp;sort=3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95280" y="6262560"/>
            <a:ext cx="8245440" cy="361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a181db"/>
              </a:gs>
              <a:gs pos="100000">
                <a:srgbClr val="66ccff"/>
              </a:gs>
            </a:gsLst>
            <a:lin ang="2700000"/>
          </a:gradFill>
          <a:ln w="0">
            <a:noFill/>
          </a:ln>
          <a:effectLst>
            <a:outerShdw dist="91658" dir="2017659" blurRad="0" rotWithShape="0">
              <a:srgbClr val="614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Фестиваль педагогических идей «Открытый уро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99880" y="1749600"/>
            <a:ext cx="865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числение на компьютере с помощью калькулятора. Исторические примеры различных приспособлений для выполнения арифметических опер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Kilby_Jack"/>
          <p:cNvPicPr/>
          <p:nvPr/>
        </p:nvPicPr>
        <p:blipFill>
          <a:blip r:embed="rId1"/>
          <a:stretch/>
        </p:blipFill>
        <p:spPr>
          <a:xfrm>
            <a:off x="324000" y="981000"/>
            <a:ext cx="2044440" cy="2557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31640" y="1088640"/>
            <a:ext cx="8496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67 году Джек Килби в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вумя другими инженер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ющими на компан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Тексас Инструменте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ли  самый пер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ручн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электро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                                           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калькулято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4" descr="первый калькулятор"/>
          <p:cNvPicPr/>
          <p:nvPr/>
        </p:nvPicPr>
        <p:blipFill>
          <a:blip r:embed="rId2"/>
          <a:stretch/>
        </p:blipFill>
        <p:spPr>
          <a:xfrm>
            <a:off x="2735280" y="3681360"/>
            <a:ext cx="2771640" cy="272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58920" y="3537000"/>
            <a:ext cx="22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ж. Килб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94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оставьте слова из столбцов по смы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28640"/>
          <a:ext cx="3538440" cy="4213440"/>
        </p:xfrm>
        <a:graphic>
          <a:graphicData uri="http://schemas.openxmlformats.org/drawingml/2006/table">
            <a:tbl>
              <a:tblPr/>
              <a:tblGrid>
                <a:gridCol w="3538440"/>
              </a:tblGrid>
              <a:tr h="5864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аба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уан-п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уммирующ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ш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арифмометр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Феликс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ервый электронный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калькуля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904000" y="1600200"/>
          <a:ext cx="2782800" cy="4235400"/>
        </p:xfrm>
        <a:graphic>
          <a:graphicData uri="http://schemas.openxmlformats.org/drawingml/2006/table">
            <a:tbl>
              <a:tblPr/>
              <a:tblGrid>
                <a:gridCol w="2782800"/>
              </a:tblGrid>
              <a:tr h="840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лез Паска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ревний Ри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Т.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жек Килб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Древний Кита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33"/>
          <p:cNvSpPr/>
          <p:nvPr/>
        </p:nvSpPr>
        <p:spPr>
          <a:xfrm>
            <a:off x="3995640" y="2060640"/>
            <a:ext cx="1908360" cy="90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3995640" y="2781360"/>
            <a:ext cx="1908360" cy="26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V="1">
            <a:off x="3959280" y="1989000"/>
            <a:ext cx="1944720" cy="172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 flipV="1">
            <a:off x="3959280" y="3715920"/>
            <a:ext cx="194472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 flipV="1">
            <a:off x="3995640" y="4508640"/>
            <a:ext cx="1908360" cy="90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rfkmrekznjh_2"/>
          <p:cNvPicPr/>
          <p:nvPr/>
        </p:nvPicPr>
        <p:blipFill>
          <a:blip r:embed="rId1"/>
          <a:stretch/>
        </p:blipFill>
        <p:spPr>
          <a:xfrm>
            <a:off x="4967280" y="1700280"/>
            <a:ext cx="3186000" cy="424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Калькулятор_вид"/>
          <p:cNvPicPr/>
          <p:nvPr/>
        </p:nvPicPr>
        <p:blipFill>
          <a:blip r:embed="rId2"/>
          <a:stretch/>
        </p:blipFill>
        <p:spPr>
          <a:xfrm>
            <a:off x="719280" y="2023920"/>
            <a:ext cx="3660480" cy="374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4000" y="873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е виртуальный и настоящий кальку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Калькулятор_вид"/>
          <p:cNvPicPr/>
          <p:nvPr/>
        </p:nvPicPr>
        <p:blipFill>
          <a:blip r:embed="rId1"/>
          <a:stretch/>
        </p:blipFill>
        <p:spPr>
          <a:xfrm>
            <a:off x="2843280" y="2816280"/>
            <a:ext cx="3238560" cy="3311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72080" y="1087920"/>
            <a:ext cx="88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уск программы Калькуля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ся по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Пуск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Программы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Стандартные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  <a:ea typeface="Times New Roman"/>
              </a:rPr>
              <a:t>→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Калькулятор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5" descr="калькулятор_вид2"/>
          <p:cNvPicPr/>
          <p:nvPr/>
        </p:nvPicPr>
        <p:blipFill>
          <a:blip r:embed="rId1"/>
          <a:stretch/>
        </p:blipFill>
        <p:spPr>
          <a:xfrm>
            <a:off x="3384720" y="2133720"/>
            <a:ext cx="5508360" cy="36957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7"/>
          <p:cNvSpPr/>
          <p:nvPr/>
        </p:nvSpPr>
        <p:spPr>
          <a:xfrm>
            <a:off x="4067280" y="1484280"/>
            <a:ext cx="44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" descr="Калькулятор_вид"/>
          <p:cNvPicPr/>
          <p:nvPr/>
        </p:nvPicPr>
        <p:blipFill>
          <a:blip r:embed="rId2"/>
          <a:stretch/>
        </p:blipFill>
        <p:spPr>
          <a:xfrm>
            <a:off x="216000" y="1881360"/>
            <a:ext cx="3238560" cy="331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0"/>
          <p:cNvSpPr/>
          <p:nvPr/>
        </p:nvSpPr>
        <p:spPr>
          <a:xfrm>
            <a:off x="287280" y="126828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4" descr="Калькулятор_вид"/>
          <p:cNvPicPr/>
          <p:nvPr/>
        </p:nvPicPr>
        <p:blipFill>
          <a:blip r:embed="rId1"/>
          <a:stretch/>
        </p:blipFill>
        <p:spPr>
          <a:xfrm>
            <a:off x="2376360" y="1557360"/>
            <a:ext cx="4297320" cy="4392720"/>
          </a:xfrm>
          <a:prstGeom prst="rect">
            <a:avLst/>
          </a:prstGeom>
          <a:ln w="0">
            <a:noFill/>
          </a:ln>
        </p:spPr>
      </p:pic>
      <p:sp>
        <p:nvSpPr>
          <p:cNvPr id="167" name="Line 15"/>
          <p:cNvSpPr/>
          <p:nvPr/>
        </p:nvSpPr>
        <p:spPr>
          <a:xfrm flipH="1">
            <a:off x="4535640" y="1268280"/>
            <a:ext cx="4680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967280" y="907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5904000" y="2276640"/>
            <a:ext cx="9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04000" y="2060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ка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 flipV="1">
            <a:off x="5977080" y="2707920"/>
            <a:ext cx="790560" cy="2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76764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5219640" y="3608280"/>
            <a:ext cx="576360" cy="201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H="1" flipV="1">
            <a:off x="5508360" y="4113360"/>
            <a:ext cx="17636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480000" y="4149720"/>
            <a:ext cx="25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ки арифметически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556000" y="3573360"/>
            <a:ext cx="647640" cy="2124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1763640" y="4076640"/>
            <a:ext cx="863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395280" y="436572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аботы с пам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2050920" y="3141720"/>
            <a:ext cx="7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250920" y="2889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катор использования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4"/>
          <p:cNvSpPr/>
          <p:nvPr/>
        </p:nvSpPr>
        <p:spPr>
          <a:xfrm>
            <a:off x="3276720" y="3559320"/>
            <a:ext cx="1908000" cy="210168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2101680"/>
              <a:gd name="textAreaBottom" fmla="*/ 2102040 h 2101680"/>
            </a:gdLst>
            <a:ahLst/>
            <a:rect l="textAreaLeft" t="textAreaTop" r="textAreaRight" b="textAreaBottom"/>
            <a:pathLst>
              <a:path w="1202" h="1315">
                <a:moveTo>
                  <a:pt x="0" y="2"/>
                </a:moveTo>
                <a:lnTo>
                  <a:pt x="1202" y="0"/>
                </a:lnTo>
                <a:lnTo>
                  <a:pt x="1202" y="1003"/>
                </a:lnTo>
                <a:lnTo>
                  <a:pt x="413" y="993"/>
                </a:lnTo>
                <a:lnTo>
                  <a:pt x="413" y="1315"/>
                </a:lnTo>
                <a:lnTo>
                  <a:pt x="7" y="1314"/>
                </a:lnTo>
                <a:lnTo>
                  <a:pt x="0" y="2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5"/>
          <p:cNvSpPr/>
          <p:nvPr/>
        </p:nvSpPr>
        <p:spPr>
          <a:xfrm flipV="1">
            <a:off x="3311640" y="5516640"/>
            <a:ext cx="144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2195640" y="59500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319640" y="1052640"/>
            <a:ext cx="46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8360" y="1916280"/>
          <a:ext cx="8172360" cy="4095720"/>
        </p:xfrm>
        <a:graphic>
          <a:graphicData uri="http://schemas.openxmlformats.org/drawingml/2006/table">
            <a:tbl>
              <a:tblPr/>
              <a:tblGrid>
                <a:gridCol w="1438200"/>
                <a:gridCol w="6734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арифметического действ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1"/>
          <p:cNvSpPr/>
          <p:nvPr/>
        </p:nvSpPr>
        <p:spPr>
          <a:xfrm>
            <a:off x="287280" y="1052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робуйте назвать арифметическ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319640" y="1052640"/>
            <a:ext cx="46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8360" y="1916280"/>
          <a:ext cx="8172360" cy="4095720"/>
        </p:xfrm>
        <a:graphic>
          <a:graphicData uri="http://schemas.openxmlformats.org/drawingml/2006/table">
            <a:tbl>
              <a:tblPr/>
              <a:tblGrid>
                <a:gridCol w="1438200"/>
                <a:gridCol w="67341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арифметического действ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чит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b3413"/>
                          </a:solidFill>
                          <a:latin typeface="Times New Roman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для получения результа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8"/>
          <p:cNvSpPr/>
          <p:nvPr/>
        </p:nvSpPr>
        <p:spPr>
          <a:xfrm>
            <a:off x="287280" y="1052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робуйте назвать арифметическ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4"/>
          <p:cNvSpPr/>
          <p:nvPr/>
        </p:nvSpPr>
        <p:spPr>
          <a:xfrm>
            <a:off x="216000" y="981000"/>
            <a:ext cx="871200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Backspace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аление последней введенной циф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 467 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удаление последнего введен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 15+2 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→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олностью очищает калькулятор (кроме памя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 15+5 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319640" y="1052640"/>
            <a:ext cx="46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8920" y="11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с памя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313000"/>
            <a:ext cx="84978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M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Clea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очистка ячейки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Rea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чтение из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S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запись числа в пам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3413"/>
                </a:solidFill>
                <a:latin typeface="Times New Roman"/>
              </a:rPr>
              <a:t>M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бавление числа из поля ввода к числу из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УЖНО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РЕДСТАВЬТЕ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836640"/>
            <a:ext cx="91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работаете продавцом в компьютерном магаз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ставитель крупной фирмы,  приобрет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ноутбук итоговый копия"/>
          <p:cNvPicPr/>
          <p:nvPr/>
        </p:nvPicPr>
        <p:blipFill>
          <a:blip r:embed="rId1"/>
          <a:stretch/>
        </p:blipFill>
        <p:spPr>
          <a:xfrm>
            <a:off x="4608360" y="2997360"/>
            <a:ext cx="2232000" cy="180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клавиатура"/>
          <p:cNvPicPr/>
          <p:nvPr/>
        </p:nvPicPr>
        <p:blipFill>
          <a:blip r:embed="rId2"/>
          <a:stretch/>
        </p:blipFill>
        <p:spPr>
          <a:xfrm>
            <a:off x="250920" y="3765600"/>
            <a:ext cx="194472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колонки"/>
          <p:cNvPicPr/>
          <p:nvPr/>
        </p:nvPicPr>
        <p:blipFill>
          <a:blip r:embed="rId3"/>
          <a:stretch/>
        </p:blipFill>
        <p:spPr>
          <a:xfrm>
            <a:off x="4680000" y="1844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сканер копия"/>
          <p:cNvPicPr/>
          <p:nvPr/>
        </p:nvPicPr>
        <p:blipFill>
          <a:blip r:embed="rId4"/>
          <a:stretch/>
        </p:blipFill>
        <p:spPr>
          <a:xfrm>
            <a:off x="358920" y="2787480"/>
            <a:ext cx="1441440" cy="1154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принтер копия"/>
          <p:cNvPicPr/>
          <p:nvPr/>
        </p:nvPicPr>
        <p:blipFill>
          <a:blip r:embed="rId5"/>
          <a:stretch/>
        </p:blipFill>
        <p:spPr>
          <a:xfrm>
            <a:off x="395280" y="166536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1763640" y="191628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5360 р. – 5 ш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1763640" y="29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4600 р. – 8 ш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087640" y="42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1230 р. – 6 ш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867280" y="2097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800 р. – 3 шт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5940360" y="339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 21600 р. – 15 ш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87280" y="494172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времени Вам понадобится, чтобы назвать покупателю итоговую сумму, при условии, что вычисления нужно производить без использования специальных устройств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2"/>
          <p:cNvSpPr/>
          <p:nvPr/>
        </p:nvSpPr>
        <p:spPr>
          <a:xfrm>
            <a:off x="2087640" y="2455200"/>
            <a:ext cx="45370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54+392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Алгоритм выполнения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набрать число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15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нажать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 набрать число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29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нажать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0" y="765000"/>
            <a:ext cx="8964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 и Ёжик решили построить башню из деталей строительного конструктора. Было использовано 154  кубика и 292 бруска. Сколько всего деталей Крош и Ёжик задействовали для строительства башни?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287280" y="5516640"/>
            <a:ext cx="8461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2900" spc="-1" strike="noStrike">
                <a:solidFill>
                  <a:srgbClr val="fb3413"/>
                </a:solidFill>
                <a:latin typeface="Times New Roman"/>
              </a:rPr>
              <a:t>446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талей использовали Крош и Ёжик для строительства башн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2" descr="ежик"/>
          <p:cNvPicPr/>
          <p:nvPr/>
        </p:nvPicPr>
        <p:blipFill>
          <a:blip r:embed="rId1"/>
          <a:stretch/>
        </p:blipFill>
        <p:spPr>
          <a:xfrm>
            <a:off x="216000" y="3249720"/>
            <a:ext cx="1968480" cy="230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крош"/>
          <p:cNvPicPr/>
          <p:nvPr/>
        </p:nvPicPr>
        <p:blipFill>
          <a:blip r:embed="rId2"/>
          <a:stretch/>
        </p:blipFill>
        <p:spPr>
          <a:xfrm>
            <a:off x="6551640" y="2889360"/>
            <a:ext cx="2028960" cy="2689200"/>
          </a:xfrm>
          <a:prstGeom prst="rect">
            <a:avLst/>
          </a:prstGeom>
          <a:ln w="0">
            <a:noFill/>
          </a:ln>
        </p:spPr>
      </p:pic>
      <p:sp>
        <p:nvSpPr>
          <p:cNvPr id="21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24000" y="1665360"/>
            <a:ext cx="83898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умайте любое трехзнач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шите его в поле в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ножьте задуманное число н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ответу прибавьт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ответу прибавьте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ответа вычтите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ите ответ н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тите из ответа задуман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31640" y="10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не волшебник, я только учу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волшебник"/>
          <p:cNvPicPr/>
          <p:nvPr/>
        </p:nvPicPr>
        <p:blipFill>
          <a:blip r:embed="rId1"/>
          <a:stretch/>
        </p:blipFill>
        <p:spPr>
          <a:xfrm>
            <a:off x="6767640" y="2097000"/>
            <a:ext cx="2019240" cy="2981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0"/>
          <p:cNvSpPr/>
          <p:nvPr/>
        </p:nvSpPr>
        <p:spPr>
          <a:xfrm>
            <a:off x="863640" y="558972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 вас получилось число </a:t>
            </a:r>
            <a:r>
              <a:rPr b="1" lang="ru-RU" sz="4000" spc="-1" strike="noStrike">
                <a:solidFill>
                  <a:srgbClr val="fb3413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24000" y="1080000"/>
            <a:ext cx="8424720" cy="2531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 реш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Введите число, состоящее из девяти единиц, и разделите его на 9. Каких цифр нет в получившемся чис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В сутках 24 часа. Сколько часов в недел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58920" y="4032720"/>
            <a:ext cx="5076720" cy="204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35*5+8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589+235-69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45*8/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5580000" y="4010400"/>
            <a:ext cx="3095640" cy="204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0 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4)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168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3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солнышко-моргает"/>
          <p:cNvPicPr/>
          <p:nvPr/>
        </p:nvPicPr>
        <p:blipFill>
          <a:blip r:embed="rId1"/>
          <a:stretch/>
        </p:blipFill>
        <p:spPr>
          <a:xfrm>
            <a:off x="1368360" y="1724040"/>
            <a:ext cx="5435640" cy="4587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6"/>
          <p:cNvSpPr/>
          <p:nvPr/>
        </p:nvSpPr>
        <p:spPr>
          <a:xfrm>
            <a:off x="2556000" y="944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87280" y="944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ь глаза и посидеть спокой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ленно считая до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солнышко спит"/>
          <p:cNvPicPr/>
          <p:nvPr/>
        </p:nvPicPr>
        <p:blipFill>
          <a:blip r:embed="rId1"/>
          <a:stretch/>
        </p:blipFill>
        <p:spPr>
          <a:xfrm>
            <a:off x="2087640" y="1844640"/>
            <a:ext cx="5292720" cy="4468680"/>
          </a:xfrm>
          <a:prstGeom prst="rect">
            <a:avLst/>
          </a:prstGeom>
          <a:ln w="0">
            <a:noFill/>
          </a:ln>
        </p:spPr>
      </p:pic>
      <p:sp>
        <p:nvSpPr>
          <p:cNvPr id="22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826920" y="1089000"/>
            <a:ext cx="69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глазами влево-в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солнышко-влево-вправо"/>
          <p:cNvPicPr/>
          <p:nvPr/>
        </p:nvPicPr>
        <p:blipFill>
          <a:blip r:embed="rId1"/>
          <a:stretch/>
        </p:blipFill>
        <p:spPr>
          <a:xfrm>
            <a:off x="1871640" y="1808280"/>
            <a:ext cx="5329440" cy="4498920"/>
          </a:xfrm>
          <a:prstGeom prst="rect">
            <a:avLst/>
          </a:prstGeom>
          <a:ln w="0">
            <a:noFill/>
          </a:ln>
        </p:spPr>
      </p:pic>
      <p:sp>
        <p:nvSpPr>
          <p:cNvPr id="23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863640" y="10159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ижение глазами вверх-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6" descr="солнышко-вниз-вверх"/>
          <p:cNvPicPr/>
          <p:nvPr/>
        </p:nvPicPr>
        <p:blipFill>
          <a:blip r:embed="rId1"/>
          <a:stretch/>
        </p:blipFill>
        <p:spPr>
          <a:xfrm>
            <a:off x="1476360" y="1628640"/>
            <a:ext cx="5545080" cy="4680000"/>
          </a:xfrm>
          <a:prstGeom prst="rect">
            <a:avLst/>
          </a:prstGeom>
          <a:ln w="0">
            <a:noFill/>
          </a:ln>
        </p:spPr>
      </p:pic>
      <p:sp>
        <p:nvSpPr>
          <p:cNvPr id="23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2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24000" y="87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мотреть на переносиц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тем перевести взгляд в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6" descr="солнышко_переносица"/>
          <p:cNvPicPr/>
          <p:nvPr/>
        </p:nvPicPr>
        <p:blipFill>
          <a:blip r:embed="rId1"/>
          <a:stretch/>
        </p:blipFill>
        <p:spPr>
          <a:xfrm>
            <a:off x="1871640" y="1808280"/>
            <a:ext cx="5508720" cy="4649760"/>
          </a:xfrm>
          <a:prstGeom prst="rect">
            <a:avLst/>
          </a:prstGeom>
          <a:ln w="0">
            <a:noFill/>
          </a:ln>
        </p:spPr>
      </p:pic>
      <p:sp>
        <p:nvSpPr>
          <p:cNvPr id="241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1280" y="836280"/>
            <a:ext cx="856944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ирма закупила в магазине 5 принтеров по цене 5360 рублей и 8 сканеров по цене 4600 рублей. Какую сумму потратила фирма на приобретение оборудовани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принтер"/>
          <p:cNvPicPr/>
          <p:nvPr/>
        </p:nvPicPr>
        <p:blipFill>
          <a:blip r:embed="rId1"/>
          <a:stretch/>
        </p:blipFill>
        <p:spPr>
          <a:xfrm>
            <a:off x="1403280" y="2708280"/>
            <a:ext cx="2052720" cy="20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сканер"/>
          <p:cNvPicPr/>
          <p:nvPr/>
        </p:nvPicPr>
        <p:blipFill>
          <a:blip r:embed="rId2"/>
          <a:stretch/>
        </p:blipFill>
        <p:spPr>
          <a:xfrm>
            <a:off x="5580000" y="2852640"/>
            <a:ext cx="2016360" cy="1613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9"/>
          <p:cNvSpPr/>
          <p:nvPr/>
        </p:nvSpPr>
        <p:spPr>
          <a:xfrm>
            <a:off x="287280" y="458136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на за 1 штуку: 5360 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ичество: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680000" y="454500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на за 1 штуку: 4600 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ичество: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1871640" y="5589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 5360*5+4600*8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324000" y="2781360"/>
            <a:ext cx="4103640" cy="28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4643280" y="2781360"/>
            <a:ext cx="4176720" cy="28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5640" y="836280"/>
            <a:ext cx="856908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м порядок действ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431640" y="2023920"/>
            <a:ext cx="8172720" cy="2449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НАПОМИН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ядок действ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 действия в скобках (в порядке их след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  умножение и деление (в порядке их след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  сложение и вычитание (в порядке их след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19280" y="9079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360*5+4600*8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2340000" y="4724280"/>
            <a:ext cx="4032360" cy="965160"/>
          </a:xfrm>
          <a:prstGeom prst="rect">
            <a:avLst/>
          </a:prstGeom>
          <a:ln w="0">
            <a:noFill/>
          </a:ln>
        </p:spPr>
      </p:pic>
      <p:sp>
        <p:nvSpPr>
          <p:cNvPr id="25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92583167 копия"/>
          <p:cNvPicPr/>
          <p:nvPr/>
        </p:nvPicPr>
        <p:blipFill>
          <a:blip r:embed="rId1"/>
          <a:stretch/>
        </p:blipFill>
        <p:spPr>
          <a:xfrm>
            <a:off x="216000" y="981000"/>
            <a:ext cx="3601800" cy="4068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58920" y="379440"/>
            <a:ext cx="42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3"/>
          <p:cNvSpPr txBox="1"/>
          <p:nvPr/>
        </p:nvSpPr>
        <p:spPr>
          <a:xfrm>
            <a:off x="3816360" y="1413000"/>
            <a:ext cx="496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АЛЬКУЛЯТОР –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МОЩН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ТЕМАТИ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 rot="2082000">
            <a:off x="2878920" y="5229000"/>
            <a:ext cx="29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856 + 68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 rot="1327800">
            <a:off x="684000" y="49053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669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: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356000" y="44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123123 – 473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 rot="367800">
            <a:off x="5472000" y="533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557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  <a:ea typeface="Arial"/>
              </a:rPr>
              <a:t>• 1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 rot="21220200">
            <a:off x="431640" y="5516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45 + 37 + 2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144936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Алгоритм выполнения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) набр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5360*5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наж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268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2) нажать </a:t>
            </a:r>
            <a:r>
              <a:rPr b="1" lang="en-US" sz="2100" spc="-1" strike="noStrike">
                <a:solidFill>
                  <a:srgbClr val="fb3413"/>
                </a:solidFill>
                <a:latin typeface="Times New Roman"/>
              </a:rPr>
              <a:t>MS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ячейка памяти примет вид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3) наж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поле ввода появится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) набр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4600*8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наж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368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) нажать  </a:t>
            </a:r>
            <a:r>
              <a:rPr b="1" lang="en-US" sz="2100" spc="-1" strike="noStrike">
                <a:solidFill>
                  <a:srgbClr val="fb3413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6) нажать </a:t>
            </a:r>
            <a:r>
              <a:rPr b="1" lang="en-US" sz="2100" spc="-1" strike="noStrike">
                <a:solidFill>
                  <a:srgbClr val="fb3413"/>
                </a:solidFill>
                <a:latin typeface="Times New Roman"/>
              </a:rPr>
              <a:t>M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явится число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268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7) нажать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100" spc="-1" strike="noStrike">
                <a:solidFill>
                  <a:srgbClr val="fb3413"/>
                </a:solidFill>
                <a:latin typeface="Times New Roman"/>
              </a:rPr>
              <a:t>636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твет: фирма потратила 63600 рублей на приобретение техник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3" descr="ячейка памяти_1"/>
          <p:cNvPicPr/>
          <p:nvPr/>
        </p:nvPicPr>
        <p:blipFill>
          <a:blip r:embed="rId1"/>
          <a:stretch/>
        </p:blipFill>
        <p:spPr>
          <a:xfrm>
            <a:off x="5184720" y="2384280"/>
            <a:ext cx="432000" cy="4446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4788000" y="3284640"/>
            <a:ext cx="3600360" cy="216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в вычис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удьте нажать </a:t>
            </a:r>
            <a:r>
              <a:rPr b="1" lang="en-US" sz="2400" spc="-1" strike="noStrike">
                <a:solidFill>
                  <a:srgbClr val="fb3413"/>
                </a:solidFill>
                <a:latin typeface="Times New Roman"/>
              </a:rPr>
              <a:t>M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очис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чейку памя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3095640" y="907920"/>
            <a:ext cx="2556000" cy="611280"/>
          </a:xfrm>
          <a:prstGeom prst="rect">
            <a:avLst/>
          </a:prstGeom>
          <a:ln w="0">
            <a:noFill/>
          </a:ln>
        </p:spPr>
      </p:pic>
      <p:sp>
        <p:nvSpPr>
          <p:cNvPr id="26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58560" y="907920"/>
            <a:ext cx="8569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22-6)*(3+5)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м порядок действ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выпол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набр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122-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ж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1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нажать </a:t>
            </a:r>
            <a:r>
              <a:rPr b="1" lang="en-US" sz="2000" spc="-1" strike="noStrike">
                <a:solidFill>
                  <a:srgbClr val="fb3413"/>
                </a:solidFill>
                <a:latin typeface="Times New Roman"/>
              </a:rPr>
              <a:t>M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ячейка памяти примет в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наж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ле ввода появится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набр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3+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ж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нажать 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нажать </a:t>
            </a:r>
            <a:r>
              <a:rPr b="1" lang="en-US" sz="2000" spc="-1" strike="noStrike">
                <a:solidFill>
                  <a:srgbClr val="fb3413"/>
                </a:solidFill>
                <a:latin typeface="Times New Roman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тся число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1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) нажать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ится число </a:t>
            </a:r>
            <a:r>
              <a:rPr b="1" lang="ru-RU" sz="2000" spc="-1" strike="noStrike">
                <a:solidFill>
                  <a:srgbClr val="fb3413"/>
                </a:solidFill>
                <a:latin typeface="Times New Roman"/>
              </a:rPr>
              <a:t>9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: 9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ячейка памяти_1"/>
          <p:cNvPicPr/>
          <p:nvPr/>
        </p:nvPicPr>
        <p:blipFill>
          <a:blip r:embed="rId1"/>
          <a:stretch/>
        </p:blipFill>
        <p:spPr>
          <a:xfrm>
            <a:off x="5040360" y="2876400"/>
            <a:ext cx="431640" cy="444600"/>
          </a:xfrm>
          <a:prstGeom prst="rect">
            <a:avLst/>
          </a:prstGeom>
          <a:ln w="0">
            <a:noFill/>
          </a:ln>
        </p:spPr>
      </p:pic>
      <p:sp>
        <p:nvSpPr>
          <p:cNvPr id="267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2"/>
          <a:stretch/>
        </p:blipFill>
        <p:spPr>
          <a:xfrm>
            <a:off x="3743280" y="1571760"/>
            <a:ext cx="15494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ОТ ЗНАНИЯ К УМ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042920" y="32497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95280" y="2529000"/>
            <a:ext cx="8317080" cy="3205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b3413"/>
                </a:solidFill>
                <a:latin typeface="Times New Roman"/>
              </a:rPr>
              <a:t>ПАМЯТ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b3413"/>
                </a:solidFill>
                <a:latin typeface="Times New Roman"/>
              </a:rPr>
              <a:t>MC</a:t>
            </a:r>
            <a:r>
              <a:rPr b="1" lang="ru-RU" sz="30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очистка ячейки 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b3413"/>
                </a:solidFill>
                <a:latin typeface="Times New Roman"/>
              </a:rPr>
              <a:t>MR</a:t>
            </a:r>
            <a:r>
              <a:rPr b="1" lang="ru-RU" sz="30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чтение из 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b3413"/>
                </a:solidFill>
                <a:latin typeface="Times New Roman"/>
              </a:rPr>
              <a:t>MS</a:t>
            </a:r>
            <a:r>
              <a:rPr b="1" lang="ru-RU" sz="3000" spc="-1" strike="noStrike">
                <a:solidFill>
                  <a:srgbClr val="fb3413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запись числа в пам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b3413"/>
                </a:solidFill>
                <a:latin typeface="Times New Roman"/>
              </a:rPr>
              <a:t>M+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прибавление числа из поля ввода к числу из пам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0920" y="1125360"/>
            <a:ext cx="8316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 реш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24*5)+(66/2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796000" y="17334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3413"/>
                </a:solidFill>
                <a:latin typeface="Times New Roman"/>
              </a:rPr>
              <a:t>6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ОДВОДИМ 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68360" y="1413000"/>
            <a:ext cx="4464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(а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интересн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аучился(лась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еня получилось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1191268972_c4107 копия"/>
          <p:cNvPicPr/>
          <p:nvPr/>
        </p:nvPicPr>
        <p:blipFill>
          <a:blip r:embed="rId1"/>
          <a:stretch/>
        </p:blipFill>
        <p:spPr>
          <a:xfrm>
            <a:off x="4824360" y="1015920"/>
            <a:ext cx="4081680" cy="40608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232000" y="5445000"/>
            <a:ext cx="4356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ЛОДЦЫ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87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тать учебни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11  стр.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9 слов, относящихся к теме «Калькулятор – помощник математик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835280" y="2744640"/>
          <a:ext cx="4968720" cy="3675240"/>
        </p:xfrm>
        <a:graphic>
          <a:graphicData uri="http://schemas.openxmlformats.org/drawingml/2006/table">
            <a:tbl>
              <a:tblPr/>
              <a:tblGrid>
                <a:gridCol w="620640"/>
                <a:gridCol w="622080"/>
                <a:gridCol w="621000"/>
                <a:gridCol w="620640"/>
                <a:gridCol w="620640"/>
                <a:gridCol w="620640"/>
                <a:gridCol w="622440"/>
                <a:gridCol w="620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23640" y="1160280"/>
            <a:ext cx="838836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тика. 5-6 класс. Начальный курс: Учебник / Под редакцией Н. В. Макар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браж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слайд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noutremontirui.ru/remont-noutbukov-lenovo-v-barnaule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domodedovo.sravni.com/images/mid=58807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ilost.ru/?p=2&amp;p2=90000&amp;pi=0&amp;start=14&amp;sort=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office-world.ru/catalo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слайд - http://7kilometr.com/rus/new/Novie-postupleniya-kalkulyatorov-Kalkulyatori-Ukraina-Kalkulyator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-10 слайды  - http://www.arif-ru.narod.ru/hi/felix.ht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computerhistory.narod.ru/vichislit_prisposob_ustrojstva.ht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osp.ru/cw/2000/39/7407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 слайд - http://www.dukat.ua/products/office-equipment/calculators/accounting/citizen/gd0657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 слайд - http://www.tunnel.ru/view/post:1011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2 слайд - http://www.xrest.ru/preview/400269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3 слайд - http://allday.ru/2007/10/02/shkola__vektornye_kliparty_dlja_illustrator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532080" y="836640"/>
            <a:ext cx="85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здании данной презентации использовался материал из 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727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ем, какие приспособления для вычислений использовались с древних време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мся с программой Калькулят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м простые и сложные выч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СЕГОДНЯ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86920" y="1125000"/>
            <a:ext cx="8497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ей Греции и Древнем Рим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ли счетную доску - </a:t>
            </a:r>
            <a:r>
              <a:rPr b="1" i="1" lang="ru-RU" sz="3200" spc="-1" strike="noStrike" u="sng">
                <a:solidFill>
                  <a:srgbClr val="fb3413"/>
                </a:solidFill>
                <a:uFillTx/>
                <a:latin typeface="Times New Roman"/>
              </a:rPr>
              <a:t>аб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5" descr="abak_drevnegrehceskiy"/>
          <p:cNvPicPr/>
          <p:nvPr/>
        </p:nvPicPr>
        <p:blipFill>
          <a:blip r:embed="rId1"/>
          <a:stretch/>
        </p:blipFill>
        <p:spPr>
          <a:xfrm>
            <a:off x="324000" y="2565360"/>
            <a:ext cx="4357440" cy="231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bak rimskii"/>
          <p:cNvPicPr/>
          <p:nvPr/>
        </p:nvPicPr>
        <p:blipFill>
          <a:blip r:embed="rId2"/>
          <a:stretch/>
        </p:blipFill>
        <p:spPr>
          <a:xfrm>
            <a:off x="4788000" y="3033720"/>
            <a:ext cx="3932280" cy="2548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0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76360" y="1160640"/>
            <a:ext cx="80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ем Китае выполнять вычисления помогало приспособление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уан-п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4" descr="suan_pan_china"/>
          <p:cNvPicPr/>
          <p:nvPr/>
        </p:nvPicPr>
        <p:blipFill>
          <a:blip r:embed="rId1"/>
          <a:stretch/>
        </p:blipFill>
        <p:spPr>
          <a:xfrm>
            <a:off x="1619280" y="2492280"/>
            <a:ext cx="6146640" cy="3454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9280" y="1089000"/>
            <a:ext cx="802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недавнего времени для расчетов использовали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ч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4" descr="schot"/>
          <p:cNvPicPr/>
          <p:nvPr/>
        </p:nvPicPr>
        <p:blipFill>
          <a:blip r:embed="rId1"/>
          <a:stretch/>
        </p:blipFill>
        <p:spPr>
          <a:xfrm>
            <a:off x="2556000" y="2168640"/>
            <a:ext cx="3836880" cy="4032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311640" y="1160640"/>
            <a:ext cx="551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642 году Блез Паскаль изобрел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суммирующую маш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4" descr="pascalina"/>
          <p:cNvPicPr/>
          <p:nvPr/>
        </p:nvPicPr>
        <p:blipFill>
          <a:blip r:embed="rId1"/>
          <a:stretch/>
        </p:blipFill>
        <p:spPr>
          <a:xfrm>
            <a:off x="3600360" y="29242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blaise_pascal"/>
          <p:cNvPicPr/>
          <p:nvPr/>
        </p:nvPicPr>
        <p:blipFill>
          <a:blip r:embed="rId2"/>
          <a:stretch/>
        </p:blipFill>
        <p:spPr>
          <a:xfrm>
            <a:off x="503280" y="1160640"/>
            <a:ext cx="2827440" cy="3455640"/>
          </a:xfrm>
          <a:prstGeom prst="rect">
            <a:avLst/>
          </a:prstGeom>
          <a:ln w="0">
            <a:noFill/>
          </a:ln>
        </p:spPr>
      </p:pic>
      <p:sp>
        <p:nvSpPr>
          <p:cNvPr id="128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376360" y="1015560"/>
            <a:ext cx="651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90 году начато серийное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арифмометров Одн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арифмометрам Однера относится знаменитый </a:t>
            </a:r>
            <a:r>
              <a:rPr b="1" i="1" lang="ru-RU" sz="3200" spc="-1" strike="noStrike">
                <a:solidFill>
                  <a:srgbClr val="fb3413"/>
                </a:solidFill>
                <a:latin typeface="Times New Roman"/>
              </a:rPr>
              <a:t>«Фелик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5" descr="arifm_feliks"/>
          <p:cNvPicPr/>
          <p:nvPr/>
        </p:nvPicPr>
        <p:blipFill>
          <a:blip r:embed="rId1"/>
          <a:stretch/>
        </p:blipFill>
        <p:spPr>
          <a:xfrm>
            <a:off x="2484360" y="3573360"/>
            <a:ext cx="3564000" cy="2770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216000" y="3794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Willgodt_Theophil_Odhner"/>
          <p:cNvPicPr/>
          <p:nvPr/>
        </p:nvPicPr>
        <p:blipFill>
          <a:blip r:embed="rId2"/>
          <a:stretch/>
        </p:blipFill>
        <p:spPr>
          <a:xfrm>
            <a:off x="395280" y="1089000"/>
            <a:ext cx="188928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287280" y="368136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. Т. Од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395280" y="800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01:04Z</dcterms:created>
  <dc:creator>Светлана</dc:creator>
  <dc:description/>
  <dc:language>en-US</dc:language>
  <cp:lastModifiedBy>1</cp:lastModifiedBy>
  <dcterms:modified xsi:type="dcterms:W3CDTF">2014-10-06T12:18:24Z</dcterms:modified>
  <cp:revision>153</cp:revision>
  <dc:subject/>
  <dc:title>Слайд 1</dc:title>
</cp:coreProperties>
</file>