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CF9-94FF-4347-B263-930B820B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53F-DD25-4800-9DD8-1ABB7BFA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FA6-F5B3-46B8-8884-1A5FD520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9C4-AB0B-48CF-8F8E-FA80C296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97ED-0792-4704-9028-4505098A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25B4-0177-49BD-A3E5-C81C1D1A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3D4A-C4C2-4885-9E0B-8E2F9241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88A3-1773-4847-93E4-134F4D61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5F5E-71BF-4071-A8A2-5FC282F7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EE5F-5BE5-4BDF-A610-D3D14115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4038-C934-4142-9613-4851C4EA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E5D-CEB7-43AF-BCD3-C967B03B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AF20-356E-4F66-B7B6-7527E348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8F83-5BC2-45A8-A1A2-47881117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10CA-015A-44FA-9836-7BBBFBD9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697F-17DB-45CA-BB06-4DE41920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7EF4-0D2D-4F6D-9C9F-13F95CE4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1F97-7CCD-4DBB-B77F-7D0CD057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E16B-6D45-43A2-B428-8458CF48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D2437-6F82-40BA-BD60-DB9292C0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8A37-7157-49C9-ADCB-6039EBC3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ED7A-D04A-483E-A36D-C0D76564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394-6DC6-4361-92A2-4C8977A8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EAE1D-1F97-476F-86BC-F032E0C2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FDEE-AE3A-4769-A121-BE6C18D2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D76B8-9624-4EF9-B6BC-9674B3FC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FAB8-0E5B-4B00-98C5-DE8E1371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F2F4-262A-44D4-B1E3-590FDEBA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0123-3E58-419B-B592-FB0E9694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3554F-7011-453B-865A-140773F8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1355-F92F-4BC1-B8BD-848316BE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14D7-6403-4DAB-83E9-77207FB4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3D54-AB9B-43E7-A7F5-0B1A93F8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669-D0FC-4518-94C2-ECE05ED6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92CD-037C-4448-8936-DE3872F2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12EA-4779-4FC1-95DF-B873A5B5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0083-CF86-43D0-B40B-E0BB42B7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553D-D92A-490F-8E31-EF8A2B77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D321B-9DE3-4070-BA7D-6FE62450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39CD0-F0D2-4258-8FF2-13B448E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8189-3240-4CE4-8377-2F732079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FB83-751F-48EF-9A00-2EFD5C37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EECB-FF69-4366-B6AD-A08BADF7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5C1-D5CC-4924-9173-2BF9D5B7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D6B-40FE-4A1D-A343-9E57D1FB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C9D-949A-442B-B0E8-1429C721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93A-C898-4150-9F67-DEAD1C89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C6C-BD6C-4209-BB30-5B1556D4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4298-97AE-4292-B8A3-290D9A698A1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E4D3-A8B2-4F46-B09A-C4932781287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9C41-DD4F-498A-B6C3-102E09EEF28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B6F5-4635-4636-86A1-AB77E0774A8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noenglish.ru/file_4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41360"/>
            <a:ext cx="786456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Let’s learn the ABC together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e has a d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, a f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 and an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Λ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an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49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f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ju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an has a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, a t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ey and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orange j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c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Овал 6"/>
          <p:cNvSpPr/>
          <p:nvPr/>
        </p:nvSpPr>
        <p:spPr>
          <a:xfrm rot="20311200">
            <a:off x="5929200" y="164268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Овал 5"/>
          <p:cNvSpPr/>
          <p:nvPr/>
        </p:nvSpPr>
        <p:spPr>
          <a:xfrm rot="1801800">
            <a:off x="4071960" y="187272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60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Y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w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 f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an f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and a bab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an’t f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ome combination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 [u]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L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, here is a b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. We can c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 [u:]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re is a p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 near our sch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 [i:]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 s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a b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n a tr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 [i:]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 like t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and m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. I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 m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b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70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b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еред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e, i, 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ity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77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i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t∫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ea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s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 [t∫]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ldren re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for a pe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 [k]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N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has a st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d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du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87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d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the  ABC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935000"/>
          <a:ext cx="8229600" cy="41371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a</a:t>
                      </a: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B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C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D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E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F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G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H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I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Jj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K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L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M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N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O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P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Qq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R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S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T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U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V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W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X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Y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Zz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  <p:pic>
        <p:nvPicPr>
          <p:cNvPr id="199" name="abc song.mp3" descr=""/>
          <p:cNvPicPr/>
          <p:nvPr/>
        </p:nvPicPr>
        <p:blipFill>
          <a:blip r:embed="rId1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20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f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93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f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g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gl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d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еред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e, i, 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orang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ŋ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o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G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 [ŋ] Si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 so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 Bri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me a ri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roll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own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ng, rolling past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ng, rolling in the snow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ng, rolling off we g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puff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own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ng, puffing past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ng, puffing in the snow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ng, puffing off we g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ff we go! Off we go!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h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h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09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it∫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d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4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15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Jj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d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n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k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nif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itt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22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K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n [n] 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k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w where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k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fe i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l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la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l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m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Содержимое 3" descr=""/>
          <p:cNvPicPr/>
          <p:nvPr/>
        </p:nvPicPr>
        <p:blipFill>
          <a:blip r:embed="rId1"/>
          <a:stretch/>
        </p:blipFill>
        <p:spPr>
          <a:xfrm>
            <a:off x="285840" y="1450800"/>
            <a:ext cx="2506680" cy="3529080"/>
          </a:xfrm>
          <a:prstGeom prst="rect">
            <a:avLst/>
          </a:prstGeom>
          <a:ln w="0">
            <a:noFill/>
          </a:ln>
        </p:spPr>
      </p:pic>
      <p:sp>
        <p:nvSpPr>
          <p:cNvPr id="336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m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n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i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1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42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n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æ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e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05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a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l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f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ph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p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49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14200" y="193464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 [f]    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ne me. Give me a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tofr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and a book on geogr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w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que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57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Q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k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r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r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2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63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a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∫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S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sh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ev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70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 [∫] 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 is in the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p. The f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is in the d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t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ð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79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 [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][ð]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s is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ck book.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nk you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v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7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88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V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v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h [w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wh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r [r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w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95" name="Овал 4"/>
          <p:cNvSpPr/>
          <p:nvPr/>
        </p:nvSpPr>
        <p:spPr>
          <a:xfrm>
            <a:off x="5072040" y="2571840"/>
            <a:ext cx="164304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´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e h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,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d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b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s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on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m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d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e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r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wh [w]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t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re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ch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n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y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wr [r]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ng number. You 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n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2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403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k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z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z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409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Z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zed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2" name="Содержимое 3" descr="http://files.1september.ru/festival/articles/519002/Image4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Now you know the ABC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A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 I know my ABC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xt time want you sing with m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A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 I know my ABC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l me what you think of me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abc song.mp3" descr=""/>
          <p:cNvPicPr/>
          <p:nvPr/>
        </p:nvPicPr>
        <p:blipFill>
          <a:blip r:embed="rId1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8206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00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ank you for attentio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териал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ементьева Т.Б., Монк Б. Счастливый английский. Кн.1: Учеб. для 5-6 кл. сред. шк. – М.: Просвещение, 199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noenglish.ru/file_4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e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16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h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* has 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and 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um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* h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h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an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gin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ing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x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g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k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27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´ ai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f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e has 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, a b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 and a f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 a w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 d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 a j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 on a tw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o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R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o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o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э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sha&amp;Yulya</cp:lastModifiedBy>
  <dcterms:modified xsi:type="dcterms:W3CDTF">2010-07-18T11:00:11Z</dcterms:modified>
  <cp:revision>48</cp:revision>
  <dc:subject/>
  <dc:title>The ABC</dc:title>
</cp:coreProperties>
</file>