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656-FE84-4240-A958-06C6588A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84D-0A4F-43E1-8D82-F0686BED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35E-0281-4693-85E0-C2D167AC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F69-52BE-4860-84BF-728912B6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84C1-FCFD-49EF-91B0-DF75A3ED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28A-D223-4300-A702-9A84169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F9CD-36BE-4ADF-8BFA-77A7CFD1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3D60-895D-46E9-8877-DB67DE4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6CB8-5636-4B7B-BBF0-2360F67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CA3-8984-4F49-821E-B41FB5D2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97BD-B379-431B-92D1-1B4F548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E37-5AA6-4050-882C-3A16D6DF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7F6-4F15-4098-9E59-62C3F27C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7FE3-1938-4073-87A0-2709918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704-5FBF-409A-8C7E-0F6A1A60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518F-73AB-4A3D-BAAE-2D5BD9F9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F1B-370D-47FF-858C-A010F28B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EFC-5EE0-4EF5-8C71-4068E5F0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BC0-4D7B-4E95-AFF1-14261DF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097-836F-497A-B758-C26CAC51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6C2-FE8C-436B-8077-A8E5667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EA4-94C9-4890-A699-CFE9585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16C-F442-4B10-BADF-9C5E6A4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45C-4D67-41EB-AC79-D99CE6B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97E-2E34-4AC5-A8E1-7DB99E8FF20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5839-3E30-408F-8A42-D526977827A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Основные типы данных языка Паск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879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Операторы ввода и вы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Для сообщения данных компьютеру служат операторы ввода/вывода. Оператор ввода помещает вводимое значение переменной в отведенную для него ячейку памяти. Оператор ввода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read(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список имен переменных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станавливает работу программы и ждет, когда пользователь наберет число и нажмет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&lt;ENTER&gt;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ператор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readln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используется для задержки результата на экране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ератор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write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водит данные на экран. Список вывода – перечисленные через запятую имена результатов или арифметические выражения, являющиеся результатом работы программы, а также пояснения результат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Например,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write(‘</a:t>
            </a:r>
            <a:r>
              <a:rPr b="1" i="1" lang="ru-RU" sz="2400" spc="-1" strike="noStrike">
                <a:solidFill>
                  <a:srgbClr val="cc9900"/>
                </a:solidFill>
                <a:latin typeface="Arial"/>
              </a:rPr>
              <a:t>х=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’</a:t>
            </a:r>
            <a:r>
              <a:rPr b="1" i="1" lang="ru-RU" sz="2400" spc="-1" strike="noStrike">
                <a:solidFill>
                  <a:srgbClr val="cc9900"/>
                </a:solidFill>
                <a:latin typeface="Arial"/>
              </a:rPr>
              <a:t>,х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cc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280" y="1611360"/>
            <a:ext cx="76611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ычислите значение функци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=x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и х=7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2565360"/>
            <a:ext cx="770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ogram Kvadra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onst x=7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Var y:integer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Y:=SQR(x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ritel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‘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Значение функц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y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при х=7 равно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nd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Пример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шим ту же задачу для любого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Тогда программа будет выглядеть следующим образом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ogram Koren2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ar x,y:integer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Writeln(‘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ведите значение переменной х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Read(x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:=sqr(x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Writeln(‘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Значение функции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y 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и х равном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’,x, ‘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равно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’,y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Самостоятельные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писать программу вычисления функци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y=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и любом х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писать программу вычисления периметра треугольника, если известны все его сторон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писать программу сложения, вычитания, умножения и деления двух вводимых чисел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Составить программу вычисления площади треугольника по формуле Герона, если известны все его стороны.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9900"/>
                </a:solidFill>
                <a:latin typeface="Arial"/>
              </a:rPr>
              <a:t>Типы данны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Типы данных используются для описания переменных и сообщения программе какой объем памяти необходимо зарезервировать под значения этой переменной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Классификация типов дан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360" y="1989000"/>
            <a:ext cx="93672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Типы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03520" y="3213000"/>
            <a:ext cx="2519280" cy="33732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Структурирован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7720" y="1989000"/>
            <a:ext cx="165600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ростые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7560" y="3919680"/>
            <a:ext cx="21592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Указате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3520" y="4581360"/>
            <a:ext cx="215892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17560" y="5157720"/>
            <a:ext cx="21592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роцедурны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03520" y="5834160"/>
            <a:ext cx="215892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08480" y="1989000"/>
            <a:ext cx="18730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орядковые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08480" y="2492280"/>
            <a:ext cx="1873080" cy="64260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ещественны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40120" y="3216240"/>
            <a:ext cx="144144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ассив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40120" y="3807000"/>
            <a:ext cx="144144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Запи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0120" y="4383000"/>
            <a:ext cx="163224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ножеств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40120" y="4959360"/>
            <a:ext cx="144144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Файл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72240" y="1944720"/>
            <a:ext cx="20764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Целы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86640" y="3139920"/>
            <a:ext cx="20890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имволь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86640" y="2549520"/>
            <a:ext cx="20890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Логиче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3745080"/>
            <a:ext cx="20890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еречисляем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5080" y="4349880"/>
            <a:ext cx="2089080" cy="368280"/>
          </a:xfrm>
          <a:prstGeom prst="rect">
            <a:avLst/>
          </a:pr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Тип-диапазон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7" idx="3"/>
            <a:endCxn id="99" idx="1"/>
          </p:cNvCxnSpPr>
          <p:nvPr/>
        </p:nvCxnSpPr>
        <p:spPr>
          <a:xfrm>
            <a:off x="1365120" y="2187360"/>
            <a:ext cx="269280" cy="1080"/>
          </a:xfrm>
          <a:prstGeom prst="straightConnector1">
            <a:avLst/>
          </a:prstGeom>
          <a:ln w="28440">
            <a:solidFill>
              <a:srgbClr val="29292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1476360" y="2190600"/>
            <a:ext cx="0" cy="381636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342900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14972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472428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37372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602136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0760" y="2133720"/>
            <a:ext cx="100836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51280" y="2143080"/>
            <a:ext cx="0" cy="50328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3429000"/>
            <a:ext cx="50472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3429000"/>
            <a:ext cx="0" cy="172872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5157720"/>
            <a:ext cx="29844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4581360"/>
            <a:ext cx="29844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4005360"/>
            <a:ext cx="29844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65720" y="2133720"/>
            <a:ext cx="5032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2133720"/>
            <a:ext cx="0" cy="244764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4581360"/>
            <a:ext cx="289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400536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35772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781360"/>
            <a:ext cx="2160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649600"/>
            <a:ext cx="43344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96480"/>
            <a:ext cx="4962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Arial"/>
              </a:rPr>
              <a:t>Целые тип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58920" y="1773360"/>
          <a:ext cx="7062480" cy="4487760"/>
        </p:xfrm>
        <a:graphic>
          <a:graphicData uri="http://schemas.openxmlformats.org/drawingml/2006/table">
            <a:tbl>
              <a:tblPr/>
              <a:tblGrid>
                <a:gridCol w="1942920"/>
                <a:gridCol w="3529080"/>
                <a:gridCol w="1590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лина, байт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yte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…255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hortInt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128…+127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…65535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teger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32768…+32767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LongInt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2147483648…+214748364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Процедуры и функции, применимые к целым тип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6280" y="1916280"/>
          <a:ext cx="8353440" cy="3900240"/>
        </p:xfrm>
        <a:graphic>
          <a:graphicData uri="http://schemas.openxmlformats.org/drawingml/2006/table">
            <a:tbl>
              <a:tblPr/>
              <a:tblGrid>
                <a:gridCol w="1657440"/>
                <a:gridCol w="2303280"/>
                <a:gridCol w="439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Обращен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Действ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bs(x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озвращает модуль х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c(vx[,i]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Уменьшает значение переменной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vx 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а величину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(на 1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без параметра 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c(vx[,i]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Увеличивает значение переменной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vx 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а величину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 1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без параметра 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ndom(w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ак  у параметр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озвращает случайное число из диапазона 0…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w-1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qr(x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озвращает квадрат аргумент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661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Вещественные ти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989000"/>
          <a:ext cx="8497800" cy="3934080"/>
        </p:xfrm>
        <a:graphic>
          <a:graphicData uri="http://schemas.openxmlformats.org/drawingml/2006/table">
            <a:tbl>
              <a:tblPr/>
              <a:tblGrid>
                <a:gridCol w="1225440"/>
                <a:gridCol w="1727280"/>
                <a:gridCol w="1800000"/>
                <a:gridCol w="3745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Длина, бай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Количество значащих циф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Диапазон десятичного поряд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…12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39…+38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ouble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…16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324…+308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xtended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…20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4951…+4932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mp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…20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2*10</a:t>
                      </a:r>
                      <a:r>
                        <a:rPr b="0" lang="en-US" sz="28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63</a:t>
                      </a: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+1…+2*10</a:t>
                      </a:r>
                      <a:r>
                        <a:rPr b="0" lang="en-US" sz="28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63</a:t>
                      </a: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Стандартные математические функции 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682640"/>
          <a:ext cx="8353440" cy="5085000"/>
        </p:xfrm>
        <a:graphic>
          <a:graphicData uri="http://schemas.openxmlformats.org/drawingml/2006/table">
            <a:tbl>
              <a:tblPr/>
              <a:tblGrid>
                <a:gridCol w="1728720"/>
                <a:gridCol w="2178000"/>
                <a:gridCol w="1954080"/>
                <a:gridCol w="2492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Обращен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Тип параметр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Arial Black"/>
                        </a:rPr>
                        <a:t>Abs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, intege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ип аргумент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одуль аргумент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Arctan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Арктангенс (в радианах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синус (угол в радианах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инус (угол в радианах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Pi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=3,141592653…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Arial Black"/>
                        </a:rPr>
                        <a:t>Sqr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intege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вадрат аргумент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, intege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ень квадратны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Экспонент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Ln(x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Логарифм натуральны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Arial"/>
              </a:rPr>
              <a:t>Операц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35280" y="1814400"/>
          <a:ext cx="6119640" cy="4638600"/>
        </p:xfrm>
        <a:graphic>
          <a:graphicData uri="http://schemas.openxmlformats.org/drawingml/2006/table">
            <a:tbl>
              <a:tblPr/>
              <a:tblGrid>
                <a:gridCol w="2232000"/>
                <a:gridCol w="388764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Опера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Действ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&gt;,&lt;=,&gt;=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еравно, меньше равно, больше равно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iv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Целочисленное делен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od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статок от деле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Логическое ИЛ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Логическое 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Логическое отрицани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Оператор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это оператор, используемый для вычисления отношения введенных чисел. В его левой части указывается имя переменной, правая часть представляет собой выражение того же типа, что  и переменна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имволы «:=», связывающие правую и левую части оператора присваивания, означают «присвоить значение»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меры: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y:=x+2   x:=x+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3:53:07Z</dcterms:created>
  <dc:creator>Каичкина О.С.</dc:creator>
  <dc:description/>
  <dc:language>en-US</dc:language>
  <cp:lastModifiedBy>Учитель</cp:lastModifiedBy>
  <dcterms:modified xsi:type="dcterms:W3CDTF">2005-09-23T08:16:57Z</dcterms:modified>
  <cp:revision>38</cp:revision>
  <dc:subject/>
  <dc:title>Основные типы языка Паскаль</dc:title>
</cp:coreProperties>
</file>