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937-5273-44B8-AD97-14E3AA28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E35-C8B6-4DF5-8ED1-9AF42BDB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88B-823B-4708-8E4C-A3668D7A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98B-BACA-4B7D-8BCC-1A0CD446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EF72-77C4-46D9-8501-20B14C25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4237-F556-4EEE-8403-472C710A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5D04-DBEF-4D9B-A70C-62E972AC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ADBB-8D3B-4C25-A29A-31E0577C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18F8-9EB1-4B1A-BE36-39AF89AE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7B53-F40B-4C21-9FB5-B36289B0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0956-1ED7-4544-837D-90B4973D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A1A-B16C-4964-8FCF-93C9E45E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89DD-DEC5-4F46-9368-55541F73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74C1-070F-42C5-8124-6CCB1731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EB24-A385-413A-9B2C-0B36C898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77FC-EFBE-4795-9F86-78226D59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C1B9-AF5B-48F2-B03A-5D7FFDC1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B5B-3CC1-4FB0-A569-39448696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214-54B2-4155-9BF5-57519ED4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911-0645-4FD1-A405-3B69B3DD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0F73-09D3-4CB7-8798-2E4F53A0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C7F-A345-459C-B08C-03EB7DC1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677-E236-4A82-9595-13693A5E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24D-3AF6-4929-BC1C-7C00799E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8BE7-42DC-4D0C-849E-8C76E3985516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7009-E4D8-41E2-B325-04EA2BA54CB1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856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Формирование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коммуникативной компетенции обучающихся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посредством использования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мультимедийной презентационной технологии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на уроках немецкого языка</a:t>
            </a:r>
            <a:r>
              <a:rPr b="1" lang="en-US" sz="3200" spc="-1" strike="noStrike">
                <a:solidFill>
                  <a:srgbClr val="29642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424"/>
                </a:solidFill>
                <a:latin typeface="Times New Roman"/>
              </a:rPr>
              <a:t>Выполнил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424"/>
                </a:solidFill>
                <a:latin typeface="Times New Roman"/>
              </a:rPr>
              <a:t>учитель немецкого язык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424"/>
                </a:solidFill>
                <a:latin typeface="Times New Roman"/>
              </a:rPr>
              <a:t>Николаева Е.В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424"/>
                </a:solidFill>
                <a:latin typeface="Times New Roman"/>
              </a:rPr>
              <a:t>201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96424"/>
                </a:solidFill>
                <a:latin typeface="Times New Roman"/>
              </a:rPr>
              <a:t>Педагогические 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96424"/>
                </a:solidFill>
                <a:latin typeface="Times New Roman"/>
              </a:rPr>
              <a:t>средства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6424"/>
                </a:solidFill>
                <a:latin typeface="Times New Roman"/>
              </a:rPr>
              <a:t>Мультимедиа технология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6424"/>
                </a:solidFill>
                <a:latin typeface="Times New Roman"/>
              </a:rPr>
              <a:t>как методический приём предполагает</a:t>
            </a:r>
            <a:r>
              <a:rPr b="1" lang="en-US" sz="3200" spc="-1" strike="noStrike">
                <a:solidFill>
                  <a:srgbClr val="296424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424"/>
                </a:solidFill>
                <a:latin typeface="Times New Roman"/>
              </a:rPr>
              <a:t>совершенствование системы управления обучением на различных этапах урока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424"/>
                </a:solidFill>
                <a:latin typeface="Times New Roman"/>
              </a:rPr>
              <a:t>усиление мотивации учения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424"/>
                </a:solidFill>
                <a:latin typeface="Times New Roman"/>
              </a:rPr>
              <a:t>улучшение качества обучения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424"/>
                </a:solidFill>
                <a:latin typeface="Times New Roman"/>
              </a:rPr>
              <a:t>повышение уровня подготовки обучающихся в области современных информационных технологий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96424"/>
                </a:solidFill>
                <a:latin typeface="Times New Roman"/>
              </a:rPr>
              <a:t>Технология 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96424"/>
                </a:solidFill>
                <a:latin typeface="Times New Roman"/>
              </a:rPr>
              <a:t>опыта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755640" y="62028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96424"/>
                </a:solidFill>
                <a:latin typeface="Times New Roman"/>
              </a:rPr>
              <a:t>Использование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96424"/>
                </a:solidFill>
                <a:latin typeface="Times New Roman"/>
              </a:rPr>
              <a:t>мультимедийной презентации на различных этапах урока.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6424"/>
                </a:solidFill>
                <a:latin typeface="Times New Roman"/>
              </a:rPr>
              <a:t>Этап урока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организационный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6424"/>
                </a:solidFill>
                <a:latin typeface="Times New Roman"/>
              </a:rPr>
              <a:t>Содержание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демонстрация темы и целей и задач урок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6424"/>
                </a:solidFill>
                <a:latin typeface="Times New Roman"/>
              </a:rPr>
              <a:t>Цель</a:t>
            </a: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подготовить обучающихся к работе на уроке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6424"/>
                </a:solidFill>
                <a:latin typeface="Times New Roman"/>
              </a:rPr>
              <a:t>Условия достижения положительных результатов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доброжелательный настрой учителя и обучающихся;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быстрое включение класса в деловой ритм;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обеспечение полной готовности класса и оборудования к работе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424"/>
                </a:solidFill>
                <a:latin typeface="Times New Roman"/>
              </a:rPr>
              <a:t>Этап урока</a:t>
            </a: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проверка домашнего задания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424"/>
                </a:solidFill>
                <a:latin typeface="Times New Roman"/>
              </a:rPr>
              <a:t>Содержание</a:t>
            </a: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демонстрация правильного решения для заданий, вызывающих затруднения;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вопросы для проверки знаний;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тестовый опрос по  теории</a:t>
            </a:r>
            <a:r>
              <a:rPr b="0" lang="en-US" sz="2000" spc="-1" strike="noStrike">
                <a:solidFill>
                  <a:srgbClr val="296424"/>
                </a:solidFill>
                <a:latin typeface="Times New Roman"/>
                <a:ea typeface="宋体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6424"/>
                </a:solidFill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: выявить уровень знаний обучающихся по заданному на дом     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заданию 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96424"/>
                </a:solidFill>
                <a:latin typeface="Times New Roman"/>
              </a:rPr>
              <a:t>Условия достижения положительных результатов</a:t>
            </a: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устранение типичных ошибок;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обнаружение причин невыполнения домашнего задания отдельными обучающимися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6424"/>
                </a:solidFill>
                <a:latin typeface="Times New Roman"/>
              </a:rPr>
              <a:t>Этап урока</a:t>
            </a: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актуализация опорных знаний и способов действий.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6424"/>
                </a:solidFill>
                <a:latin typeface="Times New Roman"/>
              </a:rPr>
              <a:t>Содержание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вопросы и задания, подводящие к необходимости изучения темы;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краткое обобщение по пройденному материалу.</a:t>
            </a: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6424"/>
                </a:solidFill>
                <a:latin typeface="Times New Roman"/>
              </a:rPr>
              <a:t>Цели</a:t>
            </a: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восполнить недостающие  у обучающихся  знания;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вспомнить необходимые опорные знания и способы действий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6424"/>
                </a:solidFill>
                <a:latin typeface="Times New Roman"/>
              </a:rPr>
              <a:t>Условия достижения положительных результатов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формирование дидактической цели вместе с учащимися;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использование различных приемов организации деятельности учащихся по принятию цели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6424"/>
                </a:solidFill>
                <a:latin typeface="Times New Roman"/>
              </a:rPr>
              <a:t>Этап урока</a:t>
            </a: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: формирование новых понятий и способов действий.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6424"/>
                </a:solidFill>
                <a:latin typeface="Times New Roman"/>
              </a:rPr>
              <a:t>Содержание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основные понятия,схемы,таблицы,рисунки,анимация,видеофрагменты,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иллюстрирующие новый материал в зависимости от цели урока.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6424"/>
                </a:solidFill>
                <a:latin typeface="Times New Roman"/>
              </a:rPr>
              <a:t>Цель</a:t>
            </a: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демонстрация нового учебного материала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6424"/>
                </a:solidFill>
                <a:latin typeface="Times New Roman"/>
              </a:rPr>
              <a:t>Условия достижения положительных результатов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применение различных способов активизации мыслительной деятельности обучающихся, включение их в поисковую работу,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в самоорганизацию обучения;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систематизация новых знаний.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424"/>
                </a:solidFill>
                <a:latin typeface="Times New Roman"/>
              </a:rPr>
              <a:t>Этап урока</a:t>
            </a:r>
            <a:r>
              <a:rPr b="0" lang="ru-RU" sz="1800" spc="-1" strike="noStrike">
                <a:solidFill>
                  <a:srgbClr val="296424"/>
                </a:solidFill>
                <a:latin typeface="Times New Roman"/>
              </a:rPr>
              <a:t>: применение знаний, формирование умений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424"/>
                </a:solidFill>
                <a:latin typeface="Times New Roman"/>
              </a:rPr>
              <a:t>Содержание</a:t>
            </a: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: </a:t>
            </a:r>
            <a:r>
              <a:rPr b="0" lang="ru-RU" sz="1800" spc="-1" strike="noStrike">
                <a:solidFill>
                  <a:srgbClr val="296424"/>
                </a:solidFill>
                <a:latin typeface="Times New Roman"/>
              </a:rPr>
              <a:t>вопросы и задания, требующие мыслительной активности и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6424"/>
                </a:solidFill>
                <a:latin typeface="Times New Roman"/>
              </a:rPr>
              <a:t>творческого осмысления материала.</a:t>
            </a: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424"/>
                </a:solidFill>
                <a:latin typeface="Times New Roman"/>
              </a:rPr>
              <a:t>Цель</a:t>
            </a:r>
            <a:r>
              <a:rPr b="1" lang="ru-RU" sz="2800" spc="-1" strike="noStrike">
                <a:solidFill>
                  <a:srgbClr val="296424"/>
                </a:solidFill>
                <a:latin typeface="Times New Roman"/>
              </a:rPr>
              <a:t>: </a:t>
            </a:r>
            <a:r>
              <a:rPr b="0" lang="ru-RU" sz="1800" spc="-1" strike="noStrike">
                <a:solidFill>
                  <a:srgbClr val="296424"/>
                </a:solidFill>
                <a:latin typeface="Times New Roman"/>
              </a:rPr>
              <a:t>выполнение тренировочных заданий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96424"/>
                </a:solidFill>
                <a:latin typeface="Times New Roman"/>
              </a:rPr>
              <a:t>Условия достижения положительных результатов</a:t>
            </a: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использование различных способов закрепления знаний; обращение учителя по поводу ответа ученика к классу с просьбой дополнить, уточнить, исправить, взглянуть на изучаемую проблему с иной стороны;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умение обучающихся узнавать и соотносить факты с понятиями, правилами и идеями</a:t>
            </a: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424"/>
                </a:solidFill>
                <a:latin typeface="Times New Roman"/>
              </a:rPr>
              <a:t>Этап урока</a:t>
            </a:r>
            <a:r>
              <a:rPr b="0" lang="ru-RU" sz="1800" spc="-1" strike="noStrike">
                <a:solidFill>
                  <a:srgbClr val="296424"/>
                </a:solidFill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контроль и учет знаний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424"/>
                </a:solidFill>
                <a:latin typeface="Times New Roman"/>
              </a:rPr>
              <a:t>Содержание</a:t>
            </a: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задания разного уровня сложности;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использование нестандартных ситуаций в применении проверяемых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296424"/>
                </a:solidFill>
                <a:latin typeface="Times New Roman"/>
                <a:ea typeface="宋体"/>
              </a:rPr>
              <a:t>   </a:t>
            </a: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знаний 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424"/>
                </a:solidFill>
                <a:latin typeface="Times New Roman"/>
              </a:rPr>
              <a:t>Цель</a:t>
            </a:r>
            <a:r>
              <a:rPr b="1" lang="ru-RU" sz="2800" spc="-1" strike="noStrike">
                <a:solidFill>
                  <a:srgbClr val="296424"/>
                </a:solidFill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организация контроля и самоконтроля.</a:t>
            </a: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96424"/>
                </a:solidFill>
                <a:latin typeface="Times New Roman"/>
              </a:rPr>
              <a:t>Условия достижения положительных результатов</a:t>
            </a: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использование различных способов контроля и самоконтроля знаний;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рецензирование работ обучающихся с указанием положительных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296424"/>
                </a:solidFill>
                <a:latin typeface="Times New Roman"/>
                <a:ea typeface="宋体"/>
              </a:rPr>
              <a:t>   </a:t>
            </a: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моментов  и недостатков в знаниях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353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96424"/>
                </a:solidFill>
                <a:latin typeface="Times New Roman"/>
              </a:rPr>
              <a:t>Технологические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96424"/>
                </a:solidFill>
                <a:latin typeface="Times New Roman"/>
              </a:rPr>
              <a:t>сведения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96424"/>
                </a:solidFill>
                <a:latin typeface="Times New Roman"/>
              </a:rPr>
              <a:t>об опыте 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55640" y="62028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6424"/>
                </a:solidFill>
                <a:latin typeface="Times New Roman"/>
              </a:rPr>
              <a:t>Рекомендуется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6424"/>
                </a:solidFill>
                <a:latin typeface="Times New Roman"/>
              </a:rPr>
              <a:t>использовать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6424"/>
                </a:solidFill>
                <a:latin typeface="Times New Roman"/>
              </a:rPr>
              <a:t>мультимедийную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6424"/>
                </a:solidFill>
                <a:latin typeface="Times New Roman"/>
              </a:rPr>
              <a:t>технологию на уроке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6424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296424"/>
                </a:solidFill>
                <a:latin typeface="Times New Roman"/>
              </a:rPr>
              <a:t>не более 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96424"/>
                </a:solidFill>
                <a:latin typeface="Times New Roman"/>
              </a:rPr>
              <a:t>20 минут.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755640" y="62028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Использование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мультимедиа презентаций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наиболее органично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при </a:t>
            </a: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нетрадиционной форм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проведения </a:t>
            </a: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учебных занятий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урок – конкурс,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урок – викторина,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урок – праздник,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урок – экскурсия,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урок – аукцион,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урок – сказка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96424"/>
                </a:solidFill>
                <a:latin typeface="Times New Roman"/>
              </a:rPr>
              <a:t>Результативность 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96424"/>
                </a:solidFill>
                <a:latin typeface="Times New Roman"/>
              </a:rPr>
              <a:t>опыта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55640" y="62028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Результативность опыта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по использованию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мультимедийной презентационной технологии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в учебном процесс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позволила мне повысить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мотивацию изучения предмета обучающимися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эффективность учебного процесса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уровень использования наглядности на уроке;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424"/>
                </a:solidFill>
                <a:latin typeface="Times New Roman"/>
              </a:rPr>
              <a:t>( </a:t>
            </a:r>
            <a:r>
              <a:rPr b="0" lang="ru-RU" sz="1800" spc="-1" strike="noStrike">
                <a:solidFill>
                  <a:srgbClr val="296424"/>
                </a:solidFill>
                <a:latin typeface="Times New Roman"/>
              </a:rPr>
              <a:t>концентрация внимания при введении материала приближается к 100% );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качество усвоения материала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96424"/>
                </a:solidFill>
                <a:latin typeface="Times New Roman"/>
              </a:rPr>
              <a:t>Перспективность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96424"/>
                </a:solidFill>
                <a:latin typeface="Times New Roman"/>
              </a:rPr>
              <a:t>опыта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755640" y="62028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Мультимедийная презентационная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технология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позволяет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разрабатывать современные дидактические материалы и эффективно использовать их в учебном процессе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готовить участников образовательного процесса к жизнедеятельности в условиях информационного общества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улучшить качество обучения посредством более полного использования доступной информаци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353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296424"/>
                </a:solidFill>
                <a:latin typeface="Times New Roman"/>
              </a:rPr>
              <a:t>Актуальность опыта</a:t>
            </a:r>
            <a:r>
              <a:rPr b="0" lang="ru-RU" sz="8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353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424"/>
                </a:solidFill>
                <a:latin typeface="Times New Roman"/>
              </a:rPr>
              <a:t>Применение в учебном процессе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424"/>
                </a:solidFill>
                <a:latin typeface="Times New Roman"/>
              </a:rPr>
              <a:t>мультимедийной презентационной технологи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помогает дальнейшей социализации обучающегося,  готовности применять знания, полученные в школе, в реальной жизни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позволяет интенсифицировать учебный процесс;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сделать урок не только более усваиваемым, но и более привлекательным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улучшить качество знаний обучающихся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поддерживать интерес у школьников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424"/>
                </a:solidFill>
                <a:latin typeface="Times New Roman"/>
              </a:rPr>
              <a:t>снизить тревожность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353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Таким образом,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мультимедийная презентационная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технология</a:t>
            </a:r>
            <a:r>
              <a:rPr b="1" lang="ru-RU" sz="2800" spc="-1" strike="noStrike">
                <a:solidFill>
                  <a:srgbClr val="29642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один из способов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оптимизации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образовательного процесса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который позволяет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самостоятельно приобретать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новые знания и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практически их применять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77979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296424"/>
                </a:solidFill>
                <a:latin typeface="Times New Roman"/>
              </a:rPr>
              <a:t>Задачи</a:t>
            </a:r>
            <a:r>
              <a:rPr b="0" lang="ru-RU" sz="8000" spc="-1" strike="noStrike">
                <a:solidFill>
                  <a:srgbClr val="296424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6424"/>
                </a:solidFill>
                <a:latin typeface="Times New Roman"/>
              </a:rPr>
              <a:t>Задача учителя сегодня: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424"/>
                </a:solidFill>
                <a:latin typeface="Times New Roman"/>
              </a:rPr>
              <a:t>активизировать познавательную    деятельность учащегося в процессе обучения иностранному языку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424"/>
                </a:solidFill>
                <a:latin typeface="Times New Roman"/>
              </a:rPr>
              <a:t>создать условия практического овладения языком для каждого ученика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424"/>
                </a:solidFill>
                <a:latin typeface="Times New Roman"/>
              </a:rPr>
              <a:t>предоставить обучающемуся дополнительный стимул в изучении иностранного языка, проявив при этом активность и творчество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3141720"/>
            <a:ext cx="744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15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Мультимедийная презентационная технология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решает следующие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дидактические задачи: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усвоить базовые знания по предмету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сформировать навыки самоконтроля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сформировать мотивационную сферу обучающегося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6424"/>
                </a:solidFill>
                <a:latin typeface="Times New Roman"/>
              </a:rPr>
              <a:t>оказать учебно-методическую помощь обучающемуся в самостоятельной работе над учебным материало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642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Таким образом,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уроки с мультимедийной поддержкой реализуют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личностно-ориентированный подход в обучении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6424"/>
                </a:solidFill>
                <a:latin typeface="Times New Roman"/>
              </a:rPr>
              <a:t>индивидуализацию и дифференциацию обучения с учётом способностей учащихся, их уровня обученности, интересов и т.д..</a:t>
            </a:r>
            <a:r>
              <a:rPr b="0" lang="ru-RU" sz="3200" spc="-1" strike="noStrike">
                <a:solidFill>
                  <a:srgbClr val="29642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7:51:55Z</dcterms:created>
  <dc:creator>Helene</dc:creator>
  <dc:description/>
  <dc:language>en-US</dc:language>
  <cp:lastModifiedBy>Helene</cp:lastModifiedBy>
  <dcterms:modified xsi:type="dcterms:W3CDTF">2012-11-25T13:47:40Z</dcterms:modified>
  <cp:revision>15</cp:revision>
  <dc:subject/>
  <dc:title>Слайд 1</dc:title>
</cp:coreProperties>
</file>