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C7D-4992-437D-8699-F70A9E8D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A34-5804-4062-B296-7E6E2228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D5C4-3055-4491-A45B-C9D52198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2EF-C59A-4E31-BD04-141B9C5C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E823-A2EF-4FD1-A0F0-B424C169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F765-9DE8-4D48-9B01-731D77B3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F96C-A6E8-4179-951E-B3BA128F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8B6B-A7CB-4C2D-A985-D96C1F7D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D783-0373-4A06-9D84-DD44D542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054E-8779-4BF1-9CE1-0B92CB42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3080-3070-420E-8FF9-667C5F1D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F843-9E90-406A-BBDB-E2BF0393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6116-C270-4373-902C-B2316F35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A8F3-DEF5-42C4-B3CD-C5033A44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3A85-7D99-46BD-84E0-EEC9C414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8B84-A231-4754-8E1E-CE9D4A6B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DC12-4BDC-4E1F-A5D9-2AD816EC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66A3F-A2A9-4A90-BCD7-ECF6A5B5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63799-D8EB-4DCA-AD8C-D0DD1CD8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BF747-641A-4E6A-851B-A4CD5571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8A7CF-7FD4-4505-B4C1-0025D218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83BE8-E6B7-41BC-AC21-28289510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A65-5101-4428-B479-34A6DBB2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A8F8C-DBB1-4421-A108-6289BA96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2AB3A-B378-469D-AE78-F497F5A7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FEF0B-5415-4743-A398-5B17631A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C440B-7816-462D-926C-1CF967A7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467DD-5B2B-4605-B380-9BCFA3C4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A1687-0C63-4113-9116-34810A13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70379-150E-4E58-B033-C0F69073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75F-83C4-4383-8E25-CB470EBD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586-23EB-434C-A454-814D7021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D8D8-7842-426F-A17C-9D8B988D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AB3-01E1-4F9A-9BB9-CFFD41DA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D4D5-5AAA-41B4-951A-10CAE584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A51-3BF6-4C3D-8106-0D8FE176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8904-8CC8-47DF-AEC1-FC67F4F904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DCB9-2AC1-4BC8-A81C-3101669A74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8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4EB9-AEB6-47D0-97E1-FBFB9F55D949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стемы автоматизированного проектирования (САПР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П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САПР являются векторными графическими редакторами, предназначенными для создания чертежей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П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Использование САПР позволяет создавать чертежи с абсолютной точностью!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П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На основе компьютерных чертежей генерируются управляющие программы для станков с числовым программным управлением (ЧПУ), в результате по компьютерным чертежам изготавливаются высокоточные детали из металла, дерева и т.д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2"/>
          <p:cNvPicPr/>
          <p:nvPr/>
        </p:nvPicPr>
        <p:blipFill>
          <a:blip r:embed="rId1"/>
          <a:stretch/>
        </p:blipFill>
        <p:spPr>
          <a:xfrm>
            <a:off x="971640" y="189000"/>
            <a:ext cx="7272360" cy="5454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468360" y="6021360"/>
            <a:ext cx="842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29"/>
                </a:solidFill>
                <a:latin typeface="Arial"/>
              </a:rPr>
              <a:t>Токарно-фрезерный обрабатывающий центр с ЧПУ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468360" y="6021360"/>
            <a:ext cx="842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29"/>
                </a:solidFill>
                <a:latin typeface="Arial"/>
              </a:rPr>
              <a:t>Токарный станок (обычный, с ручным управлением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3" name="Picture 4" descr="3"/>
          <p:cNvPicPr/>
          <p:nvPr/>
        </p:nvPicPr>
        <p:blipFill>
          <a:blip r:embed="rId1"/>
          <a:stretch/>
        </p:blipFill>
        <p:spPr>
          <a:xfrm>
            <a:off x="1042920" y="476280"/>
            <a:ext cx="68407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404640"/>
            <a:ext cx="7157880" cy="88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ы САП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Российские САПР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К3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nanoCA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КОМПАС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 т.д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САПР иностранных разработчиков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utoCAD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самая распространённая САПР не российского производства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E3.seri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 т.д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07:29:21Z</dcterms:created>
  <dc:creator>Server-2</dc:creator>
  <dc:description/>
  <dc:language>en-US</dc:language>
  <cp:lastModifiedBy>admin</cp:lastModifiedBy>
  <dcterms:modified xsi:type="dcterms:W3CDTF">2014-05-06T10:14:47Z</dcterms:modified>
  <cp:revision>5</cp:revision>
  <dc:subject/>
  <dc:title>Системы автоматизированного проектирования</dc:title>
</cp:coreProperties>
</file>