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28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wind.wav" ContentType="audio/x-wav"/>
  <Override PartName="/ppt/media/image16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2.wmf" ContentType="image/x-wmf"/>
  <Override PartName="/ppt/media/image19.png" ContentType="image/png"/>
  <Override PartName="/ppt/media/image21.png" ContentType="image/png"/>
  <Override PartName="/ppt/media/image23.png" ContentType="image/png"/>
  <Override PartName="/ppt/media/image13.jpeg" ContentType="image/jpeg"/>
  <Override PartName="/ppt/media/image15.jpeg" ContentType="image/jpeg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BD37-7929-447E-920D-DDCA59CF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587A-41B2-496D-9A27-F9271E7D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5A2CE-8B2C-485F-8C33-4DCAFCF4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36E35-B99E-4C24-AF5D-A2C3BC0C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176BC-7F11-4C12-9F2B-2E636BC8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799DB-DEFF-46F5-B648-2F04842C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114CF-E7B0-4C45-B063-BAFD0C2D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3D7D8-96E5-441B-8383-AB274E9B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CABC7-8A9D-4941-8172-07C82729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AC460-C729-4FC8-BA6A-A7D631A1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D7D54-DE6A-46A1-AF4D-2E9A0FC2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18A4C-7598-4F12-A5DB-E6F5B2C5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DF58-352D-4A11-96A2-C29D1B98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E7475-E89F-41F3-BBE1-3138BE02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52A73-977C-4FD0-AF7D-650E0844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30BC4-C4B3-4B9B-9DAC-F0AFC2DD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A8DAD-5F07-4DC6-9318-F79D6A50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3C577-9B54-4922-8635-6F9AAF69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AC453-B273-4CEF-B14C-1B912029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74042-F1EC-42B7-B57C-6596ABD9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4AD6E-B141-4894-8D0D-9B129300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02F21-D705-49E0-A1D3-72B97CD9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B1097-A4E3-4871-8476-9AC43C01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B3EC-2424-4B0B-AD37-213D9757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C33C4-5A66-4FB3-A60E-6FA2A9AF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6CBC9-53B6-49CA-B848-E1093CD4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65AC4-34BC-496C-A6D8-73D47862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94A5D-54B9-49D8-9B67-EB5D57F6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38FAC-5F88-4193-AE48-B34FCBB6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62692-2ABD-40D0-BBBA-18550267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40D89-7DE5-471D-93FA-2013731A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567D9-E2EB-4E44-8F6B-7C4597A4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EF0DA-8B35-4942-ADC6-9BC69654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7080D-303C-4A46-AB34-8CC5A33F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971A-0882-4E30-BE10-37950FB7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9997A-2273-4559-A4E5-AC081062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44A21-D3D5-475A-BAC1-95555002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3A45E-1FBB-49A1-9BB3-D0E8B060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A20220-F826-4365-8D7B-0EA28646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16679B-63C7-49A6-A1A5-A6E831A8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3ACEA2-CF30-42C2-BC81-DC9A4590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0BE453-2834-42B5-83D3-7ECCDA82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1E1BFC-7EA4-4725-BE64-7BA38AD3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D8B060E-3B95-496E-ABDA-8E5D4E64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EAE1DC-279A-4FF3-AB4B-5828F8F8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2086-F4D8-4065-B8F5-188C2286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A22838-6D95-46A0-97AB-2D181403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C4176C-B194-4DB3-B2D4-2AE38E00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5B6332-DDF6-405A-8C75-B87CBBDD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56E4A1-FE5A-43F2-B443-95C62239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5620B7-833B-4D92-9C27-ACF27E54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C5A0-5E12-4CAE-B4E7-B002120B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5A29-64C5-4347-97EF-0FA651B6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D9ED-DE98-46F6-95BB-92F85004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304F-84A4-416A-A25D-EBD11A9F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1139-FDD7-45D8-B580-6AB4B91B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F2E-1252-4BB4-832E-05F98D4B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6BEC-15C6-45E5-B7E8-7AAC6C13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E580-99BA-48DF-816A-6B8839ED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6727-8D35-4280-A382-A4AB1B06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B616-343B-432E-88AD-26823456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5232-2035-4DDE-BD34-5FE4C237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DA0E3-4D19-4699-B1C6-37CE9CA5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D1B6F-DDA0-434A-BB5D-833FA8BE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5ADA0-83E0-4DF4-BE3B-26E1B7AB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837E9-5749-4862-9244-D5760376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4A768-05C2-43D8-991E-877C42DD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5857-3E0E-4883-BCFD-2DC9F8E1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FDA11-4A4A-4CCF-873A-D59E7470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A357B-7C3D-4AD1-BEDE-5BB7BBA5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B1EB5-695E-4FC4-B20D-7DC68735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33D45-75F6-40B7-A786-3C8A30D2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F986A-E9DA-46F7-B225-8331B005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829AE-E38A-410C-91FF-301B3E2F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D6335-F259-4448-AAC4-8F27DFED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6224C-28FF-44F1-B66A-ED5E55EB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83263-28EC-48AA-AEB4-1D132A9C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A72C8-79BD-4394-8D5D-5CA48DEF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E148-EFB8-40FE-A87C-ABA7BF76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8DFE8-59E2-4437-A386-6F36166E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2F88D-A269-4F92-85AC-1EEB76F4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A7424-2431-4E25-A46D-C899FA8C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AD722-F8D2-4C85-A4E2-6667B7BF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8857B-20AC-4255-AE69-B6672E53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DE976-6631-488C-9A62-7A0B13E5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9EDD2-4B15-4849-A723-A54DFD09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7F301-5C95-47A7-A00C-818EAD3A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86444-0B1A-4532-B97D-5D77145C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6ACC4-F144-490C-A6DE-94F20856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E82A-9817-405A-BA54-6CB9A9A6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9BB82-882E-4DFE-9B24-EF2767A4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1FC8A-ED1F-4589-A83D-AEA10073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CB36C-ABA5-42DC-990B-473565B0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9674B-0E5B-4B7E-97BB-8FEC15AA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6F017-9874-4177-A8FD-1BC6D747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94A7E-A6F8-4CAE-A720-56AA6164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6E9C3-2BF1-4300-8AF0-3D8E134A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30C4D-B45C-4445-80ED-219FABFB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B973B-9A35-4132-AEA5-2DF1F70B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B4C26-683F-42D9-9703-414ECB9E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6657-095C-4936-A2B1-9BE4B148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CB069-25ED-4924-8213-BA8399E1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2E9A9-2DD4-48CF-9E60-93596ACC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8B7C7-66F3-455B-9ACE-42079783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829DB-AF3B-43BB-9AD0-F59D3002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211F1-BABF-44B3-BF15-F6466FF7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5B829-C1AF-456D-8264-037540A6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219E3-3C29-4D40-A1A0-FAE4B7F1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8F037-B086-4EE2-A12C-F3E168F2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F5741-5AA1-4389-B7D9-4CACC99A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984DE-B4F6-4545-90FE-82A65050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DAB4-4280-44C5-8414-397214E7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F5BDD-EC80-4D4A-A631-C70D20FB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AF71C-0369-411E-AC22-C7356F55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70F15-CD18-457A-AD49-58A13BA1E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FA15A-4BD2-4BF6-9961-F464EA29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E50F6-5602-4787-8582-8656AE36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964E1-B2FC-42DA-9135-F95A87EB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2C07B-DE11-4272-AB47-ECBE1A04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3F31B-A4A2-4D71-9ED4-34AD166E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30E71-89F7-4473-8D49-DB68050B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6DFA7-BDAB-450A-8C7D-420690E4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B0DB-3CAD-492B-9C10-EEADF927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36C12-5C21-4C54-8D5C-4BC00D27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3BE02-3942-4C90-AC40-71415EB4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CA8CF-3F73-4A9E-A1EF-419A5680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07BC8-DDD1-4B58-90FB-B3F023B2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5B1F6-BA30-4052-8906-30AB4B52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8674D-0C27-484E-8DF7-4F4E4F42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E2B92-33FA-412F-BD95-00FBEB58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F1ECB-5DE6-4469-8410-B97B6D6D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8B921-2F53-4F1D-8A2A-166789FB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84EFB-AB7C-4F62-A918-901508DC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94A0-1831-4F6D-9F5E-3C8CCE1D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1377F-7718-4123-BC3E-54C41040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0DA27-FD4A-4878-B7A6-96C5B6A2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8C55A-9CA0-4A33-89BA-CD030CCB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75057-D06D-4B45-BFAD-7C238990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19D54-3D01-4C95-BF13-5DC9E682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719E7-9B02-41BE-BA82-EB17C0BF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E1D24-4DB1-477C-A52F-01C25BE6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E2570-E84F-461A-965A-C7EA4A46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F8B9B-33E9-43D7-A399-A3FEBE7A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8AAF3-93AB-4088-ACA1-9D6DCFC1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b3b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4fb3b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4fb3b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4fb3b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4fb3b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4fb3b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4fb3b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4fb3b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fb3b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fb3b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fb3b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fb3b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fb3b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fb3b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fb3b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fb3b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fb3b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fb3b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fb3b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fb3b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4fb3b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4fb3b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fb3b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4fb3b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4fb3b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4fb3b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fb3b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fb3b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fb3b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4fb3b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4fb3b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4fb3b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4fb3b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fb3b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4f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4f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4f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4f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F4B0-F7C6-4671-B9CA-84865E73E1F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1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52" name="PlaceHolder 1"/>
          <p:cNvSpPr>
            <a:spLocks noGrp="1"/>
          </p:cNvSpPr>
          <p:nvPr>
            <p:ph type="dt" idx="28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ftr" idx="29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D99D-5F7C-4285-8802-9A4C7442A3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9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9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9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90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0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5369-4E34-4454-91BC-1E3150D482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95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95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95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95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96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96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6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9C61-4CAE-4583-B652-FDE3077E99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fb3b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4fb3b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4fb3b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4fb3b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4fb3b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4fb3b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4fb3b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4fb3b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4fb3b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4fb3b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4fb3b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4fb3b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4fb3b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4fb3b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4fb3b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4fb3b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4fb3b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4fb3b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4fb3b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4fb3b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4fb3b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4fb3b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fb3b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4fb3b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4fb3b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4fb3b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4fb3b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4fb3b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4fb3b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4fb3b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4fb3b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4fb3b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4fb3b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4fb3b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4fb3b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4fb3b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4f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4f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EFDA-8D0A-4037-9C9E-26BC87C7F27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6D50-9788-4199-936E-825EFB7AA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52E7-C194-4291-8F52-88CA8C5DB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3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C9AA-815D-4A47-A094-27EC0E01B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9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5405-80E5-461F-B102-E1FF07B96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5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5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5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5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5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6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7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7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0117-2B11-47DC-9A54-D1A912A9EC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4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5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5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5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5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6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7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7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9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08FD-41A6-4FB7-96FA-C7EC48E9DF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774D-2616-4A94-9177-7F289CB52B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audio" Target="../media/wind.wav"/><Relationship Id="rId9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2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2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2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2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4360" y="-316440"/>
            <a:ext cx="77724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1371600" y="4005360"/>
            <a:ext cx="64008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скажите об изобретениях нового времени и их значе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5" name="" descr=""/>
          <p:cNvPicPr/>
          <p:nvPr/>
        </p:nvPicPr>
        <p:blipFill>
          <a:blip r:embed="rId2"/>
          <a:stretch/>
        </p:blipFill>
        <p:spPr>
          <a:xfrm>
            <a:off x="0" y="4941720"/>
            <a:ext cx="3309840" cy="172908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3"/>
          <a:stretch/>
        </p:blipFill>
        <p:spPr>
          <a:xfrm>
            <a:off x="4356000" y="1700280"/>
            <a:ext cx="3097440" cy="237636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4"/>
          <a:stretch/>
        </p:blipFill>
        <p:spPr>
          <a:xfrm>
            <a:off x="2987640" y="4941720"/>
            <a:ext cx="3313080" cy="1916280"/>
          </a:xfrm>
          <a:prstGeom prst="rect">
            <a:avLst/>
          </a:prstGeom>
          <a:ln w="0">
            <a:noFill/>
          </a:ln>
        </p:spPr>
      </p:pic>
      <p:pic>
        <p:nvPicPr>
          <p:cNvPr id="1018" name="" descr=""/>
          <p:cNvPicPr/>
          <p:nvPr/>
        </p:nvPicPr>
        <p:blipFill>
          <a:blip r:embed="rId5"/>
          <a:stretch/>
        </p:blipFill>
        <p:spPr>
          <a:xfrm>
            <a:off x="108000" y="1484280"/>
            <a:ext cx="4392720" cy="2592360"/>
          </a:xfrm>
          <a:prstGeom prst="rect">
            <a:avLst/>
          </a:prstGeom>
          <a:ln w="0">
            <a:noFill/>
          </a:ln>
        </p:spPr>
      </p:pic>
      <p:pic>
        <p:nvPicPr>
          <p:cNvPr id="1019" name="" descr=""/>
          <p:cNvPicPr/>
          <p:nvPr/>
        </p:nvPicPr>
        <p:blipFill>
          <a:blip r:embed="rId6"/>
          <a:stretch/>
        </p:blipFill>
        <p:spPr>
          <a:xfrm>
            <a:off x="5759280" y="4984920"/>
            <a:ext cx="3384720" cy="1873080"/>
          </a:xfrm>
          <a:prstGeom prst="rect">
            <a:avLst/>
          </a:prstGeom>
          <a:ln w="0">
            <a:noFill/>
          </a:ln>
        </p:spPr>
      </p:pic>
      <p:pic>
        <p:nvPicPr>
          <p:cNvPr id="1020" name="" descr=""/>
          <p:cNvPicPr/>
          <p:nvPr/>
        </p:nvPicPr>
        <p:blipFill>
          <a:blip r:embed="rId7"/>
          <a:stretch/>
        </p:blipFill>
        <p:spPr>
          <a:xfrm>
            <a:off x="179280" y="3824280"/>
            <a:ext cx="1079640" cy="1117440"/>
          </a:xfrm>
          <a:prstGeom prst="rect">
            <a:avLst/>
          </a:prstGeom>
          <a:ln w="0">
            <a:noFill/>
          </a:ln>
        </p:spPr>
      </p:pic>
      <p:sp>
        <p:nvSpPr>
          <p:cNvPr id="1021" name=""/>
          <p:cNvSpPr txBox="1"/>
          <p:nvPr/>
        </p:nvSpPr>
        <p:spPr>
          <a:xfrm>
            <a:off x="2484360" y="189000"/>
            <a:ext cx="414036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квер изобретений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2" name=""/>
          <p:cNvSpPr/>
          <p:nvPr/>
        </p:nvSpPr>
        <p:spPr>
          <a:xfrm>
            <a:off x="1187280" y="189000"/>
            <a:ext cx="7561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8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738648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Ньютоново яблоко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2"/>
          <a:stretch/>
        </p:blipFill>
        <p:spPr>
          <a:xfrm>
            <a:off x="1116000" y="3141720"/>
            <a:ext cx="2691000" cy="2592360"/>
          </a:xfrm>
          <a:prstGeom prst="rect">
            <a:avLst/>
          </a:prstGeom>
          <a:ln w="0">
            <a:noFill/>
          </a:ln>
        </p:spPr>
      </p:pic>
      <p:sp>
        <p:nvSpPr>
          <p:cNvPr id="1071" name=""/>
          <p:cNvSpPr txBox="1"/>
          <p:nvPr/>
        </p:nvSpPr>
        <p:spPr>
          <a:xfrm>
            <a:off x="684360" y="549360"/>
            <a:ext cx="6265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стань крылатых выражений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amond/>
    <p:sndAc>
      <p:stSnd>
        <p:snd r:embed="rId3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720108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539640" y="692280"/>
            <a:ext cx="6543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стань крылатых выражен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684360" y="2997360"/>
            <a:ext cx="66308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ражаться с ветряными мельницами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diamond/>
    <p:sndAc>
      <p:stSnd>
        <p:snd r:embed="rId1" name="wind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200448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900000" y="2708280"/>
            <a:ext cx="5832720" cy="19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ержать порох сухим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1258920" y="549360"/>
            <a:ext cx="6480000" cy="15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стань крылатых выражений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0" name=""/>
          <p:cNvSpPr/>
          <p:nvPr/>
        </p:nvSpPr>
        <p:spPr>
          <a:xfrm>
            <a:off x="1476360" y="189000"/>
            <a:ext cx="61912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8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948360" y="4292640"/>
            <a:ext cx="2009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  <p:sndAc>
      <p:stSnd>
        <p:snd r:embed="rId2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85800" y="278136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итерату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исатель наделил героя деловитостью, трудолюбием, верой в собственные силы .Он строит на необитаемом острове жилище, изготавливает посуду. В его облике легко угадать черты буржуа, деловую сметку и здравый смысл. Этот роман стал гимном труду, ясной человеческой мысли, настойчивости и мужеств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1042920" y="3357720"/>
            <a:ext cx="5616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 каком произведении идет речь и кто его авто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6877080" y="3500280"/>
            <a:ext cx="15552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1692360" y="549360"/>
            <a:ext cx="6408720" cy="13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оспект просвещ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>
    <p:diamond/>
    <p:sndAc>
      <p:stSnd>
        <p:snd r:embed="rId3" name="wind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4360" y="2997000"/>
            <a:ext cx="77724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терату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ерой романа попадает в страну, где правит крошечное, ничтожное существо , которое именует себя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ада и ужас вселенн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.Читатель мог угадать в этом государстве карикатуру на современную писателю английскую конституционную монарх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1763640" y="620640"/>
            <a:ext cx="6408720" cy="13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оспект просвещ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124000" y="115920"/>
            <a:ext cx="5761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286000" y="260280"/>
            <a:ext cx="5454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3" name="wind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-181440" y="476280"/>
            <a:ext cx="90694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Живопись.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 Определи имя художника и назови его произведения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-396720" y="1052280"/>
            <a:ext cx="9261360" cy="47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6929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  <p:sndAc>
      <p:stSnd>
        <p:snd r:embed="rId2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-108000" y="260280"/>
            <a:ext cx="822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345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Times New Roman"/>
              </a:rPr>
              <a:t>1.Движение за переустройство церкв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Times New Roman"/>
              </a:rPr>
              <a:t>2.Грамота об отпущении грех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Times New Roman"/>
              </a:rPr>
              <a:t>3.Борьба католической церкви с протестантизмо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2050920" y="620640"/>
            <a:ext cx="439128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гадай терми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amond/>
    <p:sndAc>
      <p:stSnd>
        <p:snd r:embed="rId1" name="win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Times New Roman"/>
              </a:rPr>
              <a:t>4.Французские кальвинист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Times New Roman"/>
              </a:rPr>
              <a:t>5.Течение,отклоняющееся от официального церковного уч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Times New Roman"/>
              </a:rPr>
              <a:t>6.Суд католической церкв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1908000" y="404640"/>
            <a:ext cx="368460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гадай терми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amond/>
    <p:sndAc>
      <p:stSnd>
        <p:snd r:embed="rId1" name="wind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0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7858080" y="6172200"/>
            <a:ext cx="52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1042920" y="2781360"/>
            <a:ext cx="60501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акая связь между этими терминам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124000" y="333360"/>
            <a:ext cx="55436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buClr>
                <a:srgbClr val="00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1476360" y="765000"/>
            <a:ext cx="442296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тгадайт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amond/>
    <p:sndAc>
      <p:stSnd>
        <p:snd r:embed="rId1" name="wind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2556000" y="189000"/>
            <a:ext cx="3816360" cy="10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чност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9" name=""/>
          <p:cNvSpPr/>
          <p:nvPr/>
        </p:nvSpPr>
        <p:spPr>
          <a:xfrm>
            <a:off x="5651640" y="1773360"/>
            <a:ext cx="309852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ая связь между этими историческими личностями? Их роль в            истории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10" name="" descr=""/>
          <p:cNvPicPr/>
          <p:nvPr/>
        </p:nvPicPr>
        <p:blipFill>
          <a:blip r:embed="rId3"/>
          <a:stretch/>
        </p:blipFill>
        <p:spPr>
          <a:xfrm>
            <a:off x="3059280" y="2637000"/>
            <a:ext cx="2808000" cy="3617640"/>
          </a:xfrm>
          <a:prstGeom prst="rect">
            <a:avLst/>
          </a:prstGeom>
          <a:ln w="0">
            <a:noFill/>
          </a:ln>
        </p:spPr>
      </p:pic>
      <p:pic>
        <p:nvPicPr>
          <p:cNvPr id="1111" name="" descr=""/>
          <p:cNvPicPr/>
          <p:nvPr/>
        </p:nvPicPr>
        <p:blipFill>
          <a:blip r:embed="rId4"/>
          <a:stretch/>
        </p:blipFill>
        <p:spPr>
          <a:xfrm>
            <a:off x="179280" y="2060640"/>
            <a:ext cx="295272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  <p:sndAc>
      <p:stSnd>
        <p:snd r:embed="rId5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изменили жизн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2"/>
          <a:stretch/>
        </p:blipFill>
        <p:spPr>
          <a:xfrm>
            <a:off x="1619280" y="2997360"/>
            <a:ext cx="5616720" cy="386064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 txBox="1"/>
          <p:nvPr/>
        </p:nvSpPr>
        <p:spPr>
          <a:xfrm>
            <a:off x="539640" y="476280"/>
            <a:ext cx="727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овершенствование кораблей и техники мореплава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7" name=""/>
          <p:cNvSpPr/>
          <p:nvPr/>
        </p:nvSpPr>
        <p:spPr>
          <a:xfrm>
            <a:off x="250920" y="22766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Какие изобретения позволили европейцам расширить знания о Земле и совершить Великие географические открытия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3" name="wind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13" name=""/>
          <p:cNvGraphicFramePr/>
          <p:nvPr/>
        </p:nvGraphicFramePr>
        <p:xfrm>
          <a:off x="4211640" y="2421000"/>
          <a:ext cx="2514600" cy="517320"/>
        </p:xfrm>
        <a:graphic>
          <a:graphicData uri="http://schemas.openxmlformats.org/drawingml/2006/table">
            <a:tbl>
              <a:tblPr/>
              <a:tblGrid>
                <a:gridCol w="628560"/>
                <a:gridCol w="628560"/>
                <a:gridCol w="615960"/>
                <a:gridCol w="64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e1f08"/>
                          </a:solidFill>
                          <a:latin typeface="Arial Black"/>
                        </a:rPr>
                        <a:t>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9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4" name=""/>
          <p:cNvGraphicFramePr/>
          <p:nvPr/>
        </p:nvGraphicFramePr>
        <p:xfrm>
          <a:off x="4788000" y="1844640"/>
          <a:ext cx="2592360" cy="517320"/>
        </p:xfrm>
        <a:graphic>
          <a:graphicData uri="http://schemas.openxmlformats.org/drawingml/2006/table">
            <a:tbl>
              <a:tblPr/>
              <a:tblGrid>
                <a:gridCol w="648360"/>
                <a:gridCol w="648720"/>
                <a:gridCol w="646920"/>
                <a:gridCol w="64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e1f08"/>
                          </a:solidFill>
                          <a:latin typeface="Arial Black"/>
                        </a:rPr>
                        <a:t>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5" name=""/>
          <p:cNvGraphicFramePr/>
          <p:nvPr/>
        </p:nvGraphicFramePr>
        <p:xfrm>
          <a:off x="4211640" y="2924280"/>
          <a:ext cx="2514600" cy="517320"/>
        </p:xfrm>
        <a:graphic>
          <a:graphicData uri="http://schemas.openxmlformats.org/drawingml/2006/table">
            <a:tbl>
              <a:tblPr/>
              <a:tblGrid>
                <a:gridCol w="627840"/>
                <a:gridCol w="629640"/>
                <a:gridCol w="628560"/>
                <a:gridCol w="628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e1f08"/>
                          </a:solidFill>
                          <a:latin typeface="Arial Black"/>
                        </a:rPr>
                        <a:t>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6" name=""/>
          <p:cNvGraphicFramePr/>
          <p:nvPr/>
        </p:nvGraphicFramePr>
        <p:xfrm>
          <a:off x="2843280" y="3429000"/>
          <a:ext cx="2658960" cy="51768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663840"/>
                <a:gridCol w="66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7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9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e1f08"/>
                          </a:solidFill>
                          <a:latin typeface="Arial Black"/>
                        </a:rPr>
                        <a:t>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7" name=""/>
          <p:cNvSpPr txBox="1"/>
          <p:nvPr/>
        </p:nvSpPr>
        <p:spPr>
          <a:xfrm>
            <a:off x="971640" y="620640"/>
            <a:ext cx="4968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упичок дат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8" name=""/>
          <p:cNvSpPr/>
          <p:nvPr/>
        </p:nvSpPr>
        <p:spPr>
          <a:xfrm>
            <a:off x="250920" y="4079880"/>
            <a:ext cx="741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1166760" y="4292640"/>
            <a:ext cx="77263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.Нантский Эдикт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2.Начало Реформации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3.Свержение монархии, провозглашение республики во Франции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4.Принятие Конституции США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3" name="wind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21" name=""/>
          <p:cNvGraphicFramePr/>
          <p:nvPr/>
        </p:nvGraphicFramePr>
        <p:xfrm>
          <a:off x="3276720" y="2852640"/>
          <a:ext cx="2879640" cy="576360"/>
        </p:xfrm>
        <a:graphic>
          <a:graphicData uri="http://schemas.openxmlformats.org/drawingml/2006/table">
            <a:tbl>
              <a:tblPr/>
              <a:tblGrid>
                <a:gridCol w="720000"/>
                <a:gridCol w="719640"/>
                <a:gridCol w="720000"/>
                <a:gridCol w="720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9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e1f08"/>
                          </a:solidFill>
                          <a:latin typeface="Arial Black"/>
                        </a:rPr>
                        <a:t>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2" name=""/>
          <p:cNvGraphicFramePr/>
          <p:nvPr/>
        </p:nvGraphicFramePr>
        <p:xfrm>
          <a:off x="5435640" y="1700280"/>
          <a:ext cx="2877840" cy="576000"/>
        </p:xfrm>
        <a:graphic>
          <a:graphicData uri="http://schemas.openxmlformats.org/drawingml/2006/table">
            <a:tbl>
              <a:tblPr/>
              <a:tblGrid>
                <a:gridCol w="720360"/>
                <a:gridCol w="718560"/>
                <a:gridCol w="720720"/>
                <a:gridCol w="7182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e1f08"/>
                          </a:solidFill>
                          <a:latin typeface="Arial Black"/>
                        </a:rPr>
                        <a:t>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3" name=""/>
          <p:cNvGraphicFramePr/>
          <p:nvPr/>
        </p:nvGraphicFramePr>
        <p:xfrm>
          <a:off x="3276720" y="3429000"/>
          <a:ext cx="2874960" cy="574560"/>
        </p:xfrm>
        <a:graphic>
          <a:graphicData uri="http://schemas.openxmlformats.org/drawingml/2006/table">
            <a:tbl>
              <a:tblPr/>
              <a:tblGrid>
                <a:gridCol w="718560"/>
                <a:gridCol w="718920"/>
                <a:gridCol w="718560"/>
                <a:gridCol w="71892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e1f08"/>
                          </a:solidFill>
                          <a:latin typeface="Arial Black"/>
                        </a:rPr>
                        <a:t>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4" name=""/>
          <p:cNvGraphicFramePr/>
          <p:nvPr/>
        </p:nvGraphicFramePr>
        <p:xfrm>
          <a:off x="4716360" y="2276640"/>
          <a:ext cx="2878200" cy="576000"/>
        </p:xfrm>
        <a:graphic>
          <a:graphicData uri="http://schemas.openxmlformats.org/drawingml/2006/table">
            <a:tbl>
              <a:tblPr/>
              <a:tblGrid>
                <a:gridCol w="719640"/>
                <a:gridCol w="719280"/>
                <a:gridCol w="719640"/>
                <a:gridCol w="71964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e1f08"/>
                          </a:solidFill>
                          <a:latin typeface="Arial Black"/>
                        </a:rPr>
                        <a:t>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9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5" name=""/>
          <p:cNvSpPr/>
          <p:nvPr/>
        </p:nvSpPr>
        <p:spPr>
          <a:xfrm>
            <a:off x="684360" y="4076640"/>
            <a:ext cx="7561080" cy="26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.Установление республики в Англии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2.Утверждение папой ордена Иезуитов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3.Принятие Декларации независимости США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4.Переворот 9 термидора. Конец революции во Франции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1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зобретения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ое значение имеет появление этих изобретений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1"/>
          <a:stretch/>
        </p:blipFill>
        <p:spPr>
          <a:xfrm>
            <a:off x="179280" y="3141720"/>
            <a:ext cx="3961080" cy="338292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2"/>
          <a:stretch/>
        </p:blipFill>
        <p:spPr>
          <a:xfrm>
            <a:off x="4284720" y="3141720"/>
            <a:ext cx="3527280" cy="3382920"/>
          </a:xfrm>
          <a:prstGeom prst="rect">
            <a:avLst/>
          </a:prstGeom>
          <a:ln w="0">
            <a:noFill/>
          </a:ln>
        </p:spPr>
      </p:pic>
      <p:sp>
        <p:nvSpPr>
          <p:cNvPr id="1032" name=""/>
          <p:cNvSpPr txBox="1"/>
          <p:nvPr/>
        </p:nvSpPr>
        <p:spPr>
          <a:xfrm>
            <a:off x="611280" y="2637000"/>
            <a:ext cx="698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изображено на этих картинах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3" name=""/>
          <p:cNvSpPr/>
          <p:nvPr/>
        </p:nvSpPr>
        <p:spPr>
          <a:xfrm>
            <a:off x="1403280" y="260280"/>
            <a:ext cx="72723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116000" y="189000"/>
            <a:ext cx="5742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\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3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акат рыцарст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1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Новое время происходит закат средневекового рыцарств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зовите причин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1042920" y="1268280"/>
            <a:ext cx="3240000" cy="107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спомним.                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8" name=""/>
          <p:cNvSpPr/>
          <p:nvPr/>
        </p:nvSpPr>
        <p:spPr>
          <a:xfrm>
            <a:off x="1908000" y="260280"/>
            <a:ext cx="62643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1"/>
          <a:stretch/>
        </p:blipFill>
        <p:spPr>
          <a:xfrm>
            <a:off x="5651640" y="2852640"/>
            <a:ext cx="3168360" cy="4005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  <p:sndAc>
      <p:stSnd>
        <p:snd r:embed="rId2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6327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3779640" y="1484280"/>
            <a:ext cx="494172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 родился во Флоренции. Впервые сделал вывод, который носился в воздухе, но который не мог сделать Колум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крытые за Атлантикой земли- не Азия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и страны следует назвать Новым Светом. У наших предков о них не было никакого представлен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именование в его честь огромного и не им открытого материка осталось в истории, по выражению знаменитого географа 19 века Александра фон Гумбольдта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мятником человеческой несправедливост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2"/>
          <a:stretch/>
        </p:blipFill>
        <p:spPr>
          <a:xfrm>
            <a:off x="468360" y="2857680"/>
            <a:ext cx="3816360" cy="4000320"/>
          </a:xfrm>
          <a:prstGeom prst="rect">
            <a:avLst/>
          </a:prstGeom>
          <a:ln w="0">
            <a:noFill/>
          </a:ln>
        </p:spPr>
      </p:pic>
      <p:pic>
        <p:nvPicPr>
          <p:cNvPr id="1043" name="" descr=""/>
          <p:cNvPicPr/>
          <p:nvPr/>
        </p:nvPicPr>
        <p:blipFill>
          <a:blip r:embed="rId3"/>
          <a:stretch/>
        </p:blipFill>
        <p:spPr>
          <a:xfrm>
            <a:off x="6227640" y="5229360"/>
            <a:ext cx="2232000" cy="1915920"/>
          </a:xfrm>
          <a:prstGeom prst="rect">
            <a:avLst/>
          </a:prstGeom>
          <a:ln w="0">
            <a:noFill/>
          </a:ln>
        </p:spPr>
      </p:pic>
      <p:sp>
        <p:nvSpPr>
          <p:cNvPr id="1044" name=""/>
          <p:cNvSpPr txBox="1"/>
          <p:nvPr/>
        </p:nvSpPr>
        <p:spPr>
          <a:xfrm>
            <a:off x="1547640" y="189000"/>
            <a:ext cx="4897440" cy="20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Мореплават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68360" y="2421000"/>
            <a:ext cx="3816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О ком здесь идет речь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258920" y="333360"/>
            <a:ext cx="6481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6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3635280" y="2492280"/>
            <a:ext cx="512136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ртугальский мореплаватель и воин. Его флотилия состояла из пяти кораблей 1519г отправились к Канарским островам, путешествие было трудны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терпел крушение корабл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тьяг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27 апреля 1521 г великий мореплаватель находясь на пороге осуществления своей мечты, погиб в нелепой стычке с туземц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ое в истории кругосветное путешествие закончилось 8сентября 1522г.Оно продолжалось почти 3 года, из 265человек команды вернулись лишь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9" name="" descr=""/>
          <p:cNvPicPr/>
          <p:nvPr/>
        </p:nvPicPr>
        <p:blipFill>
          <a:blip r:embed="rId2"/>
          <a:stretch/>
        </p:blipFill>
        <p:spPr>
          <a:xfrm>
            <a:off x="179280" y="2492280"/>
            <a:ext cx="3745080" cy="4176720"/>
          </a:xfrm>
          <a:prstGeom prst="rect">
            <a:avLst/>
          </a:prstGeom>
          <a:ln w="0">
            <a:noFill/>
          </a:ln>
        </p:spPr>
      </p:pic>
      <p:sp>
        <p:nvSpPr>
          <p:cNvPr id="1050" name=""/>
          <p:cNvSpPr txBox="1"/>
          <p:nvPr/>
        </p:nvSpPr>
        <p:spPr>
          <a:xfrm>
            <a:off x="2050920" y="189000"/>
            <a:ext cx="4897440" cy="20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Мореплават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>
    <p:diamond/>
    <p:sndAc>
      <p:stSnd>
        <p:snd r:embed="rId5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5107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3360240" y="2636640"/>
            <a:ext cx="56041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1497г снарядив 4 корабля, вышел из лиссабонского пор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ртугальцы повернули на северо-восток. Муссон надул паруса и понёс корабли к берегам Индии, через 23 дня пути лоцман привёл флотилию к западному побережью Инд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месяцев утомительного плавания, десятки моряков погибли от болезней, но они добрались до сказочной Инд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3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3456000" cy="4292640"/>
          </a:xfrm>
          <a:prstGeom prst="rect">
            <a:avLst/>
          </a:prstGeom>
          <a:ln w="0">
            <a:noFill/>
          </a:ln>
        </p:spPr>
      </p:pic>
      <p:sp>
        <p:nvSpPr>
          <p:cNvPr id="1054" name=""/>
          <p:cNvSpPr txBox="1"/>
          <p:nvPr/>
        </p:nvSpPr>
        <p:spPr>
          <a:xfrm>
            <a:off x="2195640" y="476280"/>
            <a:ext cx="4895640" cy="18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Мореплават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71640" y="404640"/>
            <a:ext cx="72723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5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32880" y="189000"/>
            <a:ext cx="85107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545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читают, что он родился в 1451г в Генуе. Жизнь города была связана с морем и он выходил в море ещё подростком. С предложением об организации экспедиции он обращался к английскому и португальскому королям, но они отказались вкладывать деньги в сомнительное дело, последней надеждой оставалась Испания. Семь лет пришлось ждать мореплавателю пока королевская чета подписала с ним догово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плавания подобрали 3 корабл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равеллы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ин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нь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флагманский корабл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нта-Мар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492г они оказались на небольшом острове который адмирал назвал Сан-Сальвадо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знание заслуг пришло к мореплавателю через несколько десятилетий после его смер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2"/>
          <a:stretch/>
        </p:blipFill>
        <p:spPr>
          <a:xfrm>
            <a:off x="5796000" y="2852640"/>
            <a:ext cx="2879640" cy="3384720"/>
          </a:xfrm>
          <a:prstGeom prst="rect">
            <a:avLst/>
          </a:prstGeom>
          <a:ln w="0">
            <a:noFill/>
          </a:ln>
        </p:spPr>
      </p:pic>
      <p:sp>
        <p:nvSpPr>
          <p:cNvPr id="1059" name=""/>
          <p:cNvSpPr txBox="1"/>
          <p:nvPr/>
        </p:nvSpPr>
        <p:spPr>
          <a:xfrm>
            <a:off x="2916360" y="404640"/>
            <a:ext cx="5543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Мореплават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>
    <p:diamond/>
    <p:sndAc>
      <p:stSnd>
        <p:snd r:embed="rId5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0" y="34747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66cc"/>
                </a:solidFill>
                <a:uFillTx/>
                <a:latin typeface="comic"/>
              </a:rPr>
              <a:t>       </a:t>
            </a:r>
            <a:r>
              <a:rPr b="0" lang="en-US" sz="4000" spc="-1" strike="noStrike" u="sng">
                <a:solidFill>
                  <a:srgbClr val="ff66cc"/>
                </a:solidFill>
                <a:uFillTx/>
                <a:latin typeface="comic"/>
              </a:rPr>
              <a:t>Варфоломеевская ночь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062" name="" descr=""/>
          <p:cNvPicPr/>
          <p:nvPr/>
        </p:nvPicPr>
        <p:blipFill>
          <a:blip r:embed="rId1"/>
          <a:stretch/>
        </p:blipFill>
        <p:spPr>
          <a:xfrm>
            <a:off x="971640" y="3429000"/>
            <a:ext cx="5076720" cy="223920"/>
          </a:xfrm>
          <a:prstGeom prst="rect">
            <a:avLst/>
          </a:prstGeom>
          <a:ln w="0">
            <a:noFill/>
          </a:ln>
        </p:spPr>
      </p:pic>
      <p:pic>
        <p:nvPicPr>
          <p:cNvPr id="1063" name="" descr=""/>
          <p:cNvPicPr/>
          <p:nvPr/>
        </p:nvPicPr>
        <p:blipFill>
          <a:blip r:embed="rId2"/>
          <a:stretch/>
        </p:blipFill>
        <p:spPr>
          <a:xfrm>
            <a:off x="900000" y="4149720"/>
            <a:ext cx="5077080" cy="22392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"/>
          <p:cNvPicPr/>
          <p:nvPr/>
        </p:nvPicPr>
        <p:blipFill>
          <a:blip r:embed="rId3"/>
          <a:stretch/>
        </p:blipFill>
        <p:spPr>
          <a:xfrm>
            <a:off x="6012000" y="3500280"/>
            <a:ext cx="288720" cy="865440"/>
          </a:xfrm>
          <a:prstGeom prst="rect">
            <a:avLst/>
          </a:prstGeom>
          <a:ln w="0">
            <a:noFill/>
          </a:ln>
        </p:spPr>
      </p:pic>
      <p:pic>
        <p:nvPicPr>
          <p:cNvPr id="1065" name="" descr=""/>
          <p:cNvPicPr/>
          <p:nvPr/>
        </p:nvPicPr>
        <p:blipFill>
          <a:blip r:embed="rId4"/>
          <a:stretch/>
        </p:blipFill>
        <p:spPr>
          <a:xfrm>
            <a:off x="684360" y="3500280"/>
            <a:ext cx="288720" cy="792360"/>
          </a:xfrm>
          <a:prstGeom prst="rect">
            <a:avLst/>
          </a:prstGeom>
          <a:ln w="0">
            <a:noFill/>
          </a:ln>
        </p:spPr>
      </p:pic>
      <p:sp>
        <p:nvSpPr>
          <p:cNvPr id="1066" name=""/>
          <p:cNvSpPr txBox="1"/>
          <p:nvPr/>
        </p:nvSpPr>
        <p:spPr>
          <a:xfrm>
            <a:off x="900000" y="836640"/>
            <a:ext cx="5264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стань крылатых выражений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7" name=""/>
          <p:cNvSpPr/>
          <p:nvPr/>
        </p:nvSpPr>
        <p:spPr>
          <a:xfrm>
            <a:off x="900000" y="404640"/>
            <a:ext cx="54007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5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07:01:55Z</dcterms:created>
  <dc:creator>User</dc:creator>
  <dc:description/>
  <dc:language>en-US</dc:language>
  <cp:lastModifiedBy>User</cp:lastModifiedBy>
  <dcterms:modified xsi:type="dcterms:W3CDTF">2010-01-26T16:03:35Z</dcterms:modified>
  <cp:revision>22</cp:revision>
  <dc:subject/>
  <dc:title>Сквер изобретений</dc:title>
</cp:coreProperties>
</file>