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0C8-854F-426F-8972-CA9771AB0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0FFE-FC1E-4553-866C-8277FEE9A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630E-C70D-4F79-BE89-BEE7DF607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1A25-181E-4062-86B6-62A537EDA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EEC-B3E8-49BC-8C3E-056193204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3341-E4D4-4058-AC37-2DF7BB787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C457-9A2D-4C22-9E8C-13FE26105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A90-B250-49F6-9567-17CE6DC285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C87F-3BA1-45A6-A2B8-A3AB8B1BF3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E95-142F-4C52-BA43-461983AE13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726C-5DE7-4B12-8050-F94CFEF83A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5246-5C7E-425D-BF66-2CCFC15F3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2A1C-C43E-417D-AE37-9415B88D0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0E55-FE77-4143-913E-538C58BD1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0AF5-505E-43B5-ABEE-AF58AF58C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7EA5-BFD7-4D8E-9585-4E7B610BB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5C8-1C02-45E8-9FEA-98E91667C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FDF3-7647-476F-BAC9-5C5E4D1DC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5529-6150-4B4D-AEE0-DBAD0C2E4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2D24-68F8-4F3E-8498-9BD9BDBE9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E933-1ADC-4638-B579-49CD2837D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7D7C-3720-46FB-8653-E7FCA6446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8D01-94A1-4846-8CC1-8A6AFB299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2D4-5002-47C9-A1C9-DA080E50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613-84FD-48B5-BB7F-77E74BB5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33A-08E8-4018-9DF1-99D59394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533-F926-4BCF-8A8A-0C058D1F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635-192A-4E37-B436-4497360D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C08-ADA6-4B97-BD3B-0158A032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2A1-317F-47AB-971A-AF1034D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008-0913-4907-903A-0CDBAC65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CEE-DB86-44E1-B279-1A828D3A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101-1705-42AB-B7F2-1F5092C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99A-BAB6-41E7-AAA2-B5A6920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A41-27E0-4EF6-8E40-B6ADBE3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ADB9-0BE5-4DD0-81B3-5BF9940E8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§17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о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9.Современниками бы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Даниил Московский и хан Ба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Юрий Данилович и Михаил Яросла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Митрополит Максим и Дмитрий Дон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Хан Узбек и Сергий Радонеж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1920" y="380520"/>
            <a:ext cx="89917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10.От какого словосочетания произошло прозвище московского князя Ивана Даниилович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«Народный заступ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«Красивый челове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«Кошель с деньга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«Гордец, властолюбец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1920" y="228600"/>
            <a:ext cx="89917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11. Какая система наследования власти в Московском княжестве была установлена после смерти Ивана Даниилович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Выбо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Лествичная (старшему в род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От отца к сы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По решению прав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448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2.Русские князья всеми способами стремились получить ярлык 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киевское кня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.владимирское кня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тверское кня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.княжение в Новго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3.По какому принципу образованы ря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сковское княжест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верское княжеств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здальско-Нижегородск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няжеств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язанское княж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39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4.Определите причины возвышения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ждународная поддерж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сковские князья оказались более ловкими полити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ток населения из других княже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добство географического по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держка московских князей православной церков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5.Исход борьбы между Москвой и Тверью решился в пользу Москвы, так к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территория Москвы лучше защищена от напа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Москва имела более древние тради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Москва находилась на пресечении торговых пу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московские князья оказались более ловкими и дальновидными полити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6.Переезд митрополита Петра из Владимира в Москву означ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524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принятие нового церковного уст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.Превращение Москвы в церковный центр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Укрепление единства Русской православной церк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7.Вставить пропущен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 каждом великом княжестве существовали _________________________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орые выделялись сыновьям великого княз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-15264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1. В конце XIII - начале XIV  вв. начали складываться предпосылки объединения русских земель. Началась борьба отдельных центров за лидерство. Какое княжество на рубеже XIII- XIV вв. стало лидером среди русских земель?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Твер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Рязан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Нижегород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Суздаль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8.Отметьте причины и предпосылки объединения русских зем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182844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Хозяйственное возрождение Северо-Восточной Ру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Восстановление торговых связей между княже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необходимость свержения ордынского влады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охранение единства церковн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Единая вера, язык и культурные тра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90960" y="2438280"/>
            <a:ext cx="33526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Предпос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 (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 (самые сильные княжества, именовались велики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4 (б в д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5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6(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(удельные княж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 ( 1В   2А Б Г Д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Documents and Settings\Администратор\Рабочий стол\Scan.jpg"/>
          <p:cNvPicPr/>
          <p:nvPr/>
        </p:nvPicPr>
        <p:blipFill>
          <a:blip r:embed="rId1"/>
          <a:stretch/>
        </p:blipFill>
        <p:spPr>
          <a:xfrm>
            <a:off x="0" y="609480"/>
            <a:ext cx="891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2. Основателем династии московских князей и первым самостоятельным удельным князем Московским бы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Иван Кал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Даниил Александ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Александр Не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Михаил Яросла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1920" y="-360"/>
            <a:ext cx="8991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3. Какой город был присоединен к Московскому княжеству в правление князя Дании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)Каш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)Тве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)Колом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)Ряза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4. Один из городов отошел к Москве по завещанию бездетного племянника московского князя Даниила Александровича. О каком городе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ясл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Сузд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Ро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Новгород Вели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5. С захватом какого города Юрием Даниловичем весь бассейн Москвы-реки перешел полностью в руки Московских княз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Можай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Серпух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Переясл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Каши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1920" y="-360"/>
            <a:ext cx="8534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6. На чью поддержку опирался в своей борьбе за власть тверской князь Михаил Ярославич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Сергия Радонеж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Московского князя Юрия Даниил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Хана Орд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)Александра Не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1920" y="304920"/>
            <a:ext cx="89917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7. Кто стал первым московским князем, получившим в 1318 году в Орде у хана Узбека ярлык на великое княжение Владимирс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Дани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Миха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Ю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Ив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-228960"/>
            <a:ext cx="86868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8. Московский князь Юрий Даниилович женился на Кончаке, сестре ордынского х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ты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Тох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Узб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Ахм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манова Антонина</dc:creator>
  <dc:description/>
  <dc:language>en-US</dc:language>
  <cp:lastModifiedBy>романов</cp:lastModifiedBy>
  <dcterms:modified xsi:type="dcterms:W3CDTF">2013-03-30T15:24:1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