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FFDA-7829-4514-A54F-B841666C2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5DE2-E5C0-49EA-A805-F79B97D1C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D3DA-8598-4E07-B7C2-03C609778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C9CD-DA0F-44B7-B91D-DE9C31E81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52A07-F836-48AD-AD52-E3563DEA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C4687-A047-4ADE-8815-E79168E4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810F9-0730-459C-8365-8BB1E77D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21FB8-95FE-4A03-AB43-7F2B470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DB574-B54C-414A-ABA0-6798CB0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389E-1266-48B7-985B-B2DD8FA5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FB933-59AD-4D11-B32D-D611F31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8E4F-38EC-4344-AF49-E328FBBA7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DCE0F-0DB5-4998-A329-695A4F3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29CB-6D1E-4895-ABCE-FC92D9E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37B6-5098-47AC-8533-CF2284F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D43E8-A171-4A62-828C-E14B38A5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45F8-B3C7-4DDC-8EFC-E67CFF9B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48AC-7BB2-4654-B099-E4ED908DA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74DB-600F-4FC0-A65E-1FA09416E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651D-6CC0-4EDC-86A0-99DC5F25C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86FD-B807-4224-91FA-8FAF2F8C6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F243-70D0-4480-820D-F5F55D855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FB21-349A-4733-A4B9-16F31A753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262E-55C4-4ED9-AB65-2D935899F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1A5A-FAD0-452E-839A-59D2E8411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A45A-FF3A-43F7-9202-6A27EFE784E4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45C0-0492-4F11-8D18-C7692C6EBF2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6920" y="304560"/>
            <a:ext cx="6215400" cy="49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редпосылки объединения русских земель 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Усиление Московского княжеств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Юрий Данилович (1303-1325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7280" y="5214960"/>
            <a:ext cx="88567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Работа с учебником и рабочей тетрадью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Picture 2" descr="C:\Documents and Settings\Администратор\Рабочий стол\knyaz1.gif"/>
          <p:cNvPicPr/>
          <p:nvPr/>
        </p:nvPicPr>
        <p:blipFill>
          <a:blip r:embed="rId1"/>
          <a:stretch/>
        </p:blipFill>
        <p:spPr>
          <a:xfrm>
            <a:off x="3143160" y="1498680"/>
            <a:ext cx="3286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а васнецов м кремль приив ка"/>
          <p:cNvPicPr/>
          <p:nvPr/>
        </p:nvPicPr>
        <p:blipFill>
          <a:blip r:embed="rId1"/>
          <a:stretch/>
        </p:blipFill>
        <p:spPr>
          <a:xfrm>
            <a:off x="731880" y="0"/>
            <a:ext cx="8232840" cy="53578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5643360"/>
            <a:ext cx="8763120" cy="113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325 г. московский стол занял Иван Данило-вич ( по прозвищу Калита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6320" y="2060640"/>
            <a:ext cx="3052080" cy="11912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.Васне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осковский Кремл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 Иване Калит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428320" cy="13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Иван Данилович Калита</a:t>
            </a: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 (1325-1340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Picture 2" descr="C:\Documents and Settings\Администратор\Рабочий стол\Kalita2.jpg"/>
          <p:cNvPicPr/>
          <p:nvPr/>
        </p:nvPicPr>
        <p:blipFill>
          <a:blip r:embed="rId1"/>
          <a:stretch/>
        </p:blipFill>
        <p:spPr>
          <a:xfrm>
            <a:off x="4025880" y="1071720"/>
            <a:ext cx="43228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Работа с учебником и рабочей тетрадью (задание 3) 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6160" y="0"/>
            <a:ext cx="464832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Иван Калита превратил Москву в религиоз- ный центр Рус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Митрополит Петр переехал из Владимира в Москв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Калита следил за «се-мейными» делами у соседей и сумел бра-ками детей, или куп-лей закрепить за Моск вой новые земл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возгласил себя «князем московским и всея Руси»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1" name="Picture 8" descr="1"/>
          <p:cNvPicPr/>
          <p:nvPr/>
        </p:nvPicPr>
        <p:blipFill>
          <a:blip r:embed="rId1"/>
          <a:stretch/>
        </p:blipFill>
        <p:spPr>
          <a:xfrm>
            <a:off x="471600" y="836640"/>
            <a:ext cx="3308400" cy="53290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32" name="Text Box 9"/>
          <p:cNvSpPr/>
          <p:nvPr/>
        </p:nvSpPr>
        <p:spPr>
          <a:xfrm>
            <a:off x="0" y="6237360"/>
            <a:ext cx="4067280" cy="45972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итрополит Петр. Икон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8000" y="5616720"/>
            <a:ext cx="9036000" cy="1241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359 году на московский  престол взошел 9-летний внук Ивана Калиты - Дмитрий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4" name="Picture 6" descr="а"/>
          <p:cNvPicPr/>
          <p:nvPr/>
        </p:nvPicPr>
        <p:blipFill>
          <a:blip r:embed="rId1"/>
          <a:stretch/>
        </p:blipFill>
        <p:spPr>
          <a:xfrm>
            <a:off x="210960" y="128520"/>
            <a:ext cx="8647200" cy="5300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35" name="Text Box 7"/>
          <p:cNvSpPr/>
          <p:nvPr/>
        </p:nvSpPr>
        <p:spPr>
          <a:xfrm>
            <a:off x="214200" y="285840"/>
            <a:ext cx="4500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.Васнецов. Московский Кремль при Дмитрии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78688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Что позволило Москве взять верх в борьбе с Тверью?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редпосылки и причины объединения русских земель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440" y="1571760"/>
            <a:ext cx="7086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Укажите основные предпосылки объединения русских земель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</a:rPr>
              <a:t>Как вы думаете, какие из них, экономические или политические сыграли наиболее значимую роль в объединении Руси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олитическая система Рус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8440" y="2857320"/>
            <a:ext cx="708660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Работа со схемой, задание 1 в раб. тетради и учебник, пункт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« Политическая система Руси»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Борьба Москвы и Твер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440" y="2786040"/>
            <a:ext cx="7086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00040"/>
            <a:ext cx="89996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Александр Невский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cxnSp>
        <p:nvCxnSpPr>
          <p:cNvPr id="104" name="Прямая со стрелкой 4"/>
          <p:cNvCxnSpPr/>
          <p:nvPr/>
        </p:nvCxnSpPr>
        <p:spPr>
          <a:xfrm flipH="1">
            <a:off x="3500280" y="1500120"/>
            <a:ext cx="643320" cy="572400"/>
          </a:xfrm>
          <a:prstGeom prst="straightConnector1">
            <a:avLst/>
          </a:prstGeom>
          <a:ln cap="sq" w="57240">
            <a:solidFill>
              <a:srgbClr val="336699"/>
            </a:solidFill>
            <a:miter/>
            <a:tailEnd len="med" type="arrow" w="med"/>
          </a:ln>
        </p:spPr>
      </p:cxnSp>
      <p:cxnSp>
        <p:nvCxnSpPr>
          <p:cNvPr id="105" name="Прямая со стрелкой 6"/>
          <p:cNvCxnSpPr/>
          <p:nvPr/>
        </p:nvCxnSpPr>
        <p:spPr>
          <a:xfrm>
            <a:off x="6500880" y="1500120"/>
            <a:ext cx="643320" cy="572400"/>
          </a:xfrm>
          <a:prstGeom prst="straightConnector1">
            <a:avLst/>
          </a:prstGeom>
          <a:ln cap="sq" w="57240">
            <a:solidFill>
              <a:srgbClr val="336699"/>
            </a:solidFill>
            <a:miter/>
            <a:tailEnd len="med" type="arrow" w="med"/>
          </a:ln>
        </p:spPr>
      </p:cxnSp>
      <p:sp>
        <p:nvSpPr>
          <p:cNvPr id="106" name="TextBox 7"/>
          <p:cNvSpPr/>
          <p:nvPr/>
        </p:nvSpPr>
        <p:spPr>
          <a:xfrm>
            <a:off x="642960" y="2000160"/>
            <a:ext cx="3643200" cy="947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Брат,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Ярослав Ярославич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786200" y="2000160"/>
            <a:ext cx="4357800" cy="947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Сын, 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Даниил Александрович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8" name="Picture 2" descr="C:\Documents and Settings\Администратор\Рабочий стол\0_5ede7_9dc7a533_XL.jpeg"/>
          <p:cNvPicPr/>
          <p:nvPr/>
        </p:nvPicPr>
        <p:blipFill>
          <a:blip r:embed="rId1"/>
          <a:stretch/>
        </p:blipFill>
        <p:spPr>
          <a:xfrm>
            <a:off x="1428840" y="2928960"/>
            <a:ext cx="2262240" cy="2797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214200" y="5929200"/>
            <a:ext cx="4429080" cy="825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Тверское княжество,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 1304 права на Вл. княжени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857840" y="59292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осковское княжеств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1" name="Picture 4" descr="C:\Documents and Settings\Администратор\Рабочий стол\im999E.jpg"/>
          <p:cNvPicPr/>
          <p:nvPr/>
        </p:nvPicPr>
        <p:blipFill>
          <a:blip r:embed="rId2"/>
          <a:stretch/>
        </p:blipFill>
        <p:spPr>
          <a:xfrm>
            <a:off x="5500800" y="2955960"/>
            <a:ext cx="2243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великий князь данииил фреска арх собора кремля 17 в"/>
          <p:cNvPicPr/>
          <p:nvPr/>
        </p:nvPicPr>
        <p:blipFill>
          <a:blip r:embed="rId1"/>
          <a:stretch/>
        </p:blipFill>
        <p:spPr>
          <a:xfrm>
            <a:off x="5143680" y="0"/>
            <a:ext cx="3857400" cy="5570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3" name="Text Box 9"/>
          <p:cNvSpPr/>
          <p:nvPr/>
        </p:nvSpPr>
        <p:spPr>
          <a:xfrm>
            <a:off x="0" y="5643720"/>
            <a:ext cx="9144000" cy="131292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Великий князь Даниил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Фреска Успенского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собора Кремля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428840" y="714240"/>
            <a:ext cx="34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Times New Roman"/>
              </a:rPr>
              <a:t>(1276-1303)</a:t>
            </a:r>
            <a:endParaRPr b="1" lang="en-US" sz="4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22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Как расширил Даниил Александрович территорию Московского княжества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0160" y="2714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Работа с учебником, рабочая тетрадь, задание 3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42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Московское княжество в 1300-1340гг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2" descr="C:\Documents and Settings\Администратор\Рабочий стол\mos-kn2.gif"/>
          <p:cNvPicPr/>
          <p:nvPr/>
        </p:nvPicPr>
        <p:blipFill>
          <a:blip r:embed="rId1"/>
          <a:stretch/>
        </p:blipFill>
        <p:spPr>
          <a:xfrm>
            <a:off x="357120" y="1285920"/>
            <a:ext cx="83980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Московское княжество в 1340-1462 гг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0" name="Picture 2" descr="C:\Documents and Settings\Администратор\Рабочий стол\mos-kn.gif"/>
          <p:cNvPicPr/>
          <p:nvPr/>
        </p:nvPicPr>
        <p:blipFill>
          <a:blip r:embed="rId1"/>
          <a:stretch/>
        </p:blipFill>
        <p:spPr>
          <a:xfrm>
            <a:off x="285840" y="928800"/>
            <a:ext cx="863424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fo96tina</cp:lastModifiedBy>
  <cp:lastPrinted>1997-01-19T19:09:28Z</cp:lastPrinted>
  <dcterms:modified xsi:type="dcterms:W3CDTF">2013-03-25T05:17:44Z</dcterms:modified>
  <cp:revision>78</cp:revision>
  <dc:subject/>
  <dc:title>Заголовок слайда отсутствует</dc:title>
</cp:coreProperties>
</file>