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9A5-44D9-4AE7-AA42-971141D6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09B-E794-4C40-B973-2497EA77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408-16A1-4ED6-ADB9-C07B1167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149-CEA4-470D-B86F-76B29F8C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ADA8-54B7-4091-A635-C5C70327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86C2-029B-436E-94EC-D65276B6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9B51-E235-4E4C-B11F-EE5E52CB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507E-B1DB-4AFD-A3C4-29A3682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5D4F-A733-4C88-A1F0-8ED2BD0E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6C3F-CB27-49AF-B5E1-A9AC1E60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050A-5356-4EC5-A748-7EC41B2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857-089B-41A1-85DA-D96B5F93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8ACD-12FE-442E-864F-1AB1B2D2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739-8D57-4C44-B113-DB6E401B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2C9D-3262-49AB-A6E0-547BECF6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D2C1-9871-4D80-8B2B-00FDB7DF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4925-F573-4937-989C-C85F0573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DAC-864A-4DC9-8F19-2E360C3E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B3B-E7F3-4AB8-A9F1-0032F7F2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A11-569B-4A58-8093-FAE101BD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419-3CEA-42B2-BF61-232C0E03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656-40EB-4786-908A-8A1D1172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7D2-FFE6-4C87-9289-957A4E4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1D0-36BB-4032-BAA8-10806E99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1C0E-5364-40B2-9BD8-CE93CB8362CE}" type="slidenum">
              <a:rPr b="0" lang="ru-R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76320" y="1708200"/>
            <a:ext cx="91468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0031-96F2-432A-A9A8-9A937E55BCA3}" type="slidenum">
              <a:rPr b="0" lang="ru-R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99"/>
                </a:solidFill>
                <a:latin typeface="Arial Narrow"/>
              </a:rPr>
              <a:t>Окно САПР КОМПАС-3</a:t>
            </a: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86" name="Object 13"/>
          <p:cNvGraphicFramePr/>
          <p:nvPr/>
        </p:nvGraphicFramePr>
        <p:xfrm>
          <a:off x="152280" y="2209680"/>
          <a:ext cx="880272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09680"/>
                    <a:ext cx="880272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1143000" y="380880"/>
          <a:ext cx="19954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1995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3"/>
          <p:cNvSpPr/>
          <p:nvPr/>
        </p:nvSpPr>
        <p:spPr>
          <a:xfrm>
            <a:off x="2971800" y="1828800"/>
            <a:ext cx="762120" cy="4495680"/>
          </a:xfrm>
          <a:custGeom>
            <a:avLst/>
            <a:gdLst>
              <a:gd name="textAreaLeft" fmla="*/ 0 w 762120"/>
              <a:gd name="textAreaRight" fmla="*/ 275040 w 76212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038480" y="2209680"/>
            <a:ext cx="4800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Панель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Выделение 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 позволяет осуществлять различные варианты выделения объектов, выделить отдельные объекты или группы объектов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886200" y="1981080"/>
            <a:ext cx="4952880" cy="41911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1143000" y="533520"/>
          <a:ext cx="196524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196524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AutoShape 3"/>
          <p:cNvSpPr/>
          <p:nvPr/>
        </p:nvSpPr>
        <p:spPr>
          <a:xfrm>
            <a:off x="2971800" y="1981080"/>
            <a:ext cx="762120" cy="4343400"/>
          </a:xfrm>
          <a:custGeom>
            <a:avLst/>
            <a:gdLst>
              <a:gd name="textAreaLeft" fmla="*/ 0 w 762120"/>
              <a:gd name="textAreaRight" fmla="*/ 275040 w 7621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038480" y="1752480"/>
            <a:ext cx="4496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Панель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Измерения 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позволяет измерять расстояния (вычисляются и отображаются в миллиметрах), углы (в градусах), периметры и площади различных объектов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62520" y="1676520"/>
            <a:ext cx="4724280" cy="47242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2"/>
          <p:cNvGraphicFramePr/>
          <p:nvPr/>
        </p:nvGraphicFramePr>
        <p:xfrm>
          <a:off x="1143000" y="685800"/>
          <a:ext cx="1643040" cy="52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164304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AutoShape 3"/>
          <p:cNvSpPr/>
          <p:nvPr/>
        </p:nvSpPr>
        <p:spPr>
          <a:xfrm>
            <a:off x="2971800" y="1828800"/>
            <a:ext cx="762120" cy="4038480"/>
          </a:xfrm>
          <a:custGeom>
            <a:avLst/>
            <a:gdLst>
              <a:gd name="textAreaLeft" fmla="*/ 0 w 762120"/>
              <a:gd name="textAreaRight" fmla="*/ 275040 w 7621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62520" y="1981080"/>
            <a:ext cx="4647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Панель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Размеры и технологические обозначения 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позволяет грамотно оформить чертеж, обозначить на чертеже размеры деталей и сделать надписи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809880" y="1905120"/>
            <a:ext cx="5029200" cy="39621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981080" y="68580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99"/>
                </a:solidFill>
                <a:latin typeface="Times New Roman"/>
              </a:rPr>
              <a:t>Построение основных чертежных объектов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95480" y="2743200"/>
            <a:ext cx="5639040" cy="30481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3352680" y="2971800"/>
          <a:ext cx="4829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971800"/>
                    <a:ext cx="4829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5867280" cy="4403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2666880" y="609480"/>
            <a:ext cx="457200" cy="1143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33520" y="457200"/>
          <a:ext cx="1800000" cy="581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180000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Line 5"/>
          <p:cNvSpPr/>
          <p:nvPr/>
        </p:nvSpPr>
        <p:spPr>
          <a:xfrm flipH="1">
            <a:off x="2285640" y="1371600"/>
            <a:ext cx="30492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514600" y="487692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Выбор создаваемого чертежного объекта (точки, отрезка, окружности, прямоугольника и прочих) осуществляется с помощью панели</a:t>
            </a:r>
            <a:r>
              <a:rPr b="0" i="1" lang="ru-RU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Геометрические построения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7696080" y="304920"/>
          <a:ext cx="109404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04920"/>
                    <a:ext cx="1094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"/>
          <p:cNvGraphicFramePr/>
          <p:nvPr/>
        </p:nvGraphicFramePr>
        <p:xfrm>
          <a:off x="380880" y="3962520"/>
          <a:ext cx="67820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6782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1219320" y="3808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После выбора объекта щелчком мышью на соответствующей кнопке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095880" y="990720"/>
            <a:ext cx="144792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920" y="1371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появляе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ока параметров объекта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33520" y="20574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Строка параметров включает в себя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нопки состояния полей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80880" y="3962520"/>
            <a:ext cx="228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286000" y="3962520"/>
            <a:ext cx="228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295280" y="3962520"/>
            <a:ext cx="228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3505320" y="3962520"/>
            <a:ext cx="228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533160" y="3048120"/>
            <a:ext cx="3124440" cy="914400"/>
            <a:chOff x="533160" y="3048120"/>
            <a:chExt cx="3124440" cy="914400"/>
          </a:xfrm>
        </p:grpSpPr>
        <p:sp>
          <p:nvSpPr>
            <p:cNvPr id="161" name="Line 13"/>
            <p:cNvSpPr/>
            <p:nvPr/>
          </p:nvSpPr>
          <p:spPr>
            <a:xfrm flipH="1">
              <a:off x="533160" y="3048120"/>
              <a:ext cx="190476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 flipH="1">
              <a:off x="1447560" y="3048120"/>
              <a:ext cx="114300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 flipH="1">
              <a:off x="2437920" y="3048120"/>
              <a:ext cx="22860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2895480" y="3048120"/>
              <a:ext cx="76212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aphicFrame>
        <p:nvGraphicFramePr>
          <p:cNvPr id="165" name="Object 19"/>
          <p:cNvGraphicFramePr/>
          <p:nvPr/>
        </p:nvGraphicFramePr>
        <p:xfrm>
          <a:off x="457200" y="5791320"/>
          <a:ext cx="67816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791320"/>
                    <a:ext cx="6781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20"/>
          <p:cNvSpPr/>
          <p:nvPr/>
        </p:nvSpPr>
        <p:spPr>
          <a:xfrm>
            <a:off x="685800" y="5791320"/>
            <a:ext cx="76212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1676520" y="5791320"/>
            <a:ext cx="76176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2666880" y="5791320"/>
            <a:ext cx="3812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3124080" y="5791320"/>
            <a:ext cx="4572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1" name="Group 28"/>
          <p:cNvGrpSpPr/>
          <p:nvPr/>
        </p:nvGrpSpPr>
        <p:grpSpPr>
          <a:xfrm>
            <a:off x="1295280" y="5029200"/>
            <a:ext cx="2057400" cy="685800"/>
            <a:chOff x="1295280" y="5029200"/>
            <a:chExt cx="2057400" cy="685800"/>
          </a:xfrm>
        </p:grpSpPr>
        <p:sp>
          <p:nvSpPr>
            <p:cNvPr id="172" name="Line 24"/>
            <p:cNvSpPr/>
            <p:nvPr/>
          </p:nvSpPr>
          <p:spPr>
            <a:xfrm flipH="1">
              <a:off x="1295280" y="5029200"/>
              <a:ext cx="18288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 flipH="1">
              <a:off x="2286000" y="5105520"/>
              <a:ext cx="83808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 flipH="1">
              <a:off x="2895120" y="5105520"/>
              <a:ext cx="3049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3276720" y="5105520"/>
              <a:ext cx="759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6" name="Text Box 29"/>
          <p:cNvSpPr/>
          <p:nvPr/>
        </p:nvSpPr>
        <p:spPr>
          <a:xfrm>
            <a:off x="266688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и сам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оля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219320" y="6094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По внешнему виду кнопки можно судить о состоянии поля, которое может находиться в одном из трех состояний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380880" y="4876920"/>
          <a:ext cx="838224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76920"/>
                    <a:ext cx="83822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457200" y="5029200"/>
            <a:ext cx="38088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2819520" y="5029200"/>
            <a:ext cx="38088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5181480" y="5029200"/>
            <a:ext cx="38124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609480" y="365760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5334120" y="37339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3048120" y="37339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0" y="24382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Фиксированном (обозначается «крестиком»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590920" y="182880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 режиме ожидания ввода (обозначается «галочкой»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4876920" y="25146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оступном для ввода (ничем не обозначается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762120" y="3808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аждый объект обладает определенным набором параметров, которые характеризуют его размеры и положение на чертеже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90" name="Object 3"/>
          <p:cNvGraphicFramePr/>
          <p:nvPr/>
        </p:nvGraphicFramePr>
        <p:xfrm>
          <a:off x="1066680" y="1219320"/>
          <a:ext cx="1148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1148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2743200" y="1752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Например, после выбора на панели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Геометрические построения 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нопки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Ввод отрезка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2286000" y="2743200"/>
            <a:ext cx="27432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743200" y="3352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появится строка с параметрами отрезка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95" name="Object 7"/>
          <p:cNvGraphicFramePr/>
          <p:nvPr/>
        </p:nvGraphicFramePr>
        <p:xfrm>
          <a:off x="2362320" y="3962520"/>
          <a:ext cx="661032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962520"/>
                    <a:ext cx="66103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8"/>
          <p:cNvSpPr/>
          <p:nvPr/>
        </p:nvSpPr>
        <p:spPr>
          <a:xfrm>
            <a:off x="2286000" y="502776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ординатами его начальной точки (р1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 flipV="1">
            <a:off x="2666880" y="4572000"/>
            <a:ext cx="1526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114800" y="50292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ординатами его конечной точки (р2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 flipV="1">
            <a:off x="4572000" y="45720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579132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Длиной 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n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6172200" y="4572000"/>
            <a:ext cx="152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6858000" y="5029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глом наклона 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n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Line 15"/>
          <p:cNvSpPr/>
          <p:nvPr/>
        </p:nvSpPr>
        <p:spPr>
          <a:xfrm flipV="1">
            <a:off x="7238880" y="4572000"/>
            <a:ext cx="228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848720" y="507348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тилем линии (сплошная, пунктирн. и пр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Line 17"/>
          <p:cNvSpPr/>
          <p:nvPr/>
        </p:nvSpPr>
        <p:spPr>
          <a:xfrm flipV="1">
            <a:off x="8229600" y="4495680"/>
            <a:ext cx="228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914400" y="45720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При создании и редактировании объектов работа со строкой параметров сводится к активизации нужных полей и вводу в них заданных параметров. После ввода минимального набора параметров, достаточных для построения объекта (для отрезка - координат начальной и конечной точек), система автоматически создает объект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2895480" y="3124080"/>
          <a:ext cx="5791320" cy="34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124080"/>
                    <a:ext cx="579132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Ввод необходимых для построения объекта параметров можно осуществлять различными способами: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втоматический ввод параметров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роизводится в процессе рисования объекта щелчками мышью в рабочем поле;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учной ввод параметров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роизводится путем ввода чисел с клавиатуры в поля строки параметров;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вод параметров с использование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ометрического калькулятора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озволяет при рисовании объектов снимать значения их параметров с других объектов, размещенных на чертеже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3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3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3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629400" cy="4975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371600" y="5257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В центре окна приложения располагае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абочее поле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, в котором производится создание чертежей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752480" y="838080"/>
            <a:ext cx="6096240" cy="3581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276720" y="1371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абочее поле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Типы документов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Times New Roman"/>
              </a:rPr>
              <a:t>Лист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  чертежа - основной объект проектирования. Лист чертежа представляет собой непосредственно изображение (чертеж) и его оформление - задание формата листа бумаги, типа основной надписи (штампа). В структуру листа чертежа могут входить виды, технические требования,  неуказанная шероховатость, объекты связанной с листом спецификации;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Типы документов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Times New Roman"/>
              </a:rPr>
              <a:t>Фрагмент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чертежа - только изображение - набор геометрических элементов и элементы оформления чертежа (размеры);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Times New Roman"/>
              </a:rPr>
              <a:t>Текстовый документ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 - оформление сопроводительной технической документации на выбранном шаблоне в соответствии с ГОСТ ЕСКД;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Times New Roman"/>
              </a:rPr>
              <a:t>Спецификация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Внимание!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При работе с системой КОМПАС-ГРАФИК следите за нижней строкой рабочего окна системы. Все подсказки в процессе работы появляются именно в этой строке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Внимание!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Большинство кнопок панели инструментов “</a:t>
            </a:r>
            <a:r>
              <a:rPr b="1" lang="ru-RU" sz="2800" spc="-1" strike="noStrike">
                <a:solidFill>
                  <a:srgbClr val="009999"/>
                </a:solidFill>
                <a:latin typeface="Times New Roman"/>
              </a:rPr>
              <a:t>Редактирование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” включаются только после выделения на чертеже объекта (или группы объектов), над которым будет производиться выбранная операция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Привязки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При построении чертежа возникает вопрос о геометрических привязках, т.е. о точном задании характерных точек контура. К таким точкам могут быть отнесены  следующие: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ближайшая точка (конец отрезка, дуги, сплайна);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пересечение;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касание;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нормаль;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центр (дуги, окружности. эллипса);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точка на кривой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629400" cy="4975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609480" y="5029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В рабочем поле размещается система координат, положение курсора отсчитывается от начала системы координат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920" y="5670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Текущее значение курсора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X 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Y 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отображается в правой част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оки текущего состояния, 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расположенной в нижней части окна приложения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Oval 6"/>
          <p:cNvSpPr/>
          <p:nvPr/>
        </p:nvSpPr>
        <p:spPr>
          <a:xfrm>
            <a:off x="487692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10280" y="4572000"/>
            <a:ext cx="1067040" cy="228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>
            <a:off x="304920" y="4648320"/>
            <a:ext cx="99036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629400" cy="4975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0" y="5181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Оперативную помощь в процессе черчения пользователь может получить 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оке сообщений,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 которая располагается ниже строки текущего состояния. В строке сообщений появляются подсказки по текущему действию или описание выбранной команды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295280" y="4724280"/>
            <a:ext cx="6858000" cy="228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629400" cy="49752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28600" y="5181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Создание и редактирование чертежей выполняется с помощью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нструментальной панели, 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</a:rPr>
              <a:t>которая размещается в левом верхнем углу окна приложения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295280" y="609480"/>
            <a:ext cx="5335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644400" y="990720"/>
          <a:ext cx="14860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990720"/>
                    <a:ext cx="14860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AutoShape 3"/>
          <p:cNvSpPr/>
          <p:nvPr/>
        </p:nvSpPr>
        <p:spPr>
          <a:xfrm>
            <a:off x="2362320" y="99072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362320" y="2209680"/>
            <a:ext cx="533160" cy="3505320"/>
          </a:xfrm>
          <a:custGeom>
            <a:avLst/>
            <a:gdLst>
              <a:gd name="textAreaLeft" fmla="*/ 0 w 533160"/>
              <a:gd name="textAreaRight" fmla="*/ 192600 w 53316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819520" y="106668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Панель переключения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895480" y="33526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Панель геометрические построения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8680" y="1066680"/>
            <a:ext cx="320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Times New Roman"/>
              </a:rPr>
              <a:t>Инструментальная панель включает в себ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анель переключения, </a:t>
            </a:r>
            <a:r>
              <a:rPr b="0" lang="ru-RU" sz="2800" spc="-1" strike="noStrike">
                <a:solidFill>
                  <a:srgbClr val="009999"/>
                </a:solidFill>
                <a:latin typeface="Times New Roman"/>
              </a:rPr>
              <a:t>которая обеспечивает переходы между пятью различными рабочими панелями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486400" y="990720"/>
            <a:ext cx="3429000" cy="4572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057400" y="1143000"/>
            <a:ext cx="6705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9999"/>
                </a:solidFill>
                <a:latin typeface="Times New Roman"/>
              </a:rPr>
              <a:t>Каждая рабочая панель содержит набор кнопок определенного функционального назначения.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1143000" y="457200"/>
          <a:ext cx="1800360" cy="58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80036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AutoShape 3"/>
          <p:cNvSpPr/>
          <p:nvPr/>
        </p:nvSpPr>
        <p:spPr>
          <a:xfrm>
            <a:off x="2971800" y="1828800"/>
            <a:ext cx="762120" cy="4343400"/>
          </a:xfrm>
          <a:custGeom>
            <a:avLst/>
            <a:gdLst>
              <a:gd name="textAreaLeft" fmla="*/ 0 w 762120"/>
              <a:gd name="textAreaRight" fmla="*/ 275040 w 7621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962520" y="1219320"/>
            <a:ext cx="4495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Рабочая панель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Геометрические построения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 содержит кнопки, позволяющие рисовать на чертеже определенные объекты: точку, отрезок, окружность, прямоугольник  и другие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809880" y="1066680"/>
            <a:ext cx="5029200" cy="5410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2"/>
          <p:cNvGraphicFramePr/>
          <p:nvPr/>
        </p:nvGraphicFramePr>
        <p:xfrm>
          <a:off x="1143000" y="457200"/>
          <a:ext cx="1841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841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AutoShape 3"/>
          <p:cNvSpPr/>
          <p:nvPr/>
        </p:nvSpPr>
        <p:spPr>
          <a:xfrm>
            <a:off x="2971800" y="1828800"/>
            <a:ext cx="762120" cy="4343400"/>
          </a:xfrm>
          <a:custGeom>
            <a:avLst/>
            <a:gdLst>
              <a:gd name="textAreaLeft" fmla="*/ 0 w 762120"/>
              <a:gd name="textAreaRight" fmla="*/ 275040 w 7621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14800" y="1447920"/>
            <a:ext cx="47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Панель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Редактирования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 содержит кнопки, которые позволяют вносить изменения в чертеж, производя над объектами различные операции: перемещение, копирование, масштабирование и другие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038480" y="1447920"/>
            <a:ext cx="4876920" cy="51051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6:33:13Z</dcterms:created>
  <dc:creator>Кузнецов МОУ лицей №21</dc:creator>
  <dc:description/>
  <dc:language>en-US</dc:language>
  <cp:lastModifiedBy>Школа</cp:lastModifiedBy>
  <dcterms:modified xsi:type="dcterms:W3CDTF">2013-11-28T10:04:22Z</dcterms:modified>
  <cp:revision>15</cp:revision>
  <dc:subject>Окно САПР КОМПАС-3D</dc:subject>
  <dc:title>Окно САПР КОМПАС-3D</dc:title>
</cp:coreProperties>
</file>