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B09-04EA-4B82-92E0-7BAAC3E5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962-1FEF-4EB1-8AD5-0611934F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219F-4119-4470-854C-86C904C6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283-A1C8-4386-AC4B-9AE1C9A6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43CC-452E-45A4-B9A1-BD05D1D6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AE14-50FB-40B1-91A6-B1DF2EEE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8423-26F0-4208-BD56-F696C448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CF1E-8FFD-44AF-8CD3-3FD46C50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7519-DFCF-4EDC-ACBA-EB5FD6CB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7FA5-CC7B-4411-8902-D883B2DD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BDFC-A9CB-47DB-95F0-F3C76AD6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4E3-2DDA-4A29-9525-103E4C2C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54D2-F51A-40DC-AB16-E25973B3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F584-933F-4A76-AE3C-AF593662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477A-B61F-45F4-8DF8-10F6966E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3AE1-2181-4E62-9A2B-0250816C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E692-B7A5-453C-A00D-76117D9C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976-4165-417A-8CEA-68874005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96E-A236-4951-BBC8-BF417783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C22-BCBD-47D5-9E12-7F01CA72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597-6187-4A5F-AE9A-E848B0CC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778-5A64-49A0-95C9-CB61673A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477-C6D1-4FBF-B1AF-84D6FCF8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A62-53AE-4A5B-8DB7-B476F9E2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361A-0C2D-4A64-8630-4E73F0CD5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524E-DC5B-48FD-8C24-197BDFA9FF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82947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b7"/>
                </a:solidFill>
                <a:latin typeface="Bookman Old Style"/>
              </a:rPr>
              <a:t>Системы </a:t>
            </a:r>
            <a:br>
              <a:rPr sz="8800"/>
            </a:br>
            <a:r>
              <a:rPr b="1" i="1" lang="en-US" sz="8800" spc="-1" strike="noStrike">
                <a:solidFill>
                  <a:srgbClr val="ffffb7"/>
                </a:solidFill>
                <a:latin typeface="Bookman Old Style"/>
              </a:rPr>
              <a:t>счисления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07640" y="5445000"/>
            <a:ext cx="67820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ние 6. 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Арифметический диктант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утверждение верно - 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утверждение ошибочно - 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езультат выполнения задания: 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▲○○▲▲○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9640" y="1628640"/>
            <a:ext cx="8280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ние 1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полнить пропу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ние 1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381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полнить пропус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5280" y="2924280"/>
          <a:ext cx="8449920" cy="2880000"/>
        </p:xfrm>
        <a:graphic>
          <a:graphicData uri="http://schemas.openxmlformats.org/drawingml/2006/table">
            <a:tbl>
              <a:tblPr/>
              <a:tblGrid>
                <a:gridCol w="2112480"/>
                <a:gridCol w="2112480"/>
                <a:gridCol w="2112480"/>
                <a:gridCol w="2112480"/>
              </a:tblGrid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+</a:t>
                      </a: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+1= </a:t>
                      </a: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0= 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+1=</a:t>
                      </a: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-</a:t>
                      </a: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0 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-1= </a:t>
                      </a: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</a:t>
                      </a: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</a:t>
                      </a: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*0= </a:t>
                      </a: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*1= </a:t>
                      </a: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*</a:t>
                      </a: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*</a:t>
                      </a: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+0= </a:t>
                      </a: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*1= </a:t>
                      </a: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0=  </a:t>
                      </a: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*1= </a:t>
                      </a: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3851280" y="3789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Кроссворд: 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«Системы счисления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89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ние 3.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Заполнить таблицу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1905120"/>
          <a:ext cx="8893080" cy="4417920"/>
        </p:xfrm>
        <a:graphic>
          <a:graphicData uri="http://schemas.openxmlformats.org/drawingml/2006/table">
            <a:tbl>
              <a:tblPr/>
              <a:tblGrid>
                <a:gridCol w="3225960"/>
                <a:gridCol w="2428560"/>
                <a:gridCol w="3238560"/>
              </a:tblGrid>
              <a:tr h="1068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а счисления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фавит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сятичная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;1;2;3;4;5;6;7;8;9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ьмеричная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; 1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ние 4.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Загадка поэта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964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очитайте шуточное стихотворение А. Н. Старикова «Необыкновенная девочка» и попробуйте разгадать загадку поэта. Для этого выпишите упомянутые в стихотворении числа и переведите их в десятичную систему счис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8000" y="2924280"/>
          <a:ext cx="9036000" cy="3663720"/>
        </p:xfrm>
        <a:graphic>
          <a:graphicData uri="http://schemas.openxmlformats.org/drawingml/2006/table">
            <a:tbl>
              <a:tblPr/>
              <a:tblGrid>
                <a:gridCol w="4519440"/>
                <a:gridCol w="4516560"/>
              </a:tblGrid>
              <a:tr h="18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й было </a:t>
                      </a:r>
                      <a:r>
                        <a:rPr b="0" i="1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тысяча сто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лет,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а в </a:t>
                      </a:r>
                      <a:r>
                        <a:rPr b="0" i="1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сто первый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класс ходила,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ортфеле по </a:t>
                      </a:r>
                      <a:r>
                        <a:rPr b="0" i="1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сто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книг носила.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 это правда, а не бред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а ловила каждый звук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оими </a:t>
                      </a:r>
                      <a:r>
                        <a:rPr b="0" i="1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десятью</a:t>
                      </a: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шами,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</a:t>
                      </a:r>
                      <a:r>
                        <a:rPr b="0" i="1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десять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загорелых рук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тфель  и поводок держали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гда, пыля </a:t>
                      </a:r>
                      <a:r>
                        <a:rPr b="0" i="1" lang="ru-RU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десятком</a:t>
                      </a: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ног,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а шагала по дороге,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ней всегда бежал щенок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одним хвостом, зато 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</a:t>
                      </a:r>
                      <a:r>
                        <a:rPr b="0" i="1" lang="ru-RU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сто</a:t>
                      </a: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гий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десят</a:t>
                      </a: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емно-синих глаз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матривали мир привычно …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 станет все совсем обычным,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гда поймете наш рассказ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ние 4. 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Загадка поэт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2133720"/>
          <a:ext cx="9036000" cy="3663720"/>
        </p:xfrm>
        <a:graphic>
          <a:graphicData uri="http://schemas.openxmlformats.org/drawingml/2006/table">
            <a:tbl>
              <a:tblPr/>
              <a:tblGrid>
                <a:gridCol w="4618080"/>
                <a:gridCol w="4417920"/>
              </a:tblGrid>
              <a:tr h="18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й было _____ лет,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а в </a:t>
                      </a: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_____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класс ходила,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ортфеле по ___ книг   носила.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 это правда, а не бред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а ловила каждый звук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оими _____ ушами,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_____ загорелых рук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тфель  и поводок держали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гда, пыля _____ ног,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а шагала по дороге,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ней всегда бежал щенок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одним хвостом, зато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___ногий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_____</a:t>
                      </a: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но-синих глаз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матривали мир привычно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 станет все совсем обычным,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гда поймете наш рассказ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ние 5.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Решение неравенств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авьте вместо знака ? знак &lt;, &gt; или =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8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 11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        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1111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 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  111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  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  10100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  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  12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ние 5.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Решение неравенств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8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=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  11D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         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1111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 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  111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   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  10100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   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  12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  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6:00:57Z</dcterms:created>
  <dc:creator>Admin</dc:creator>
  <dc:description/>
  <dc:language>en-US</dc:language>
  <cp:lastModifiedBy>Admin</cp:lastModifiedBy>
  <dcterms:modified xsi:type="dcterms:W3CDTF">2010-12-08T18:52:02Z</dcterms:modified>
  <cp:revision>3</cp:revision>
  <dc:subject/>
  <dc:title>Системы  счисления</dc:title>
</cp:coreProperties>
</file>