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drumroll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51C2-4324-4E8F-89A8-B260587292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900A-4468-4123-971C-70D3F6774C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6C2-9D57-49DF-92C4-7E6E181F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71B-CFD9-4E06-8CB8-D3ECA785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67A-A011-489E-AC8F-1F1F42FE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54E-07E2-4370-96FD-DE721C5B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3F5-C780-44BD-9AA7-66F4422E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B48-40E2-443E-8646-88F6CDC4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04F-7363-497C-ACA3-98DB9207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A4F-1CAF-40EF-B8A5-D434D862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899-6036-42CE-9B15-DA0DEB03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438-952B-48AF-994B-1134F653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384-6526-46A4-B19D-0BF001C4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3A6-4BA9-4752-B4DB-F65F1319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3f9a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3632-28A4-415E-8BCA-0E1F605AAA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24000" y="5013360"/>
            <a:ext cx="77724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у выполнила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 – Цилемская СОШ им. М.А.Бабиков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упрова Елена Валентин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.Усть – Циль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84360" y="765000"/>
            <a:ext cx="734364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"СВОЯ ИГРА"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1835280" y="549360"/>
            <a:ext cx="475596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активная </a:t>
            </a:r>
            <a:endParaRPr b="1" i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гра - викторина</a:t>
            </a:r>
            <a:endParaRPr b="1" i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9 класса</a:t>
            </a:r>
            <a:endParaRPr b="1" i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1116000" y="3860640"/>
            <a:ext cx="681372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еликая Отечественная война (к 70-летию Победы)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52" name="Picture 2" descr="http://forumsmile.ru/u/5/2/8/528e4f55578d182ee6e800cbabdc7046.png"/>
          <p:cNvPicPr/>
          <p:nvPr/>
        </p:nvPicPr>
        <p:blipFill>
          <a:blip r:embed="rId1"/>
          <a:stretch/>
        </p:blipFill>
        <p:spPr>
          <a:xfrm rot="12201600">
            <a:off x="7714440" y="54720"/>
            <a:ext cx="1319400" cy="82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forumsmile.ru/u/5/2/8/528e4f55578d182ee6e800cbabdc7046.png"/>
          <p:cNvPicPr/>
          <p:nvPr/>
        </p:nvPicPr>
        <p:blipFill>
          <a:blip r:embed="rId2">
            <a:lum contrast="40000"/>
          </a:blip>
          <a:stretch/>
        </p:blipFill>
        <p:spPr>
          <a:xfrm rot="7829400">
            <a:off x="8182080" y="356040"/>
            <a:ext cx="1319400" cy="825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img-fotki.yandex.ru/get/6442/102699435.87c/0_a1b45_d5dec2a3_L.png.jpg"/>
          <p:cNvPicPr/>
          <p:nvPr/>
        </p:nvPicPr>
        <p:blipFill>
          <a:blip r:embed="rId3"/>
          <a:stretch/>
        </p:blipFill>
        <p:spPr>
          <a:xfrm rot="1875000">
            <a:off x="-169920" y="4497120"/>
            <a:ext cx="180360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forumsmile.ru/u/2/f/d/2fd432955c982f0b9b333d8123e9b07f.jpg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0" y="5506920"/>
            <a:ext cx="2340000" cy="1351080"/>
          </a:xfrm>
          <a:prstGeom prst="rect">
            <a:avLst/>
          </a:prstGeom>
          <a:ln w="0">
            <a:noFill/>
          </a:ln>
        </p:spPr>
      </p:pic>
      <p:sp>
        <p:nvSpPr>
          <p:cNvPr id="56" name="Рамка 9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42960"/>
            <a:ext cx="8534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этот день в Москве был дан первый праздничный салют в честь победы Красной Армии над фашистским врагом. Первый салют был дан в честь освобождения от захватчиков г. Орла и г. Белгорода.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864360" y="1773360"/>
            <a:ext cx="6122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сновные даты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39640" y="4508640"/>
            <a:ext cx="71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0f17"/>
                </a:solidFill>
                <a:latin typeface="Tahoma"/>
              </a:rPr>
              <a:t>5 августа 1943 го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549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чем шла речь в приказах наркома обороны СССР № 270 от 16 августа 1941 г. и № 227 от 28 июля 1942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92720" y="2205000"/>
            <a:ext cx="6122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сновные даты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39640" y="4500720"/>
            <a:ext cx="689004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каз №270 от 16 августа 1941 г., запрещал сдаваться в плен, а всем кто попал в окружение, предписывалось сражаться до конца. Приказ объявлял всех без разбора военнопленных предателями и изменниками. Семьи пленных командиров и политработников подлежали репрессиям, родные же солдат лишались льгот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каз №227 от 28 июля 1942 г. жестокими мерами пресекал проявление трусости и дезертирства. Он категорически запрещал любое отступление без особого распоряжения вышестоящего командования. В этом приказе впервые прозвучало требование: «Ни шагу назад!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5345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изображен на фотографиях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                   2.                      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79280" y="206064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«Наши земляки на фронтах войны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95280" y="4857840"/>
            <a:ext cx="7740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ерои Советского Союза: 1. Кисляков Василий Павлович; 2. Бабиков Макар Андреевич; 3. Черепанов Сергей Михайлович.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8028000" y="58053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Рисунок 5" descr="http://www.ust-cilma.ru/images/Pochet/KislyakovVP.jpg"/>
          <p:cNvPicPr/>
          <p:nvPr/>
        </p:nvPicPr>
        <p:blipFill>
          <a:blip r:embed="rId1"/>
          <a:stretch/>
        </p:blipFill>
        <p:spPr>
          <a:xfrm>
            <a:off x="2786040" y="71424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http://www.ust-cilma.ru/images/Pochet/BabikovMA.jpg"/>
          <p:cNvPicPr/>
          <p:nvPr/>
        </p:nvPicPr>
        <p:blipFill>
          <a:blip r:embed="rId2"/>
          <a:stretch/>
        </p:blipFill>
        <p:spPr>
          <a:xfrm>
            <a:off x="4572000" y="714240"/>
            <a:ext cx="1428840" cy="13575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http://www.ust-cilma.ru/images/Pochet/cherepanov.jpg"/>
          <p:cNvPicPr/>
          <p:nvPr/>
        </p:nvPicPr>
        <p:blipFill>
          <a:blip r:embed="rId3"/>
          <a:stretch/>
        </p:blipFill>
        <p:spPr>
          <a:xfrm>
            <a:off x="6858000" y="71424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140" name="Рамка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. Новый Бор установлен бюст этого героя, его именем названы улицы в с. Усть-Цильма и п. Новый Бор, муниципальное общеобразовательное учреждение «Новоборская средняя общеобразовательная школа» носит его им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123920" y="2637000"/>
            <a:ext cx="752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«Наши земляки на фронтах войны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95280" y="5229360"/>
            <a:ext cx="727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Черепанов Сергей Михайлови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571320"/>
            <a:ext cx="85341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ому Герою одному из первых воинов Северного флота 13 августа 1941 года , было присвоено звание Героя Советского Союза с вручением ордена Ленина и медали «Золотая Звезда». Также он награжден двумя орденами Отечественной войны 1 степени, медалями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36640" y="2214720"/>
            <a:ext cx="759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«Наши земляки на фронтах войны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611280" y="51717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0f17"/>
                </a:solidFill>
                <a:latin typeface="Tahoma"/>
              </a:rPr>
              <a:t>Кисляков Василий Павлови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13f9a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ле завершения полного разгрома фашистской Германии в мае 1945 года он продолжал службу на Тихоокеанском флоте, в гвардейском отряде особого назначения, костяком которого являлись разведчики-североморцы. В составе этого прославленного коллектива участвовал в разгроме милитаристской Японии. За образцовое выполнение задания командования в сейинской десантной операции и проявленные мужество и отвагу Указом Президиума Верховного Совета СССР от 13 сентября 1945 года ему был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052640" y="2143080"/>
            <a:ext cx="7805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«Наши земляки на фронтах войны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08000" y="5397480"/>
            <a:ext cx="734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210f17"/>
                </a:solidFill>
                <a:latin typeface="Tahoma"/>
              </a:rPr>
              <a:t>Бабиков Макар Андрееви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57160" y="1773360"/>
            <a:ext cx="68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Блокада Ленинграда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042920" y="4581360"/>
            <a:ext cx="7632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8 сентября 1941 –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27 января 1944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зовите дату Блокады Ленин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называлась единственная транспортная магистраль через Ладожское озеро. В периоды навигации — по воде, зимой — по льду. Связывала с 12 сентября 1941 по март 1943 года блокадный Ленинград со стра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47840" y="1844640"/>
            <a:ext cx="779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Блокада Ленинграда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4203720"/>
            <a:ext cx="6337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Дорога Жизн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642600"/>
            <a:ext cx="853452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13f9a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ти вся семья этой девочки погибла в период с декабря 1941 года по май 1942 года. В её дневнике девять страниц, на шести из которых даты смерти близких людей — матери, бабушки, сестры, брата и двух дядей. Сама девочка умерла уже в эвакуации. Блокаду пережили только её старшие сестра Нина и брат Михаил, благодаря которым ее дневник уцелел и стал одним из символов Великой Отечественной войны. Кто он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28760" y="2492280"/>
            <a:ext cx="7743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Блокада Ленинграда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00000" y="57340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Таня Савичев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овите музыкальный символ блокады. Кто его авто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318680" y="1773360"/>
            <a:ext cx="7808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Блокада Ленинграда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39640" y="501336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енинградская Героическая симфония Дмитрия Шостакович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7372440" cy="40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ель: систематизировать  и закрепить знания о Великой Отечественной войне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Рамка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2" descr="http://img-fotki.yandex.ru/get/6442/102699435.87c/0_a1b45_d5dec2a3_L.png.jpg"/>
          <p:cNvPicPr/>
          <p:nvPr/>
        </p:nvPicPr>
        <p:blipFill>
          <a:blip r:embed="rId1"/>
          <a:stretch/>
        </p:blipFill>
        <p:spPr>
          <a:xfrm rot="1875000">
            <a:off x="-169920" y="4497120"/>
            <a:ext cx="180360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forumsmile.ru/u/2/f/d/2fd432955c982f0b9b333d8123e9b07f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0" y="5506920"/>
            <a:ext cx="2340000" cy="135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forumsmile.ru/u/5/2/8/528e4f55578d182ee6e800cbabdc7046.png"/>
          <p:cNvPicPr/>
          <p:nvPr/>
        </p:nvPicPr>
        <p:blipFill>
          <a:blip r:embed="rId3"/>
          <a:stretch/>
        </p:blipFill>
        <p:spPr>
          <a:xfrm rot="12201600">
            <a:off x="7714440" y="54720"/>
            <a:ext cx="1319400" cy="82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forumsmile.ru/u/5/2/8/528e4f55578d182ee6e800cbabdc7046.png"/>
          <p:cNvPicPr/>
          <p:nvPr/>
        </p:nvPicPr>
        <p:blipFill>
          <a:blip r:embed="rId4">
            <a:lum contrast="40000"/>
          </a:blip>
          <a:stretch/>
        </p:blipFill>
        <p:spPr>
          <a:xfrm rot="7829400">
            <a:off x="8182080" y="356040"/>
            <a:ext cx="13194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78508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обозначает данный термин – Великая Отечественная войн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57200" y="1571760"/>
            <a:ext cx="7186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сновные понятия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95280" y="450072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йна Советского Союза против нацистской Германии и её европейских союзников (Болгарии, Венгрии, Италии, Румынии, Словакии, Хорватии, Испании) , решающая часть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1052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го фашисты во время войны называли “ночными ведьмами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69720" y="2349360"/>
            <a:ext cx="7131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Термины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57120" y="4214880"/>
            <a:ext cx="714384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Ночными ведьмами» фашисты называли советских летчиц, которые совершали знаменитые ночные рейды. Кром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ого, советские летчицы в ночное время доставляли боеприпасы, медикаменты, продовольствие, мешки с почтой, партизанам и солдатам, десантированным в тыл противни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428760"/>
            <a:ext cx="85327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мплекс мероприятий по переводу на военное положение вооруженных сил, экономики и государственных институтов или какой-либо ее части, включая призыв военнообязанных запаса в армию в связи с началом войн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98440" y="2349360"/>
            <a:ext cx="7202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Термины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95280" y="5445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Мобилизац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404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 пакт Молотова – Риббентроп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822240" y="1500120"/>
            <a:ext cx="7750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Термины»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8360" y="4581360"/>
            <a:ext cx="71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13f9a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акт о ненападении между Советским Союзом и Германией, подписан 23 августа 1939 г. в Москве. Вошел в историю по имени подписавших его министров иностранных дел. Пакт сопровождался секретными протоколами, по которым СССР и Германия объявляли о «разделе сфер интересов» в Восточной и Центральной Европ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Группа 29"/>
          <p:cNvGrpSpPr/>
          <p:nvPr/>
        </p:nvGrpSpPr>
        <p:grpSpPr>
          <a:xfrm>
            <a:off x="250920" y="692280"/>
            <a:ext cx="8493120" cy="5662440"/>
            <a:chOff x="250920" y="692280"/>
            <a:chExt cx="8493120" cy="5662440"/>
          </a:xfrm>
        </p:grpSpPr>
        <p:sp>
          <p:nvSpPr>
            <p:cNvPr id="64" name="Rectangle 4">
              <a:hlinkClick r:id="" action="ppaction://hlinkshowjump?jump=nextslide"/>
            </p:cNvPr>
            <p:cNvSpPr/>
            <p:nvPr/>
          </p:nvSpPr>
          <p:spPr>
            <a:xfrm>
              <a:off x="250920" y="693720"/>
              <a:ext cx="1584360" cy="9889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ahoma"/>
                </a:rPr>
                <a:t>Военные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ahoma"/>
                </a:rPr>
                <a:t>операци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5">
              <a:hlinkClick r:id="" action="ppaction://hlinkshowjump?jump=nextslide"/>
            </p:cNvPr>
            <p:cNvSpPr/>
            <p:nvPr/>
          </p:nvSpPr>
          <p:spPr>
            <a:xfrm>
              <a:off x="1977840" y="693720"/>
              <a:ext cx="1655640" cy="1006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ahoma"/>
                </a:rPr>
                <a:t>Основные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ahoma"/>
                </a:rPr>
                <a:t>даты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7">
              <a:hlinkClick r:id="" action="ppaction://hlinkshowjump?jump=nextslide"/>
            </p:cNvPr>
            <p:cNvSpPr/>
            <p:nvPr/>
          </p:nvSpPr>
          <p:spPr>
            <a:xfrm>
              <a:off x="7162920" y="693720"/>
              <a:ext cx="158112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ahoma"/>
                </a:rPr>
                <a:t>Основные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ahoma"/>
                </a:rPr>
                <a:t>понят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8"/>
            <p:cNvSpPr/>
            <p:nvPr/>
          </p:nvSpPr>
          <p:spPr>
            <a:xfrm>
              <a:off x="32220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9"/>
            <p:cNvSpPr/>
            <p:nvPr/>
          </p:nvSpPr>
          <p:spPr>
            <a:xfrm>
              <a:off x="205092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10"/>
            <p:cNvSpPr/>
            <p:nvPr/>
          </p:nvSpPr>
          <p:spPr>
            <a:xfrm>
              <a:off x="377820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716292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220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205092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377820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de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716292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32220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8"/>
            <p:cNvSpPr/>
            <p:nvPr/>
          </p:nvSpPr>
          <p:spPr>
            <a:xfrm>
              <a:off x="205092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9"/>
            <p:cNvSpPr/>
            <p:nvPr/>
          </p:nvSpPr>
          <p:spPr>
            <a:xfrm>
              <a:off x="377820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20"/>
            <p:cNvSpPr/>
            <p:nvPr/>
          </p:nvSpPr>
          <p:spPr>
            <a:xfrm>
              <a:off x="716292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32220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22"/>
            <p:cNvSpPr/>
            <p:nvPr/>
          </p:nvSpPr>
          <p:spPr>
            <a:xfrm>
              <a:off x="205092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3"/>
            <p:cNvSpPr/>
            <p:nvPr/>
          </p:nvSpPr>
          <p:spPr>
            <a:xfrm>
              <a:off x="377820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4"/>
            <p:cNvSpPr/>
            <p:nvPr/>
          </p:nvSpPr>
          <p:spPr>
            <a:xfrm>
              <a:off x="716292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25">
              <a:hlinkClick r:id="" action="ppaction://hlinkshowjump?jump=nextslide"/>
            </p:cNvPr>
            <p:cNvSpPr/>
            <p:nvPr/>
          </p:nvSpPr>
          <p:spPr>
            <a:xfrm>
              <a:off x="5435640" y="692280"/>
              <a:ext cx="1511280" cy="10094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" spc="-1" strike="noStrike">
                  <a:solidFill>
                    <a:srgbClr val="ffde66"/>
                  </a:solidFill>
                  <a:latin typeface="Arial"/>
                </a:rPr>
                <a:t>  </a:t>
              </a:r>
              <a:endParaRPr b="0" lang="en-US" sz="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26">
              <a:hlinkClick r:id="" action="ppaction://hlinkshowjump?jump=nextslide"/>
            </p:cNvPr>
            <p:cNvSpPr/>
            <p:nvPr/>
          </p:nvSpPr>
          <p:spPr>
            <a:xfrm>
              <a:off x="3778200" y="693720"/>
              <a:ext cx="158436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ahoma"/>
                </a:rPr>
                <a:t>Наши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ahoma"/>
                </a:rPr>
                <a:t>земляки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ahoma"/>
                </a:rPr>
                <a:t>на фронтах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ahoma"/>
                </a:rPr>
                <a:t>войны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27"/>
            <p:cNvSpPr/>
            <p:nvPr/>
          </p:nvSpPr>
          <p:spPr>
            <a:xfrm>
              <a:off x="543564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Rectangle 28"/>
            <p:cNvSpPr/>
            <p:nvPr/>
          </p:nvSpPr>
          <p:spPr>
            <a:xfrm>
              <a:off x="543564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Rectangle 29"/>
            <p:cNvSpPr/>
            <p:nvPr/>
          </p:nvSpPr>
          <p:spPr>
            <a:xfrm>
              <a:off x="543564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Rectangle 30"/>
            <p:cNvSpPr/>
            <p:nvPr/>
          </p:nvSpPr>
          <p:spPr>
            <a:xfrm>
              <a:off x="543564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Rectangle 32"/>
            <p:cNvSpPr/>
            <p:nvPr/>
          </p:nvSpPr>
          <p:spPr>
            <a:xfrm>
              <a:off x="5435640" y="766800"/>
              <a:ext cx="1584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ahoma"/>
                </a:rPr>
                <a:t>Блокада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ahoma"/>
                </a:rPr>
                <a:t>Ленинград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90" name="Picture 2" descr="http://forumsmile.ru/u/5/2/8/528e4f55578d182ee6e800cbabdc7046.png"/>
          <p:cNvPicPr/>
          <p:nvPr/>
        </p:nvPicPr>
        <p:blipFill>
          <a:blip r:embed="rId1">
            <a:lum contrast="40000"/>
          </a:blip>
          <a:stretch/>
        </p:blipFill>
        <p:spPr>
          <a:xfrm rot="7829400">
            <a:off x="8182080" y="356040"/>
            <a:ext cx="1319400" cy="82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forumsmile.ru/u/5/2/8/528e4f55578d182ee6e800cbabdc7046.png"/>
          <p:cNvPicPr/>
          <p:nvPr/>
        </p:nvPicPr>
        <p:blipFill>
          <a:blip r:embed="rId2"/>
          <a:stretch/>
        </p:blipFill>
        <p:spPr>
          <a:xfrm rot="12201600">
            <a:off x="7759440" y="-157680"/>
            <a:ext cx="1201680" cy="1024200"/>
          </a:xfrm>
          <a:prstGeom prst="rect">
            <a:avLst/>
          </a:prstGeom>
          <a:ln w="0">
            <a:noFill/>
          </a:ln>
        </p:spPr>
      </p:pic>
      <p:sp>
        <p:nvSpPr>
          <p:cNvPr id="92" name="Рамка 31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836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довое название наступательной военной операции немецких войск по захвату 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39720" y="2205000"/>
            <a:ext cx="726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11280" y="4653000"/>
            <a:ext cx="74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Тайфун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980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умираю, но не сдаюсь! Прощай Родина!”, “Умрем, но из крепости не уйдем!”. Эти и другие надписи на стенах, были сделаны пограничниками одной из крепостей во время героической обороны. Об обороне какой крепости идет реч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28480" y="2492280"/>
            <a:ext cx="726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5300640"/>
            <a:ext cx="76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Оборона Бресткой креп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8028000" y="5689440"/>
            <a:ext cx="865080" cy="835200"/>
          </a:xfrm>
          <a:custGeom>
            <a:avLst/>
            <a:gdLst>
              <a:gd name="textAreaLeft" fmla="*/ 54000 w 865080"/>
              <a:gd name="textAreaRight" fmla="*/ 811080 w 86508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2372" h="21600">
                <a:moveTo>
                  <a:pt x="0" y="0"/>
                </a:moveTo>
                <a:lnTo>
                  <a:pt x="22372" y="0"/>
                </a:lnTo>
                <a:lnTo>
                  <a:pt x="22372" y="21600"/>
                </a:lnTo>
                <a:lnTo>
                  <a:pt x="0" y="21600"/>
                </a:lnTo>
                <a:close/>
              </a:path>
              <a:path fill="lightenLess" w="22372" h="21600">
                <a:moveTo>
                  <a:pt x="0" y="0"/>
                </a:moveTo>
                <a:lnTo>
                  <a:pt x="22372" y="0"/>
                </a:lnTo>
                <a:lnTo>
                  <a:pt x="20972" y="1400"/>
                </a:lnTo>
                <a:lnTo>
                  <a:pt x="1400" y="1400"/>
                </a:lnTo>
                <a:close/>
              </a:path>
              <a:path fill="darken" w="22372" h="21600">
                <a:moveTo>
                  <a:pt x="22372" y="0"/>
                </a:moveTo>
                <a:lnTo>
                  <a:pt x="22372" y="21600"/>
                </a:lnTo>
                <a:lnTo>
                  <a:pt x="20972" y="20200"/>
                </a:lnTo>
                <a:lnTo>
                  <a:pt x="20972" y="1400"/>
                </a:lnTo>
                <a:close/>
              </a:path>
              <a:path fill="darkenLess" w="22372" h="21600">
                <a:moveTo>
                  <a:pt x="22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2" y="20200"/>
                </a:lnTo>
                <a:close/>
              </a:path>
              <a:path fill="lighten" w="22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2" h="21600">
                <a:moveTo>
                  <a:pt x="4180" y="10800"/>
                </a:moveTo>
                <a:lnTo>
                  <a:pt x="18193" y="3794"/>
                </a:lnTo>
                <a:lnTo>
                  <a:pt x="18193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640" y="980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Волгой для нас земли нет!”. Слова принадлежат одному их героев этой битвы, замечательному снайперу, который лично уничтожил 242 фашиста, а его ученики-снайперы уничтожили 1106 немецких солдат и офицеров. Эти слова стали лозунгом защитников города. О какой битве идет речь?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28480" y="2492280"/>
            <a:ext cx="726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5300640"/>
            <a:ext cx="76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Сталинградская бит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8028000" y="5689440"/>
            <a:ext cx="865080" cy="835200"/>
          </a:xfrm>
          <a:custGeom>
            <a:avLst/>
            <a:gdLst>
              <a:gd name="textAreaLeft" fmla="*/ 54000 w 865080"/>
              <a:gd name="textAreaRight" fmla="*/ 811080 w 86508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2372" h="21600">
                <a:moveTo>
                  <a:pt x="0" y="0"/>
                </a:moveTo>
                <a:lnTo>
                  <a:pt x="22372" y="0"/>
                </a:lnTo>
                <a:lnTo>
                  <a:pt x="22372" y="21600"/>
                </a:lnTo>
                <a:lnTo>
                  <a:pt x="0" y="21600"/>
                </a:lnTo>
                <a:close/>
              </a:path>
              <a:path fill="lightenLess" w="22372" h="21600">
                <a:moveTo>
                  <a:pt x="0" y="0"/>
                </a:moveTo>
                <a:lnTo>
                  <a:pt x="22372" y="0"/>
                </a:lnTo>
                <a:lnTo>
                  <a:pt x="20972" y="1400"/>
                </a:lnTo>
                <a:lnTo>
                  <a:pt x="1400" y="1400"/>
                </a:lnTo>
                <a:close/>
              </a:path>
              <a:path fill="darken" w="22372" h="21600">
                <a:moveTo>
                  <a:pt x="22372" y="0"/>
                </a:moveTo>
                <a:lnTo>
                  <a:pt x="22372" y="21600"/>
                </a:lnTo>
                <a:lnTo>
                  <a:pt x="20972" y="20200"/>
                </a:lnTo>
                <a:lnTo>
                  <a:pt x="20972" y="1400"/>
                </a:lnTo>
                <a:close/>
              </a:path>
              <a:path fill="darkenLess" w="22372" h="21600">
                <a:moveTo>
                  <a:pt x="22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2" y="20200"/>
                </a:lnTo>
                <a:close/>
              </a:path>
              <a:path fill="lighten" w="22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2" h="21600">
                <a:moveTo>
                  <a:pt x="4180" y="10800"/>
                </a:moveTo>
                <a:lnTo>
                  <a:pt x="18193" y="3794"/>
                </a:lnTo>
                <a:lnTo>
                  <a:pt x="18193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военные операции завершили Великую Отечественную войну советско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66640" y="3141720"/>
            <a:ext cx="726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55166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рлинская и Пражская военные опер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ое событие стоит за этой датой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 мая 1945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864360" y="1773360"/>
            <a:ext cx="6122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сновные даты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26920" y="515772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8 мая 1945 года был подписан акт о безоговорочной капитуляции Германи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06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шистский план закабаления и уничтожения народов Восточной Европы, разработанный в 1940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69040" y="1773360"/>
            <a:ext cx="6122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сновные даты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71640" y="465300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План «Ост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777</cp:lastModifiedBy>
  <dcterms:modified xsi:type="dcterms:W3CDTF">2014-11-26T18:36:41Z</dcterms:modified>
  <cp:revision>93</cp:revision>
  <dc:subject/>
  <dc:title>Презентация PowerPoint</dc:title>
</cp:coreProperties>
</file>