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2A5C-2BEA-4B0A-B3E0-253E02FC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80DD-092A-42F7-8F3E-786A72C0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D64F-67CA-4BA4-A90E-2ADA283CA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ADE5-F303-4E75-8BC5-3C78AF638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F3D2-C607-49BA-9FA4-6705CFCE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0B3A-AE5C-43EB-9CF7-DB4106CE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9FAE-5E24-4743-B2FE-F3FD66E6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DD15-BEA3-4B89-86D0-3CFCB620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CB0F-A0F2-4D88-98A5-E25D4E93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561E-269E-43D7-8BDC-A3299E7A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2731-D5BB-4D34-8BCC-BD16602C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0D2A-AF4A-4E17-B8DB-B38A6BAD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AD5C-639D-49BC-89A6-2C5BF872CD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4200" y="642600"/>
            <a:ext cx="8715600" cy="14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Устройство компьютер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769644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комство с компьютер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5" descr="computer.jpg"/>
          <p:cNvPicPr/>
          <p:nvPr/>
        </p:nvPicPr>
        <p:blipFill>
          <a:blip r:embed="rId1"/>
          <a:stretch/>
        </p:blipFill>
        <p:spPr>
          <a:xfrm>
            <a:off x="2036880" y="2792520"/>
            <a:ext cx="4601880" cy="4065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2876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Все программы вместе взятые составляют программное обеспечение компьютер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рограммы для компьютера пишет (создаёт) человек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Компьютер -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- электронное устройство, созданное человеком для обработки, хранения и передачи информации, управляемое программам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МПЬЮТЕР СОСТОИТ ИЗ ЧАСТЕЙ (УСТРОЙСТВ), КАЖДАЯ ИЗ КОТОРЫХ ВЫПОЛНЯЕТ СВОЁ ДЕЙСТВ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5" descr="4.jpg"/>
          <p:cNvPicPr/>
          <p:nvPr/>
        </p:nvPicPr>
        <p:blipFill>
          <a:blip r:embed="rId1"/>
          <a:stretch/>
        </p:blipFill>
        <p:spPr>
          <a:xfrm>
            <a:off x="1714680" y="2143080"/>
            <a:ext cx="4444920" cy="422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Картинка 4 из 184480"/>
          <p:cNvPicPr/>
          <p:nvPr/>
        </p:nvPicPr>
        <p:blipFill>
          <a:blip r:embed="rId1"/>
          <a:stretch/>
        </p:blipFill>
        <p:spPr>
          <a:xfrm>
            <a:off x="0" y="1500120"/>
            <a:ext cx="3429000" cy="2935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Картинка 62 из 184480"/>
          <p:cNvPicPr/>
          <p:nvPr/>
        </p:nvPicPr>
        <p:blipFill>
          <a:blip r:embed="rId2"/>
          <a:stretch/>
        </p:blipFill>
        <p:spPr>
          <a:xfrm>
            <a:off x="5000760" y="3714840"/>
            <a:ext cx="3404880" cy="2554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3429000" y="1000080"/>
            <a:ext cx="5072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мозг» компьютера. Он выполняет обработку закодированной информации (данных), которая  находится в памя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2214720" y="214200"/>
            <a:ext cx="37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Процессо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амять компьютера бывает внутренней 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Картинка 3 из 45170"/>
          <p:cNvPicPr/>
          <p:nvPr/>
        </p:nvPicPr>
        <p:blipFill>
          <a:blip r:embed="rId1"/>
          <a:stretch/>
        </p:blipFill>
        <p:spPr>
          <a:xfrm>
            <a:off x="214200" y="1428840"/>
            <a:ext cx="4071960" cy="2679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Картинка 45 из 45170"/>
          <p:cNvPicPr/>
          <p:nvPr/>
        </p:nvPicPr>
        <p:blipFill>
          <a:blip r:embed="rId2"/>
          <a:stretch/>
        </p:blipFill>
        <p:spPr>
          <a:xfrm>
            <a:off x="5964120" y="4214880"/>
            <a:ext cx="2941920" cy="214776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4572000" y="1571760"/>
            <a:ext cx="4071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торая хранит информацию во время работы ПК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478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 внешней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Картинка 10 из 84152"/>
          <p:cNvPicPr/>
          <p:nvPr/>
        </p:nvPicPr>
        <p:blipFill>
          <a:blip r:embed="rId1"/>
          <a:stretch/>
        </p:blipFill>
        <p:spPr>
          <a:xfrm>
            <a:off x="4657680" y="214200"/>
            <a:ext cx="4486320" cy="2905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Картинка 54 из 200778"/>
          <p:cNvPicPr/>
          <p:nvPr/>
        </p:nvPicPr>
        <p:blipFill>
          <a:blip r:embed="rId2"/>
          <a:stretch/>
        </p:blipFill>
        <p:spPr>
          <a:xfrm>
            <a:off x="4929120" y="364320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59" name="Заголовок 1"/>
          <p:cNvSpPr/>
          <p:nvPr/>
        </p:nvSpPr>
        <p:spPr>
          <a:xfrm>
            <a:off x="285840" y="3714840"/>
            <a:ext cx="47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 которой информация храниться после выключения П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стройства ввода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Картинка 2 из 121400"/>
          <p:cNvPicPr/>
          <p:nvPr/>
        </p:nvPicPr>
        <p:blipFill>
          <a:blip r:embed="rId1"/>
          <a:stretch/>
        </p:blipFill>
        <p:spPr>
          <a:xfrm rot="20681400">
            <a:off x="324000" y="1523880"/>
            <a:ext cx="4349520" cy="2851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Картинка 3 из 55321"/>
          <p:cNvPicPr/>
          <p:nvPr/>
        </p:nvPicPr>
        <p:blipFill>
          <a:blip r:embed="rId2"/>
          <a:stretch/>
        </p:blipFill>
        <p:spPr>
          <a:xfrm rot="1077000">
            <a:off x="5501880" y="1332000"/>
            <a:ext cx="3056040" cy="2809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Картинка 11 из 161103"/>
          <p:cNvPicPr/>
          <p:nvPr/>
        </p:nvPicPr>
        <p:blipFill>
          <a:blip r:embed="rId3"/>
          <a:stretch/>
        </p:blipFill>
        <p:spPr>
          <a:xfrm rot="20960400">
            <a:off x="3821040" y="3695760"/>
            <a:ext cx="3089520" cy="2205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Картинка 17 из 69731"/>
          <p:cNvPicPr/>
          <p:nvPr/>
        </p:nvPicPr>
        <p:blipFill>
          <a:blip r:embed="rId4"/>
          <a:stretch/>
        </p:blipFill>
        <p:spPr>
          <a:xfrm>
            <a:off x="7072200" y="3643200"/>
            <a:ext cx="1762200" cy="2714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Картинка 4 из 35760"/>
          <p:cNvPicPr/>
          <p:nvPr/>
        </p:nvPicPr>
        <p:blipFill>
          <a:blip r:embed="rId5"/>
          <a:stretch/>
        </p:blipFill>
        <p:spPr>
          <a:xfrm rot="21359400">
            <a:off x="1782720" y="4478040"/>
            <a:ext cx="1488960" cy="2019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стройства вывода (отображения) информ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Картинка 6 из 172634"/>
          <p:cNvPicPr/>
          <p:nvPr/>
        </p:nvPicPr>
        <p:blipFill>
          <a:blip r:embed="rId1"/>
          <a:stretch/>
        </p:blipFill>
        <p:spPr>
          <a:xfrm>
            <a:off x="785880" y="1714680"/>
            <a:ext cx="3000240" cy="1827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Картинка 5 из 126388"/>
          <p:cNvPicPr/>
          <p:nvPr/>
        </p:nvPicPr>
        <p:blipFill>
          <a:blip r:embed="rId2"/>
          <a:stretch/>
        </p:blipFill>
        <p:spPr>
          <a:xfrm>
            <a:off x="6500880" y="1785960"/>
            <a:ext cx="1915920" cy="1714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Картинка 4 из 139143"/>
          <p:cNvPicPr/>
          <p:nvPr/>
        </p:nvPicPr>
        <p:blipFill>
          <a:blip r:embed="rId3"/>
          <a:stretch/>
        </p:blipFill>
        <p:spPr>
          <a:xfrm>
            <a:off x="571680" y="4143240"/>
            <a:ext cx="1857240" cy="201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Картинка 25 из 139143"/>
          <p:cNvPicPr/>
          <p:nvPr/>
        </p:nvPicPr>
        <p:blipFill>
          <a:blip r:embed="rId4"/>
          <a:stretch/>
        </p:blipFill>
        <p:spPr>
          <a:xfrm>
            <a:off x="3100320" y="3786120"/>
            <a:ext cx="2210040" cy="2757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Картинка 100 из 139143"/>
          <p:cNvPicPr/>
          <p:nvPr/>
        </p:nvPicPr>
        <p:blipFill>
          <a:blip r:embed="rId5"/>
          <a:stretch/>
        </p:blipFill>
        <p:spPr>
          <a:xfrm>
            <a:off x="5857920" y="4357800"/>
            <a:ext cx="2595600" cy="2136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Картинка 12 из 77281"/>
          <p:cNvPicPr/>
          <p:nvPr/>
        </p:nvPicPr>
        <p:blipFill>
          <a:blip r:embed="rId6"/>
          <a:stretch/>
        </p:blipFill>
        <p:spPr>
          <a:xfrm>
            <a:off x="4214880" y="2143080"/>
            <a:ext cx="2082600" cy="207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50004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граммы и обрабатываемые компьютером данные хранятся в его памят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анные – закодированная в виде нулей и единиц информац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13:33:59Z</dcterms:created>
  <dc:creator>Admin</dc:creator>
  <dc:description/>
  <dc:language>en-US</dc:language>
  <cp:lastModifiedBy>1</cp:lastModifiedBy>
  <dcterms:modified xsi:type="dcterms:W3CDTF">2012-02-14T04:58:39Z</dcterms:modified>
  <cp:revision>12</cp:revision>
  <dc:subject/>
  <dc:title>Устройство компьютера</dc:title>
</cp:coreProperties>
</file>