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8.png" ContentType="image/png"/>
  <Override PartName="/ppt/media/image17.gif" ContentType="image/gif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354-32D5-4193-8DEA-31830965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2F8-8394-4C1E-B873-BE4BB87C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083-10A4-421A-9922-60DBAB71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F5C-527A-46CC-98F9-E69E40AA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5A5-4B11-495B-9C58-B48CCC43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B82-469E-42AA-A28C-24DC8D0B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10A-BB45-49B1-8AC0-01EF0F12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CBC-B3FF-4F71-8F25-2A37F216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91D-7607-4E21-BAD4-27DDF92D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1E5-0FBA-40E5-8943-439AC20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D22-C12B-4CD2-8DBA-1ECCDA6D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E98-446B-47AE-B840-7EE3F99F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B778-CF80-45A4-9B70-5C9D53CDD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79;&#1072;&#1076;&#1072;&#1095;&#1080;.xls" TargetMode="External"/><Relationship Id="rId3" Type="http://schemas.openxmlformats.org/officeDocument/2006/relationships/hyperlink" Target="file:///&#1056;&#1086;&#1089;&#1090;&#1086;&#1074;&#1089;&#1082;&#1072;&#1103;%20&#1086;&#1073;&#1083;&#1072;&#1089;&#1090;&#1100;.doc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v7bd.narod.ru/razfoto/images/snow07/s188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7bd.narod.ru/razfoto/images/snow07/s188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czone.fatal.ru/Flash/j2.jpg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czone.fatal.ru/Flash/j2.jpg" TargetMode="External"/><Relationship Id="rId7" Type="http://schemas.openxmlformats.org/officeDocument/2006/relationships/image" Target="../media/image12.png"/><Relationship Id="rId8" Type="http://schemas.openxmlformats.org/officeDocument/2006/relationships/hyperlink" Target="http://czone.fatal.ru/Flash/j2.jpg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keep4u.ru/imgs/b/071229/e1/e10a4f6797f3a192b5.jpg" TargetMode="External"/><Relationship Id="rId11" Type="http://schemas.openxmlformats.org/officeDocument/2006/relationships/image" Target="../media/image14.png"/><Relationship Id="rId12" Type="http://schemas.openxmlformats.org/officeDocument/2006/relationships/hyperlink" Target="http://keep4u.ru/imgs/b/071229/e1/e10a4f6797f3a192b5.jpg" TargetMode="External"/><Relationship Id="rId13" Type="http://schemas.openxmlformats.org/officeDocument/2006/relationships/image" Target="../media/image14.png"/><Relationship Id="rId14" Type="http://schemas.openxmlformats.org/officeDocument/2006/relationships/hyperlink" Target="http://keep4u.ru/imgs/b/071229/e1/e10a4f6797f3a192b5.jpg" TargetMode="External"/><Relationship Id="rId15" Type="http://schemas.openxmlformats.org/officeDocument/2006/relationships/image" Target="../media/image14.png"/><Relationship Id="rId16" Type="http://schemas.openxmlformats.org/officeDocument/2006/relationships/hyperlink" Target="http://keep4u.ru/imgs/b/071229/e1/e10a4f6797f3a192b5.jpg" TargetMode="External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ешение  расчетных  задач с помощью электронных таблиц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Microsoft Excel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houette"/>
          <p:cNvPicPr/>
          <p:nvPr/>
        </p:nvPicPr>
        <p:blipFill>
          <a:blip r:embed="rId2"/>
          <a:stretch/>
        </p:blipFill>
        <p:spPr>
          <a:xfrm>
            <a:off x="179280" y="3860640"/>
            <a:ext cx="2729160" cy="260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123"/>
          <p:cNvPicPr/>
          <p:nvPr/>
        </p:nvPicPr>
        <p:blipFill>
          <a:blip r:embed="rId3"/>
          <a:stretch/>
        </p:blipFill>
        <p:spPr>
          <a:xfrm>
            <a:off x="3203640" y="4076640"/>
            <a:ext cx="2016000" cy="1920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formation_bureautique4"/>
          <p:cNvPicPr/>
          <p:nvPr/>
        </p:nvPicPr>
        <p:blipFill>
          <a:blip r:embed="rId4"/>
          <a:stretch/>
        </p:blipFill>
        <p:spPr>
          <a:xfrm>
            <a:off x="6227640" y="333360"/>
            <a:ext cx="24768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549360"/>
          <a:ext cx="8229600" cy="4373640"/>
        </p:xfrm>
        <a:graphic>
          <a:graphicData uri="http://schemas.openxmlformats.org/drawingml/2006/table">
            <a:tbl>
              <a:tblPr/>
              <a:tblGrid>
                <a:gridCol w="2146320"/>
                <a:gridCol w="1347840"/>
                <a:gridCol w="2354040"/>
                <a:gridCol w="2381400"/>
              </a:tblGrid>
              <a:tr h="80964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ассовый расч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3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44583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44583"/>
                          </a:solidFill>
                          <a:latin typeface="Arial"/>
                        </a:rPr>
                        <a:t>Ц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44583"/>
                          </a:solidFill>
                          <a:latin typeface="Arial"/>
                        </a:rPr>
                        <a:t>(руб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44583"/>
                          </a:solidFill>
                          <a:latin typeface="Arial"/>
                        </a:rPr>
                        <a:t>Количество (шт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44583"/>
                          </a:solidFill>
                          <a:latin typeface="Arial"/>
                        </a:rPr>
                        <a:t>Общая стоимость (руб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б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37"/>
          <p:cNvSpPr/>
          <p:nvPr/>
        </p:nvSpPr>
        <p:spPr>
          <a:xfrm>
            <a:off x="611280" y="5229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ные деньги – 3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1116000" y="6021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179280" y="5950080"/>
            <a:ext cx="2160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ешени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1"/>
          <p:cNvSpPr/>
          <p:nvPr/>
        </p:nvSpPr>
        <p:spPr>
          <a:xfrm>
            <a:off x="5076720" y="595008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2"/>
          <p:cNvSpPr/>
          <p:nvPr/>
        </p:nvSpPr>
        <p:spPr>
          <a:xfrm>
            <a:off x="6443640" y="6093000"/>
            <a:ext cx="2160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3564000" y="616572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4"/>
          <p:cNvSpPr/>
          <p:nvPr/>
        </p:nvSpPr>
        <p:spPr>
          <a:xfrm>
            <a:off x="3492360" y="6165720"/>
            <a:ext cx="1943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17 из 51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55640" y="981000"/>
            <a:ext cx="640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негов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rcRect l="0" t="0" r="0" b="6448"/>
          <a:stretch/>
        </p:blipFill>
        <p:spPr>
          <a:xfrm>
            <a:off x="7308720" y="2205000"/>
            <a:ext cx="1200240" cy="1728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08000" y="450864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отрите глазами за снежками и снегов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17 из 51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-1925640" y="5013360"/>
            <a:ext cx="1925640" cy="184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468000" y="4292640"/>
            <a:ext cx="2663640" cy="2565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273640"/>
            <a:ext cx="165564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116000" y="5805360"/>
            <a:ext cx="1116000" cy="10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Картинка 12 из 20">
            <a:hlinkClick r:id="rId4"/>
          </p:cNvPr>
          <p:cNvPicPr/>
          <p:nvPr/>
        </p:nvPicPr>
        <p:blipFill>
          <a:blip r:embed="rId5"/>
          <a:srcRect l="56148" t="19132" r="34266" b="70229"/>
          <a:stretch/>
        </p:blipFill>
        <p:spPr>
          <a:xfrm>
            <a:off x="-649440" y="2852640"/>
            <a:ext cx="649440" cy="36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12 из 20">
            <a:hlinkClick r:id="rId6"/>
          </p:cNvPr>
          <p:cNvPicPr/>
          <p:nvPr/>
        </p:nvPicPr>
        <p:blipFill>
          <a:blip r:embed="rId7"/>
          <a:srcRect l="56148" t="19132" r="34266" b="70229"/>
          <a:stretch/>
        </p:blipFill>
        <p:spPr>
          <a:xfrm>
            <a:off x="-649440" y="3068640"/>
            <a:ext cx="6494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2 из 20">
            <a:hlinkClick r:id="rId8"/>
          </p:cNvPr>
          <p:cNvPicPr/>
          <p:nvPr/>
        </p:nvPicPr>
        <p:blipFill>
          <a:blip r:embed="rId9"/>
          <a:srcRect l="31456" t="56743" r="47506" b="28200"/>
          <a:stretch/>
        </p:blipFill>
        <p:spPr>
          <a:xfrm>
            <a:off x="-1332000" y="3284640"/>
            <a:ext cx="1332000" cy="13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36 из 229">
            <a:hlinkClick r:id="rId10"/>
          </p:cNvPr>
          <p:cNvPicPr/>
          <p:nvPr/>
        </p:nvPicPr>
        <p:blipFill>
          <a:blip r:embed="rId11"/>
          <a:srcRect l="21421" t="20765" r="59463" b="56749"/>
          <a:stretch/>
        </p:blipFill>
        <p:spPr>
          <a:xfrm>
            <a:off x="-828720" y="47242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Картинка 36 из 229">
            <a:hlinkClick r:id="rId12"/>
          </p:cNvPr>
          <p:cNvPicPr/>
          <p:nvPr/>
        </p:nvPicPr>
        <p:blipFill>
          <a:blip r:embed="rId13"/>
          <a:srcRect l="21421" t="20765" r="59463" b="56749"/>
          <a:stretch/>
        </p:blipFill>
        <p:spPr>
          <a:xfrm>
            <a:off x="-923760" y="5157720"/>
            <a:ext cx="317160" cy="3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Картинка 36 из 229">
            <a:hlinkClick r:id="rId14"/>
          </p:cNvPr>
          <p:cNvPicPr/>
          <p:nvPr/>
        </p:nvPicPr>
        <p:blipFill>
          <a:blip r:embed="rId15"/>
          <a:srcRect l="21421" t="20765" r="59463" b="56749"/>
          <a:stretch/>
        </p:blipFill>
        <p:spPr>
          <a:xfrm>
            <a:off x="-612720" y="537372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36 из 229">
            <a:hlinkClick r:id="rId16"/>
          </p:cNvPr>
          <p:cNvPicPr/>
          <p:nvPr/>
        </p:nvPicPr>
        <p:blipFill>
          <a:blip r:embed="rId17"/>
          <a:srcRect l="21421" t="20765" r="59463" b="56749"/>
          <a:stretch/>
        </p:blipFill>
        <p:spPr>
          <a:xfrm>
            <a:off x="-973080" y="566100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Картинка 36 из 229"/>
          <p:cNvPicPr/>
          <p:nvPr/>
        </p:nvPicPr>
        <p:blipFill>
          <a:blip r:embed="rId18"/>
          <a:srcRect l="21421" t="20765" r="59463" b="56749"/>
          <a:stretch/>
        </p:blipFill>
        <p:spPr>
          <a:xfrm>
            <a:off x="-612720" y="5950080"/>
            <a:ext cx="317520" cy="358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18 из 709"/>
          <p:cNvPicPr/>
          <p:nvPr/>
        </p:nvPicPr>
        <p:blipFill>
          <a:blip r:embed="rId19"/>
          <a:srcRect l="0" t="4827" r="39191" b="70137"/>
          <a:stretch/>
        </p:blipFill>
        <p:spPr>
          <a:xfrm>
            <a:off x="7093080" y="1413000"/>
            <a:ext cx="3598560" cy="205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18 из 709"/>
          <p:cNvPicPr/>
          <p:nvPr/>
        </p:nvPicPr>
        <p:blipFill>
          <a:blip r:embed="rId20"/>
          <a:srcRect l="71794" t="0" r="0" b="14432"/>
          <a:stretch/>
        </p:blipFill>
        <p:spPr>
          <a:xfrm>
            <a:off x="9612360" y="1673280"/>
            <a:ext cx="1747800" cy="518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18 из 709"/>
          <p:cNvPicPr/>
          <p:nvPr/>
        </p:nvPicPr>
        <p:blipFill>
          <a:blip r:embed="rId21"/>
          <a:srcRect l="0" t="0" r="57559" b="52227"/>
          <a:stretch/>
        </p:blipFill>
        <p:spPr>
          <a:xfrm>
            <a:off x="-4716360" y="-316080"/>
            <a:ext cx="3924360" cy="2783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19700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765000"/>
            <a:ext cx="216000" cy="2160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40464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76500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2276640"/>
            <a:ext cx="144360" cy="144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62064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80360" y="443700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3429000"/>
            <a:ext cx="144360" cy="144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2421000"/>
            <a:ext cx="144360" cy="144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350028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306864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1268280"/>
            <a:ext cx="144360" cy="1447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3141720"/>
            <a:ext cx="287280" cy="287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2205000"/>
            <a:ext cx="360360" cy="360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1484280"/>
            <a:ext cx="287640" cy="2890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141300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17495E-007 L 1.3375 -0.00855 E">
                                      <p:cBhvr>
                                        <p:cTn id="73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878E-007 L -0.68108 -0.00855 E">
                                      <p:cBhvr>
                                        <p:cTn id="76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32424E-006 L 0.19392 -0.55859 C 0.23472 -0.685 0.29566 -0.7548 0.35903 -0.7548 C 0.4316 -0.7548 0.48941 -0.685 0.53021 -0.55859 L 0.72448 1.32424E-006 E">
                                      <p:cBhvr>
                                        <p:cTn id="85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8 -1.03305E-006 C 0.62048 -0.30806 0.51666 -0.61567 0.43212 -0.73053 C 0.34757 -0.84539 0.29114 -0.80818 0.21684 -0.68939 C 0.14253 -0.5706 0.02448 -0.12942 -0.01406 -0.0171 E">
                                      <p:cBhvr>
                                        <p:cTn id="88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6 -0.0171 C 0.05504 -0.22903 0.12483 -0.44095 0.18281 -0.54957 C 0.24097 -0.65819 0.30087 -0.70372 0.33281 -0.66905 C 0.36476 -0.63439 0.36892 -0.39588 0.37587 -0.34134 E">
                                      <p:cBhvr>
                                        <p:cTn id="91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6000"/>
                            </p:stCondLst>
                            <p:childTnLst>
                              <p:par>
                                <p:cTn id="93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7379E-006 L 1.38889E-006 -0.40004 C 1.38889E-006 -0.57961 0.20104 -0.79986 0.36493 -0.79986 L 0.73021 -0.79986 E">
                                      <p:cBhvr>
                                        <p:cTn id="94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9000"/>
                            </p:stCondLst>
                            <p:childTnLst>
                              <p:par>
                                <p:cTn id="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" dur="1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" dur="1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7361 -0.86272 L 0.55313 -0.55858 E">
                                      <p:cBhvr>
                                        <p:cTn id="102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7486E-006 L 0.54323 -0.11 E">
                                      <p:cBhvr>
                                        <p:cTn id="10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21 -0.0208 L 0.4882 -0.14141 E"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01109E-006 L 0.60035 -0.18345 E">
                                      <p:cBhvr>
                                        <p:cTn id="11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5841E-006 L 0.55746 -0.23567 E">
                                      <p:cBhvr>
                                        <p:cTn id="12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1811E-006 L 0.57587 -0.21488 E">
                                      <p:cBhvr>
                                        <p:cTn id="12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878E-007 L 0.54341 -0.1049 E">
                                      <p:cBhvr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4.2329E-006 L 0.58263 -0.06285 E">
                                      <p:cBhvr>
                                        <p:cTn id="12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03327E-006 L 0.54184 -0.01571 E">
                                      <p:cBhvr>
                                        <p:cTn id="13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06 0.01987 C -0.10938 -0.0208 -0.15052 -0.06123 -0.19514 -0.09889 C -0.23976 -0.13655 -0.29306 -0.17445 -0.33577 -0.20679 C -0.37848 -0.23914 -0.40504 -0.28004 -0.45191 -0.29321 C -0.49879 -0.30638 -0.58802 -0.30222 -0.61684 -0.28605 C -0.64566 -0.26987 -0.62344 -0.2098 -0.62483 -0.19594 E">
                                      <p:cBhvr>
                                        <p:cTn id="13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3512E-006 L -0.47344 -0.06932 E">
                                      <p:cBhvr>
                                        <p:cTn id="13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48 0.15412 L 0.52552 0.18554 E">
                                      <p:cBhvr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9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4917E-006 L -0.00799 0.64972 E">
                                      <p:cBhvr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2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3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1793E-006 L -0.0158 0.78605 E">
                                      <p:cBhvr>
                                        <p:cTn id="15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2.55083E-006 L -0.00781 0.79644 E">
                                      <p:cBhvr>
                                        <p:cTn id="16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8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9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0"/>
                            </p:stCondLst>
                            <p:childTnLst>
                              <p:par>
                                <p:cTn id="1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5083E-006 L -0.00781 0.74399 E">
                                      <p:cBhvr>
                                        <p:cTn id="18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6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7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8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9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10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2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30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40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600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7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9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10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2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Картинка 17 из 514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348000" y="260280"/>
            <a:ext cx="1665360" cy="2781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-5076720" y="2924280"/>
            <a:ext cx="45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берегите зр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9295E-006 L 1.59462 0.01063 E">
                                      <p:cBhvr>
                                        <p:cTn id="277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8555E-006 L 1.58889 2.48555E-006 E">
                                      <p:cBhvr>
                                        <p:cTn id="280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6763E-006 L 1.57101 0.01064 E">
                                      <p:cBhvr>
                                        <p:cTn id="283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 зна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чу узнать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ю применя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+» -  значит вы хорошо знаете тему электронные таблиц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?» - у вас возникли вопросы при  работе с  формулами, и вы хотите узнать больш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 умеете пользоваться формул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5"/>
          <p:cNvPicPr/>
          <p:nvPr/>
        </p:nvPicPr>
        <p:blipFill>
          <a:blip r:embed="rId2"/>
          <a:stretch/>
        </p:blipFill>
        <p:spPr>
          <a:xfrm>
            <a:off x="5796000" y="260280"/>
            <a:ext cx="2851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в мире было бы мер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будто мира самого совсем и не быв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б живое существо его не открыв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я в электронной таблице Microsoft Excel, я научусь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я  с электронными таблицами Microsoft Excel,  я сегодня  буду развиват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1541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457200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900000" y="1268280"/>
            <a:ext cx="7272360" cy="0"/>
            <a:chOff x="900000" y="1268280"/>
            <a:chExt cx="7272360" cy="0"/>
          </a:xfrm>
        </p:grpSpPr>
        <p:sp>
          <p:nvSpPr>
            <p:cNvPr id="50" name="Line 7"/>
            <p:cNvSpPr/>
            <p:nvPr/>
          </p:nvSpPr>
          <p:spPr>
            <a:xfrm>
              <a:off x="900000" y="126828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203640" y="126828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4788000" y="1268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5148360" y="126828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6804000" y="12682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8280360" cy="2711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6"/>
          <p:cNvSpPr/>
          <p:nvPr/>
        </p:nvSpPr>
        <p:spPr>
          <a:xfrm>
            <a:off x="2843280" y="5084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1332000" y="5445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4500720" y="4653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м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79600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7308720" y="50846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9"/>
          <p:cNvGrpSpPr/>
          <p:nvPr/>
        </p:nvGrpSpPr>
        <p:grpSpPr>
          <a:xfrm>
            <a:off x="826920" y="4292640"/>
            <a:ext cx="7561440" cy="1551240"/>
            <a:chOff x="826920" y="4292640"/>
            <a:chExt cx="7561440" cy="1551240"/>
          </a:xfrm>
        </p:grpSpPr>
        <p:sp>
          <p:nvSpPr>
            <p:cNvPr id="62" name="Text Box 17"/>
            <p:cNvSpPr/>
            <p:nvPr/>
          </p:nvSpPr>
          <p:spPr>
            <a:xfrm>
              <a:off x="1403280" y="465300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кан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8"/>
            <p:cNvSpPr/>
            <p:nvPr/>
          </p:nvSpPr>
          <p:spPr>
            <a:xfrm>
              <a:off x="1547640" y="508464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0"/>
            <p:cNvSpPr/>
            <p:nvPr/>
          </p:nvSpPr>
          <p:spPr>
            <a:xfrm>
              <a:off x="3132000" y="472428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1"/>
            <p:cNvSpPr/>
            <p:nvPr/>
          </p:nvSpPr>
          <p:spPr>
            <a:xfrm>
              <a:off x="3059280" y="5445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3"/>
            <p:cNvSpPr/>
            <p:nvPr/>
          </p:nvSpPr>
          <p:spPr>
            <a:xfrm>
              <a:off x="4500720" y="508464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м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4"/>
            <p:cNvSpPr/>
            <p:nvPr/>
          </p:nvSpPr>
          <p:spPr>
            <a:xfrm>
              <a:off x="4500720" y="544500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шиф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5"/>
            <p:cNvSpPr/>
            <p:nvPr/>
          </p:nvSpPr>
          <p:spPr>
            <a:xfrm>
              <a:off x="6012000" y="4724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6"/>
            <p:cNvSpPr/>
            <p:nvPr/>
          </p:nvSpPr>
          <p:spPr>
            <a:xfrm>
              <a:off x="5724360" y="508464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ума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8"/>
            <p:cNvSpPr/>
            <p:nvPr/>
          </p:nvSpPr>
          <p:spPr>
            <a:xfrm>
              <a:off x="6948360" y="472428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еча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0"/>
            <p:cNvSpPr/>
            <p:nvPr/>
          </p:nvSpPr>
          <p:spPr>
            <a:xfrm>
              <a:off x="6948360" y="544500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1"/>
            <p:cNvSpPr/>
            <p:nvPr/>
          </p:nvSpPr>
          <p:spPr>
            <a:xfrm>
              <a:off x="826920" y="4724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32"/>
            <p:cNvSpPr/>
            <p:nvPr/>
          </p:nvSpPr>
          <p:spPr>
            <a:xfrm>
              <a:off x="826920" y="50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3"/>
            <p:cNvSpPr/>
            <p:nvPr/>
          </p:nvSpPr>
          <p:spPr>
            <a:xfrm>
              <a:off x="826920" y="544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4"/>
            <p:cNvSpPr/>
            <p:nvPr/>
          </p:nvSpPr>
          <p:spPr>
            <a:xfrm>
              <a:off x="1835280" y="4292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35"/>
            <p:cNvSpPr/>
            <p:nvPr/>
          </p:nvSpPr>
          <p:spPr>
            <a:xfrm>
              <a:off x="3348000" y="4292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6"/>
            <p:cNvSpPr/>
            <p:nvPr/>
          </p:nvSpPr>
          <p:spPr>
            <a:xfrm>
              <a:off x="4788000" y="4292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37"/>
            <p:cNvSpPr/>
            <p:nvPr/>
          </p:nvSpPr>
          <p:spPr>
            <a:xfrm>
              <a:off x="6156360" y="4292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8"/>
            <p:cNvSpPr/>
            <p:nvPr/>
          </p:nvSpPr>
          <p:spPr>
            <a:xfrm>
              <a:off x="7308720" y="4292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7908 L -0.18108 -0.61388 E">
                                      <p:cBhvr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68208E-006 L -0.27118 -0.66868 E">
                                      <p:cBhvr>
                                        <p:cTn id="3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7168E-006 L -0.29132 -0.60833 E">
                                      <p:cBhvr>
                                        <p:cTn id="3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8.72832E-006 L 0.42518 -0.66082 E">
                                      <p:cBhvr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27168E-006 L 0.2757 -0.54544 E">
                                      <p:cBhvr>
                                        <p:cTn id="4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те вспомним структуру электронных табл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7993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означаются в таблице стро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755640" y="1052640"/>
            <a:ext cx="6912000" cy="4895640"/>
            <a:chOff x="755640" y="1052640"/>
            <a:chExt cx="6912000" cy="4895640"/>
          </a:xfrm>
        </p:grpSpPr>
        <p:pic>
          <p:nvPicPr>
            <p:cNvPr id="84" name="Picture 2" descr=""/>
            <p:cNvPicPr/>
            <p:nvPr/>
          </p:nvPicPr>
          <p:blipFill>
            <a:blip r:embed="rId2"/>
            <a:stretch/>
          </p:blipFill>
          <p:spPr>
            <a:xfrm>
              <a:off x="755640" y="1052640"/>
              <a:ext cx="6912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оугольник 3"/>
            <p:cNvSpPr/>
            <p:nvPr/>
          </p:nvSpPr>
          <p:spPr>
            <a:xfrm>
              <a:off x="1187640" y="3652200"/>
              <a:ext cx="6479640" cy="3567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Стро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означаются столб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826920" y="1484280"/>
            <a:ext cx="7345440" cy="4654440"/>
            <a:chOff x="826920" y="1484280"/>
            <a:chExt cx="7345440" cy="4654440"/>
          </a:xfrm>
        </p:grpSpPr>
        <p:pic>
          <p:nvPicPr>
            <p:cNvPr id="88" name="Picture 2" descr=""/>
            <p:cNvPicPr/>
            <p:nvPr/>
          </p:nvPicPr>
          <p:blipFill>
            <a:blip r:embed="rId2"/>
            <a:stretch/>
          </p:blipFill>
          <p:spPr>
            <a:xfrm>
              <a:off x="826920" y="1484280"/>
              <a:ext cx="7345440" cy="46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Прямоугольник 2"/>
            <p:cNvSpPr/>
            <p:nvPr/>
          </p:nvSpPr>
          <p:spPr>
            <a:xfrm>
              <a:off x="1260360" y="3084120"/>
              <a:ext cx="1032840" cy="30546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имя выделенной яче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rcRect l="0" t="11380" r="6840" b="21588"/>
          <a:stretch/>
        </p:blipFill>
        <p:spPr>
          <a:xfrm>
            <a:off x="324000" y="1341360"/>
            <a:ext cx="78483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 вами  три чис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45, 354, 543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: наименьшее из н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еперь наибольш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51, 1562,1568,1458, 1896, 1245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56, 1789, 1986, 1045, 1478, 1568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36, 1589, 1986, 1365, 1587, 1463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23, 1457, 1498, 1436, 1423, 1555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44, 1401, 1504,1430,1520, 154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55, 1851, 1902, 1799, 1818, 162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27, 1815, 1998, 1985, 1764, 178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85, 1460, 1562, 1685, 1398, 12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05, 1312, 1919, 1426, 1833, 15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0:20:54Z</dcterms:created>
  <dc:creator>Admin</dc:creator>
  <dc:description/>
  <dc:language>en-US</dc:language>
  <cp:lastModifiedBy>User</cp:lastModifiedBy>
  <dcterms:modified xsi:type="dcterms:W3CDTF">2013-09-30T11:14:08Z</dcterms:modified>
  <cp:revision>14</cp:revision>
  <dc:subject/>
  <dc:title>Слайд 1</dc:title>
</cp:coreProperties>
</file>