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38C-0CA8-4719-858E-8C6EE8DC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179-589C-43A7-9402-1A9B961D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6CB-4A4C-4AC5-8B81-9CDCDC26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AED-99D1-4CED-81D9-3D53806D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A689-4505-490F-9304-38D5255A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02FA-C940-4881-AE11-A834CDAA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0A57-C8BE-4AE5-9054-61A9B747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AEA-B7A2-4D92-9510-91479B52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2E0-6A21-4A3C-A4A4-2FAC280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4CD-3E3F-4A09-9DB8-895A5F04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5756-54CE-46F7-9842-C5A0A93D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3CE-9BA0-4075-BC8E-EC63DF80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32FC-DCAC-49D8-8518-22AC861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0129-E7C7-4F29-9AAB-1E02A09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24A2-A1F3-4EA6-A8A0-ECDF10E7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64A0-3A7E-4DFB-9C39-4370E782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FA6A-9E49-485D-8B56-D6C54394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0C39-3E3B-40EF-B2BA-7D45281F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A491-CB18-4FAF-9EBA-BF26713A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84A6-61CA-4BB9-8247-ADF96223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21CF1-FAD7-4FC8-BD27-C2E87B1C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655A-777B-4988-80B4-34A9F9C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ADA-EA48-4623-9376-6D1ADD86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734B-E8F2-4234-819F-72BE8B6B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CEA5-8DA7-42A5-85D3-F94CB7E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45A8-A973-4FD0-9A7F-CD54B301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D208-D51C-444D-9A9B-0A86597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0DD4-9D39-4E41-AED4-0522E44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5100-F4C4-42D5-B1F0-37ED0CB2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C7B3-15B1-4500-8853-46963917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36A2-F02E-4921-AB7F-D2BD12FF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5E98-B655-47A6-91EE-AC51610A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661E-D9B9-47DE-A699-F40FFFC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139-16DC-4162-ABFE-6E69F0A9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0731-3A30-48E5-AB43-C5E13E8B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7C8A-FA9A-4C0A-8216-8BD33F77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F130-70B3-42F3-9F35-CF6C8CD7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5088-38FE-4C76-9EDE-11F1AA5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300C-E98D-4676-A854-A8F7F4CD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F95B-6971-4D01-8D35-892671D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0907-042B-40DD-B9C5-70BCDCF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58C3D-E04E-4EC6-ABCD-A90809A7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9AAB-9959-4ACE-A226-AEC1ED0F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BFA-B38A-4473-B30C-60C21E3C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908-9094-4BC7-A46D-3D38CE63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1E4-3181-457B-BDBA-BD6DEF1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008-D232-47A3-83F8-B33B5582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1F2-4F0A-4E12-9FBA-F4A5503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DA6C-F8E6-4246-89A8-C19661FF355F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7204-FF77-4383-A58D-1E315960D6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43D-155B-43A3-A9EA-FDEA5DF0764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790-49B6-496B-B1D0-A4A3153ADD7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E66-D040-4CED-BCB0-A4F46341F1D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99BB-8250-486D-8131-125D41F787B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9BE-9E8E-4F8C-8F3D-82A36972341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EFD3-AFDE-48A9-8B2A-17DA9844C5D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-360" y="1934640"/>
            <a:ext cx="8286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Морской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бой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Нижний колонтитул 2"/>
          <p:cNvSpPr/>
          <p:nvPr/>
        </p:nvSpPr>
        <p:spPr>
          <a:xfrm>
            <a:off x="4357800" y="6357960"/>
            <a:ext cx="46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Урок информатики 10 класс Поскачей С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кажите значения переменных А и В,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есл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6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B =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6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→ B =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6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(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B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йдите значение выраже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5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(1 v 1) v (1 v 0)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5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((1 v 0) &amp;(1&amp;1)) &amp; (0 v 1)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5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((1 &amp; </a:t>
            </a: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1) v 0) &amp; (0 v </a:t>
            </a: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1)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5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((1 &amp; 0) v (1 &amp; 0)) v 1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простите выраже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2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 =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(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B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v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B v C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2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 = A &amp; C v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C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2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 = (A → B) v (B → A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2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 =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 X &amp; Y v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X &amp; Y)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3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простите выраже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 = (</a:t>
            </a: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v (A V B)) v ((A v C) &amp;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 =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(A &amp; B) v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(B &amp; C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 =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 v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 v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 v (A v B v C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 =A &amp; B v D v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¬(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 v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йдите значения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, при которых указанное выражение   не является истинным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(хотя бы один набор):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2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 → M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&amp; 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2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L v M) → (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 &amp; N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2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L v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) → 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3" descr=""/>
          <p:cNvPicPr/>
          <p:nvPr/>
        </p:nvPicPr>
        <p:blipFill>
          <a:blip r:embed="rId2"/>
          <a:stretch/>
        </p:blipFill>
        <p:spPr>
          <a:xfrm>
            <a:off x="1133640" y="2109960"/>
            <a:ext cx="6913440" cy="1157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onstantia"/>
              </a:rPr>
              <a:t>Молодцы!!!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214200" y="1714680"/>
            <a:ext cx="864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еред вами поле размером 7 х 7 кл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м расположены корабли: 1  трехпалубный, 2 двухпалубных, 2  однопалуб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йся стреляет в любую клетку на поле, называя сначала букву столбца, затем номер ст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лучае попадания учащемуся предоставляется право сделать еще один выстр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случае промаха учащийся отвечает на вопрос учи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лучая фишку за правильный ответ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право выстрела переходит к следующему учащему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случае затруднения любой учащийся может помочь товарищу, ответив на вопрос, и получить фи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акопленных фишек обмениваются на оценку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авила игр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3" descr=""/>
          <p:cNvPicPr/>
          <p:nvPr/>
        </p:nvPicPr>
        <p:blipFill>
          <a:blip r:embed="rId2"/>
          <a:stretch/>
        </p:blipFill>
        <p:spPr>
          <a:xfrm>
            <a:off x="281160" y="1133640"/>
            <a:ext cx="7862760" cy="1901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14200" y="51055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5edfd"/>
                </a:solidFill>
                <a:latin typeface="Monotype Corsiva"/>
              </a:rPr>
              <a:t>МОРСКОЙ БОЙ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ПРЕДЕЛИТЬ,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КАКОЙ ЛОГИЧЕСКОЙ ФУНКЦИИ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СООТВЕТСТВУЕТ ДАННАЯ ТАБЛИЦА ИСТИННОСТ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357280" y="2571840"/>
          <a:ext cx="4143600" cy="289548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1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ПРЕДЕЛИТЬ,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КАКОЙ ЛОГИЧЕСКОЙ ФУНКЦИИ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СООТВЕТСТВУЕТ ДАННАЯ ТАБЛИЦА ИСТИННОСТ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357280" y="2571840"/>
          <a:ext cx="4143600" cy="289548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1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8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ПРЕДЕЛИТЬ,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КАКОЙ ЛОГИЧЕСКОЙ ФУНКЦИИ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СООТВЕТСТВУЕТ ДАННАЯ ТАБЛИЦА ИСТИННОСТ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357280" y="2571840"/>
          <a:ext cx="4143600" cy="289548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1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ПРЕДЕЛИТЬ,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КАКОЙ ЛОГИЧЕСКОЙ ФУНКЦИИ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СООТВЕТСТВУЕТ ДАННАЯ ТАБЛИЦА ИСТИННОСТИ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357280" y="2571840"/>
          <a:ext cx="4143600" cy="2895480"/>
        </p:xfrm>
        <a:graphic>
          <a:graphicData uri="http://schemas.openxmlformats.org/drawingml/2006/table">
            <a:tbl>
              <a:tblPr/>
              <a:tblGrid>
                <a:gridCol w="1381320"/>
                <a:gridCol w="1380960"/>
                <a:gridCol w="1381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ЗАКОНЧИТЬ ФОРМУЛУ, ВЫРАЖАЮЩУЮ ЗАКОН ЛОГИКИ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(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 B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(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B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ЗАКОНЧИТЬ ФОРМУЛУ, ВЫРАЖАЮЩУЮ ЗАКОН ЛОГИКИ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6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¬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6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→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6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&amp; (A v B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6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 A &amp;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Урок информатики 10 класс Поскачей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41:59Z</dcterms:created>
  <dc:creator>Михаил</dc:creator>
  <dc:description/>
  <dc:language>en-US</dc:language>
  <cp:lastModifiedBy>Светлана</cp:lastModifiedBy>
  <dcterms:modified xsi:type="dcterms:W3CDTF">2014-10-29T15:31:12Z</dcterms:modified>
  <cp:revision>13</cp:revision>
  <dc:subject/>
  <dc:title>Вопросы к игре</dc:title>
</cp:coreProperties>
</file>