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7416"/>
                </a:solidFill>
                <a:latin typeface="Arial Narrow"/>
              </a:rPr>
              <a:t>Черепашка меняет облик</a:t>
            </a:r>
            <a:endParaRPr b="0" lang="en-US" sz="48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7320" y="5500800"/>
            <a:ext cx="6121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Black"/>
              </a:rPr>
              <a:t>Леонова Ирина Сергеевна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44e93"/>
                </a:solidFill>
                <a:latin typeface="Tahoma"/>
              </a:rPr>
              <a:t>МОУ «Разуменская сош №2 Белгородского района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44e93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244e93"/>
                </a:solidFill>
                <a:latin typeface="Tahoma"/>
              </a:rPr>
              <a:t>Белгородской области»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785880" y="2357280"/>
            <a:ext cx="766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перва обдумай, потом дело де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8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придать черепашке новую форму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9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изменить размер черепашк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0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ая команда возвращает черепашку в исходное положение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1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 значит команда ПП</a:t>
            </a:r>
            <a:r>
              <a:rPr b="0" i="1" lang="ru-RU" sz="3200" spc="-1" strike="noStrike">
                <a:solidFill>
                  <a:srgbClr val="244e9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2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команды не имеют входного параметра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3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команды имеют только сокращенную форму запис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4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 делает черепашка по команде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жди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5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ерепашка смотрит вверх. В какую часть экрана будет смотреть черепашка после выполнения команды: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направо 180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6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ой командой можно изменить направление движения?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7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удалить лишних черепашек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143080" y="1643040"/>
          <a:ext cx="6572160" cy="3460680"/>
        </p:xfrm>
        <a:graphic>
          <a:graphicData uri="http://schemas.openxmlformats.org/drawingml/2006/table">
            <a:tbl>
              <a:tblPr/>
              <a:tblGrid>
                <a:gridCol w="1314360"/>
                <a:gridCol w="1314720"/>
                <a:gridCol w="1314360"/>
                <a:gridCol w="1314360"/>
                <a:gridCol w="131436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 Black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8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вставить приготовленный заранее рисунок в качестве фона для проекта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9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действия черепашка выполняет после команды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Домой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0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ой номер имеет исходная форма черепашк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1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ми командами можно написать букву </a:t>
            </a:r>
            <a:r>
              <a:rPr b="0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с помощью черепашк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2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 означает команда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СГ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3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 значит команда 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ПО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4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ля чего нужен встроенный графический редактор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1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2936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2643120"/>
            <a:ext cx="82296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Как загрузить программу ЛогоМи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2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080"/>
            <a:ext cx="8229600" cy="30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колько экранных окон содержит интерфейс программы ЛогоМиры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3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возможности программы ЛогоМиры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4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сновным объектом среды Лого является…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5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сделать активным Поле команд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6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закрыть программу ЛогоМиры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опрос 7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 открыть Поле форм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929720" y="628668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user</cp:lastModifiedBy>
  <dcterms:modified xsi:type="dcterms:W3CDTF">2011-10-31T09:10:42Z</dcterms:modified>
  <cp:revision>63</cp:revision>
  <dc:subject/>
  <dc:title>шаблон для презентаций</dc:title>
</cp:coreProperties>
</file>