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5F1-6AE5-4D71-9959-90BD62A1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672-16B8-4041-84D6-D0AD81DC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A53-1E8E-4256-A06C-614A34B5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160-BFD3-40C0-9881-4B9C634E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607-5C2A-4F7A-9174-D7BBBFF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4A6-C38B-49B1-8F7E-7FDE4C89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D03-AB7A-4615-9127-EB3CBF05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03D-298D-4F30-892A-BBC4AE2B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B74-4017-4E27-A3AD-6C63067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651-F998-42B8-8BB0-45011AE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727-4E09-411D-B7CC-302EF77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FA4-9879-4164-BE05-5EC8E48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B07-7614-4FC6-8B28-84FF555E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Урок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Начала программ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манды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амая простая команда это команда, заставляющая черепашку двигаться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вперед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перед у черепашки там, куда направлена ее го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чти у всех команд есть параметры. Вот как выглядит, например, команда, которая заставит черепашку прошагать 100 шаж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вперед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Чтобы не писать длинные слова, команды можно сокращать. Так, команду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перед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можно сократить до двух букв –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вп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. Таким образом, чтобы отправить черепашку в короткое путешествие, достаточно дать ей команду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вп 100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ерепашка пятиться назад: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азад 10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сокращенной фор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 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д 10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манды черепашке можно писать либо в поле команд внизу проекта, либо в диалоговом окошке черепахи. Поле команд открывается при загрузке проек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ГО МИРОВ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272360" cy="455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8000" y="3789360"/>
            <a:ext cx="2521080" cy="720720"/>
          </a:xfrm>
          <a:prstGeom prst="wedgeRoundRectCallout">
            <a:avLst>
              <a:gd name="adj1" fmla="val -36837"/>
              <a:gd name="adj2" fmla="val 294495"/>
              <a:gd name="adj3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ле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Чтобы черепашка выполнила команду, написанную в поле команд, надо нажать клавишу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ENTER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после написания команды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пробуйте с помощью команд вперед и назад, набранных в поле команд,  заставить черепашку двигаться по полю проекта в вертикальном направлении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манды поворо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нятно, что двигаться только по одной прямой для черепашки не очень интересно. Поэтому она может поворачиваться. Повернуть черепашку можно командами направо и нале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Направо – 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Налево - л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манды поворо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341360"/>
          <a:ext cx="8517960" cy="5516280"/>
        </p:xfrm>
        <a:graphic>
          <a:graphicData uri="http://schemas.openxmlformats.org/drawingml/2006/table">
            <a:tbl>
              <a:tblPr/>
              <a:tblGrid>
                <a:gridCol w="1314720"/>
                <a:gridCol w="1472400"/>
                <a:gridCol w="2784240"/>
                <a:gridCol w="1472760"/>
                <a:gridCol w="147384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Пара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окращенная 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25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оличество граду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Черепашка поворачивается направо относительно текущего состояния на указанное количество граду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право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пр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25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л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оличество граду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Черепашка поворачивается налево относительно текущего состояния на указанное количество граду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лево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в 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пражнение 5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Поверните черепашку и отправьте ее «погулять» по горизонтали командами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перед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назад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ногда трудно вспомнить текущее положение головы черепашки, но надо установить ее в какое-то строго определенное положение, например строго вверх, или налево. Тогда удобнее использовать команд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новый кур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2276640"/>
          <a:ext cx="8229600" cy="4136760"/>
        </p:xfrm>
        <a:graphic>
          <a:graphicData uri="http://schemas.openxmlformats.org/drawingml/2006/table">
            <a:tbl>
              <a:tblPr/>
              <a:tblGrid>
                <a:gridCol w="1292040"/>
                <a:gridCol w="2710080"/>
                <a:gridCol w="1973160"/>
                <a:gridCol w="1008000"/>
                <a:gridCol w="1246320"/>
              </a:tblGrid>
              <a:tr h="14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н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2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_ку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градусов, отсчитываемых от нулевого положения черепахи головой вверх по часовой стрелке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ашка поворачивается  в соответствии с указанным направ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_курс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 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пражнение 6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С помощью команды </a:t>
            </a: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нк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 и команд движения, написанных в поле команд, заставьте черепашку ползать в различных направлениях (по вертикали, горизонтали, диагонали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0:03:14Z</dcterms:created>
  <dc:creator>teacher403</dc:creator>
  <dc:description/>
  <dc:language>en-US</dc:language>
  <cp:lastModifiedBy>teacher403</cp:lastModifiedBy>
  <dcterms:modified xsi:type="dcterms:W3CDTF">2010-11-01T06:07:36Z</dcterms:modified>
  <cp:revision>3</cp:revision>
  <dc:subject/>
  <dc:title>Урок № 3</dc:title>
</cp:coreProperties>
</file>