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68A-C24C-4CBF-92A8-0E2D53D4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319-89C1-4023-9ADB-F9D28138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712-5B0B-46F5-8A00-6ADA6614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294-3918-4AEC-8643-8E431B25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AD9-6449-4B47-A3B0-B72F7C42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750-2218-46C4-9E7C-86EBF40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B86-46C5-43C0-9F4D-321EF0E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9C6-F5BF-43B9-A49F-43A28B4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EB0-A90A-415C-A21C-F007A28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22B-3B2E-47B1-AB59-184B7D7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7C3-16BE-4A92-8DAF-1CE0137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AD8-44BC-4DCC-BD98-40BB349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ECF4-F7F0-4362-8DF5-58CA7257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Занятие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Оживляем картин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Попробуйте отштамповать на рисунке проекта деревья, кусты или цветы так, чтобы получилась аллея, клумба или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Кто такие черепаш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90036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353440" cy="51483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453560" y="3147840"/>
            <a:ext cx="1940400" cy="1784520"/>
            <a:chOff x="4453560" y="3147840"/>
            <a:chExt cx="1940400" cy="1784520"/>
          </a:xfrm>
        </p:grpSpPr>
        <p:sp>
          <p:nvSpPr>
            <p:cNvPr id="47" name=""/>
            <p:cNvSpPr/>
            <p:nvPr/>
          </p:nvSpPr>
          <p:spPr>
            <a:xfrm rot="11400600">
              <a:off x="4571640" y="3284280"/>
              <a:ext cx="1703520" cy="1511280"/>
            </a:xfrm>
            <a:prstGeom prst="wedgeEllipseCallout">
              <a:avLst>
                <a:gd name="adj1" fmla="val -154087"/>
                <a:gd name="adj2" fmla="val 12564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156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30680" y="371016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ртин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41000" y="3148560"/>
            <a:ext cx="1783800" cy="920880"/>
            <a:chOff x="441000" y="3148560"/>
            <a:chExt cx="1783800" cy="920880"/>
          </a:xfrm>
        </p:grpSpPr>
        <p:sp>
          <p:nvSpPr>
            <p:cNvPr id="50" name=""/>
            <p:cNvSpPr/>
            <p:nvPr/>
          </p:nvSpPr>
          <p:spPr>
            <a:xfrm rot="10539000">
              <a:off x="468360" y="3213000"/>
              <a:ext cx="1728720" cy="792000"/>
            </a:xfrm>
            <a:prstGeom prst="wedgeRoundRectCallout">
              <a:avLst>
                <a:gd name="adj1" fmla="val -386300"/>
                <a:gd name="adj2" fmla="val 7787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080" y="3357360"/>
              <a:ext cx="1584000" cy="459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ртин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2700000" y="1989000"/>
            <a:ext cx="358920" cy="20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98960" y="108000"/>
            <a:ext cx="69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Одёжки» для черепашк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3200" y="1292400"/>
            <a:ext cx="8470800" cy="5565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050920" y="1844640"/>
            <a:ext cx="1080360" cy="2376360"/>
            <a:chOff x="2050920" y="1844640"/>
            <a:chExt cx="1080360" cy="2376360"/>
          </a:xfrm>
        </p:grpSpPr>
        <p:sp>
          <p:nvSpPr>
            <p:cNvPr id="56" name=""/>
            <p:cNvSpPr/>
            <p:nvPr/>
          </p:nvSpPr>
          <p:spPr>
            <a:xfrm flipH="1">
              <a:off x="2541960" y="1844640"/>
              <a:ext cx="589320" cy="175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050920" y="3599280"/>
              <a:ext cx="935280" cy="62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 rot="10996800">
            <a:off x="4355280" y="3428280"/>
            <a:ext cx="2519640" cy="870120"/>
          </a:xfrm>
          <a:prstGeom prst="wedgeRoundRectCallout">
            <a:avLst>
              <a:gd name="adj1" fmla="val -92648"/>
              <a:gd name="adj2" fmla="val 185819"/>
              <a:gd name="adj3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187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Щелкаем по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2997360"/>
            <a:ext cx="936720" cy="777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436000" y="1844280"/>
            <a:ext cx="1728720" cy="939600"/>
            <a:chOff x="5436000" y="1844280"/>
            <a:chExt cx="1728720" cy="939600"/>
          </a:xfrm>
        </p:grpSpPr>
        <p:sp>
          <p:nvSpPr>
            <p:cNvPr id="61" name=""/>
            <p:cNvSpPr/>
            <p:nvPr/>
          </p:nvSpPr>
          <p:spPr>
            <a:xfrm>
              <a:off x="5436360" y="238500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уменьш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436000" y="1844280"/>
              <a:ext cx="102384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64000" y="1844640"/>
            <a:ext cx="1728720" cy="1406880"/>
            <a:chOff x="3564000" y="1844640"/>
            <a:chExt cx="1728720" cy="1406880"/>
          </a:xfrm>
        </p:grpSpPr>
        <p:sp>
          <p:nvSpPr>
            <p:cNvPr id="64" name=""/>
            <p:cNvSpPr/>
            <p:nvPr/>
          </p:nvSpPr>
          <p:spPr>
            <a:xfrm>
              <a:off x="3564000" y="2852640"/>
              <a:ext cx="17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увелич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643280" y="1844640"/>
              <a:ext cx="649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41964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59280" y="1844280"/>
            <a:ext cx="2017080" cy="1158480"/>
            <a:chOff x="3059280" y="1844280"/>
            <a:chExt cx="2017080" cy="1158480"/>
          </a:xfrm>
        </p:grpSpPr>
        <p:sp>
          <p:nvSpPr>
            <p:cNvPr id="68" name=""/>
            <p:cNvSpPr/>
            <p:nvPr/>
          </p:nvSpPr>
          <p:spPr>
            <a:xfrm>
              <a:off x="3059280" y="2543040"/>
              <a:ext cx="119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штам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563640" y="1844280"/>
              <a:ext cx="151272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тпечатки образа череп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И «одетая» и «неодетая» черепашка умеет оставлять не только следы лапок, но и собственные фотографии на листе проекта. Черепашек можно штамповать сколько захочется с помощью инструмента «штамп»       . Щелкните на этот инструмент, а потом на черепашку. Отнесите черепашку на новое место. Вы увидите, что ее образ остался на листе. Его можно стирать, так же как и все остальные графические образы, но перетаскивать как черепашку нельзя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При штамповке можно легко потерять черепашку среди ее образов. Если это случилось, можно попробовать подвинуть отштампованные рисунки. Если изображение не двигается, то это не черепашка. Можно также выбрать в меню РЕДАКТОР пункт ВЫДЕЛИ ВСЕ. У настоящих черепашек появятся серые «пипочки» по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3430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25920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 помощью такой технологии можно украсить свой проект садами и лесами, полями и огоро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037200" cy="366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6165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исунок с «отпечатанным» са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Черепашка движ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Создайте новую черепаш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Выберите в Наборе форм         сразу все «кадры». Для этого нажмите и держите клавишу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и щелкайте на фор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Теперь щелкните по черепа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Нажмите на черепашке правой кнопкой мыши. В открывшемся выпадающем меню выберите пункт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живить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587160" cy="615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2000" y="4941720"/>
            <a:ext cx="2700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изменить скорость движения по экр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Откройте рюкзак черепашки (ПК мыши по черепашке) и в закладк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авил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замените параметр к команд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ПЕРЁД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Чтобы движение было медленнее, заменим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п 5 жди 1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н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п 3 жди 1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Чтобы стояла на месте, установим нулевую длину шага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п 0 жди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изменить частоту смены кад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«Поиграйте» с параметром команды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жди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Увеличьте паузу или попробуйте вовсе удалить её из инстр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24720" y="2852640"/>
            <a:ext cx="1316160" cy="1986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1684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вижение в другую стор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Черепашка движется туда, куда она смот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Один из спосо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Нажать и держать клавишу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ift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, и в то же время просто потянуть черепашку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2:05:31Z</dcterms:created>
  <dc:creator>teacher403</dc:creator>
  <dc:description/>
  <dc:language>en-US</dc:language>
  <cp:lastModifiedBy>teacher403</cp:lastModifiedBy>
  <dcterms:modified xsi:type="dcterms:W3CDTF">2010-11-15T08:33:49Z</dcterms:modified>
  <cp:revision>8</cp:revision>
  <dc:subject/>
  <dc:title>Занятие 2</dc:title>
</cp:coreProperties>
</file>