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B46A-768F-4938-8052-475B742C6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BF35-B3E6-42E4-9965-095A2F44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C1FC-B3F1-4E29-AE53-1C44F2CCC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C165-1D9E-4961-B793-A8AE4089A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2491-F468-4C1F-BB47-F4A72582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9E71-D27F-4C81-B5C2-E248A7D5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A5CE-AA72-4FE8-A1B6-448988CB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E78A-4E30-410A-9596-AB97E2BE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D891-FAC0-4793-9ED1-998126DF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B3C5-76A8-432C-B9BB-461A9928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5720-5BAF-444A-AD5E-4C5B1069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B413-8BEF-4861-BE2F-104C8DD9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951F-C06A-490F-8700-C4DA28DAB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Занятие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2491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Arial"/>
              </a:rPr>
              <a:t>Работа с меню фор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Arial"/>
              </a:rPr>
              <a:t>Создание новой фор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8355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Меню форм открывается при щелчке мышью по  кнопк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1151280" cy="1112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6428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В этом меню содержатся всевозможные формы для превращения черепашек. Эти формы можно не только применять для «переодевания», но и редактировать и придумывать нов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20840" y="260280"/>
            <a:ext cx="3574800" cy="6121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932360" y="333360"/>
            <a:ext cx="3619440" cy="60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160" y="187920"/>
            <a:ext cx="9132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Помимо уже готовых форм есть и пустые формы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1171440"/>
            <a:ext cx="7848720" cy="5686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rot="16200000">
            <a:off x="1223280" y="2312280"/>
            <a:ext cx="1008000" cy="2232000"/>
          </a:xfrm>
          <a:prstGeom prst="wedgeRoundRectCallout">
            <a:avLst>
              <a:gd name="adj1" fmla="val -303861"/>
              <a:gd name="adj2" fmla="val 274888"/>
              <a:gd name="adj3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141720"/>
            <a:ext cx="168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фор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51280" y="548280"/>
            <a:ext cx="4552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Они обозначены точками. Можно дополнить готовые формы собственными. Для этого щелкните по любой пустой форме два раза мышкой. Откроется диалоговое окно фор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2018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4360" y="297000"/>
            <a:ext cx="7991280" cy="5794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050920" y="1341360"/>
            <a:ext cx="3816360" cy="1008000"/>
          </a:xfrm>
          <a:prstGeom prst="wedgeRoundRectCallout">
            <a:avLst>
              <a:gd name="adj1" fmla="val -62685"/>
              <a:gd name="adj2" fmla="val 324013"/>
              <a:gd name="adj3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e0e7b7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кно для рисования фор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08:15:38Z</dcterms:created>
  <dc:creator>pciholog</dc:creator>
  <dc:description/>
  <dc:language>en-US</dc:language>
  <cp:lastModifiedBy>pciholog</cp:lastModifiedBy>
  <dcterms:modified xsi:type="dcterms:W3CDTF">2010-12-06T14:55:40Z</dcterms:modified>
  <cp:revision>3</cp:revision>
  <dc:subject/>
  <dc:title>Занятие 5</dc:title>
</cp:coreProperties>
</file>