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3AA-D686-41D5-90C5-7E47FFE3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C0E-262C-4434-A7CE-586BF413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F65-9023-47C4-81B0-D70AAC52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E241-84BA-44B5-8C28-F92B1BA2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2903-D175-4048-A779-D96676B7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0747-B0D7-4BA8-90A3-485EED18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D8F7-5D58-4B5E-803C-F89169D2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F7CF-A85F-494C-88DD-5A884970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8AC1-9FA7-44B3-BF29-F68B824C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80E6-5A44-4227-BB60-19E824FF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E4CA-F861-45A5-A8E1-66E45279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441-17E5-41A8-B59E-16178B56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AB3F-D04C-4844-8321-0D56FC92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2FDE-5B11-4A0A-BAE2-C0942EFE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2D90-CC72-4570-B6A5-08548202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28FF-167C-45DA-A900-30697A71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AF59-677D-418F-8EDA-D2532DC9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A192-E2AA-400E-84CF-7D7F6AB2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1F80-7159-4C5C-9BFA-18B248CF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7CC-45FD-4010-8BEE-449378F2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6FE-CF4A-412C-B654-5AFEAA95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AB4-88B2-40BA-B09B-58037DDE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8B5-AC5C-4C1A-8629-77D07AAC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A73-87AC-4F8E-B60E-A725AAFB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4C4F-B23D-4E17-BC11-D13D13BAD9C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0F42-ED67-4627-9E1B-B918B4945C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Ф</a:t>
            </a: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ормирование интонационной стороны речи</a:t>
            </a:r>
            <a:br>
              <a:rPr sz="2400"/>
            </a:b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учащихся младших классов специальной (коррекционной) общеобразовательной школы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VIII</a:t>
            </a: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 вид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мин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готовила и провел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рина Михайлоана Мокринск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-логопед высше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38088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КОУ СО «Буткинская специальная (коррекционная) общеобразовательная школа – интерна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Интон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совокупность звуковых средств языка, которые фонетически организует речь, устанавливает смысловые отношения между частями фразы, сообщают фразе повествовательное, вопросительное или восклицательное значение, позволяют говорящему выражать различные чувства, на письме интонация в известной мере выражается посредством знаков препин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2971800"/>
            <a:ext cx="25146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304812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Элементы интон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609480"/>
            <a:ext cx="25146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6858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елоди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1676520"/>
            <a:ext cx="1981080" cy="838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1828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ем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3276720"/>
            <a:ext cx="1981080" cy="838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0" y="34290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ембр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5029200"/>
            <a:ext cx="2667240" cy="838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51055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Логическое удар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5029200"/>
            <a:ext cx="2667240" cy="838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52578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он голо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676520"/>
            <a:ext cx="228600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1981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ит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3276720"/>
            <a:ext cx="2286000" cy="838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3505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ау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800600" y="137124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00040" y="3886200"/>
            <a:ext cx="121932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886200"/>
            <a:ext cx="11430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200040" y="2133720"/>
            <a:ext cx="10666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486400" y="2057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124080" y="342900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3429000"/>
            <a:ext cx="533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Нарушения интонационной выразительности речи у детей с умственной отсталостью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рушения темпа и ритма (ускоренный - замедленный, скандированный - растянутый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удности восприятия и воспроизведения эмоциональных значений интона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рушения модуляции голоса по силе и высот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рушения мелодической организации высказы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Направления коррекционной работ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бота над речевым дыханием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нсцениров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южетно-ролевые игры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узыкально-двигательные упражн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оизнесение скороговорок с разной интонацией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оизнесений приветстви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именение на уроках письма, чтения, развития речи, русского языка специальных коррекционных приемов и упражн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Коррекционные упражн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жнения на развитие  темпо-ритмической стороны ре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жнения на развитие высоты голо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жнения на  формировании длительного речевого выдо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жнения на формирование умения  правильно  воспринимать интонацию в речи другого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Коррекционные упражн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ражнения на формирование умения правильного воспроизведения интон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ражнения на формирование восприятия логического удар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ражнения на формирование умения воспроизводить логическое удар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ражнения на развитие модуляций голоса по си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ражнения на формирование восприятия темб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ражнения на формирование умения воспроизведения тембра голо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Tahoma"/>
              </a:rPr>
              <a:t>Список литературы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родович А.М. Методика развития речи детей. – М.: Просвещение, 197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лунова Л.А. Работа над словом в процессе развития речи детей старшего дошкольного возраста: Дис. канд. пед. наук. М., 199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дратенко И.Ю. Основные направления логопедической работы по формированию эмоциональной лексики у детей с общим недоразвитием речи старшего дошкольного возраста // Дефектология. – 2003, №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йденов Б.С. Выразительность речи и чтение. М., Просвещение, 196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дведева Е.А. Искусства и художественная деятельность в системе психолого-педагогической помощи ребенку с проблемами в развитии. М.: 201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алаева Р.И., Серебрякова Н.В., Зорина С.В. Нарушение речи и их коррекция у детей с задержкой психического развития. М.: Владос, 200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2:33:03Z</dcterms:created>
  <dc:creator>марина</dc:creator>
  <dc:description/>
  <dc:language>en-US</dc:language>
  <cp:lastModifiedBy>марина</cp:lastModifiedBy>
  <dcterms:modified xsi:type="dcterms:W3CDTF">2013-02-01T14:06:0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