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gif" ContentType="image/gif"/>
  <Override PartName="/ppt/media/image23.png" ContentType="image/png"/>
  <Override PartName="/ppt/media/image30.gif" ContentType="image/gif"/>
  <Override PartName="/ppt/media/image21.gif" ContentType="image/gif"/>
  <Override PartName="/ppt/media/image8.jpeg" ContentType="image/jpeg"/>
  <Override PartName="/ppt/media/image9.png" ContentType="image/png"/>
  <Override PartName="/ppt/media/image31.gif" ContentType="image/gif"/>
  <Override PartName="/ppt/media/image34.png" ContentType="image/png"/>
  <Override PartName="/ppt/media/image10.gif" ContentType="image/gif"/>
  <Override PartName="/ppt/media/image13.png" ContentType="image/png"/>
  <Override PartName="/ppt/media/image5.jpeg" ContentType="image/jpeg"/>
  <Override PartName="/ppt/media/image12.png" ContentType="image/png"/>
  <Override PartName="/ppt/media/image7.jpeg" ContentType="image/jpeg"/>
  <Override PartName="/ppt/media/image11.png" ContentType="image/png"/>
  <Override PartName="/ppt/media/image32.gif" ContentType="image/gif"/>
  <Override PartName="/ppt/media/image19.jpeg" ContentType="image/jpeg"/>
  <Override PartName="/ppt/media/image33.gif" ContentType="image/gif"/>
  <Override PartName="/ppt/media/image25.gif" ContentType="image/gif"/>
  <Override PartName="/ppt/media/image6.jpeg" ContentType="image/jpeg"/>
  <Override PartName="/ppt/media/image4.jpeg" ContentType="image/jpeg"/>
  <Override PartName="/ppt/media/image18.jpeg" ContentType="image/jpeg"/>
  <Override PartName="/ppt/media/image22.gif" ContentType="image/gif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28.gif" ContentType="image/gif"/>
  <Override PartName="/ppt/media/image29.gif" ContentType="image/gif"/>
  <Override PartName="/ppt/media/image15.jpeg" ContentType="image/jpeg"/>
  <Override PartName="/ppt/media/image26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D53-B963-41AA-81E1-BC78517E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1D0-5449-494A-ABD2-B19ADFBC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B07-6857-490C-B77C-86BDD15E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907-3FF0-4F3F-B961-38CB99DE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27D1-0A3F-4D1C-A5B7-11D3745D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DA7A-85E3-4818-9C4F-5C1BB20D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F9B3-7008-4759-8ABD-69BDAD79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4D8-9FBA-498D-A495-C3C8D7A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3803-819B-49B7-983D-DFDC244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1CE-DFCB-4D43-B5D0-88661C8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04F-1FD8-4CDA-86ED-905F256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606-FC96-4EE9-A1C5-FA02B3A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117F-7EAD-406B-8684-C3DD5E9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EB7-C758-4C77-8C8D-8063EB2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C49-A08D-44BD-A4EB-B8A34E5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F3F4-D668-4CE4-A940-305FDBB2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DA5-3E7D-4CB7-94DC-B6942909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838-1E55-43C3-B7F5-52ED829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BCC-70AE-49F3-A5D1-7F781208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5B7-C7E4-4D06-B7DD-F688914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380-F4B3-4270-94C7-2D8C994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B6A-78C5-4C47-B1C2-2886C79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F94-BFF8-492A-8BE0-EB8AE53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A07-9F5B-4CB1-84EC-9D23D98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C7D-8858-4098-AFF2-E121A5688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E21B-5D28-41C6-BCAD-8C44906C1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воё здоровье и алкоголь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Мисцевская основна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14264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чальная стадия опьянения характеризуется легким возбуждением, повышенным  настроением, ощущением благополучия, радости. Человек испытывает легкое головокружение, ощущением тепла в теле, появляется самоуверенность, обидчив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231840"/>
            <a:ext cx="5376960" cy="811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2U45CA6RXE4ZCAPZPO67CAJ00IG7CAEPWB2BCAVFR9W3CAPLKXH1CA54O037CA05RX6ACAT673EDCAFKJJQHCA2M7U3SCACJ2M5TCA7ZSMPGCAM1JAYGCA1PROMXCA749ESWCA6ACVP7CA4EH4PKCAGV4GTO"/>
          <p:cNvPicPr/>
          <p:nvPr/>
        </p:nvPicPr>
        <p:blipFill>
          <a:blip r:embed="rId3"/>
          <a:stretch/>
        </p:blipFill>
        <p:spPr>
          <a:xfrm>
            <a:off x="5143680" y="3286080"/>
            <a:ext cx="3786120" cy="335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школьные работы\классный час\для презентаций\L32p04p01.jpg"/>
          <p:cNvPicPr/>
          <p:nvPr/>
        </p:nvPicPr>
        <p:blipFill>
          <a:blip r:embed="rId4"/>
          <a:stretch/>
        </p:blipFill>
        <p:spPr>
          <a:xfrm>
            <a:off x="357120" y="328608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42840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мере  усиления опьянения психическое возбуждение  увеличивается: человек теряет чувство меры, такт, речь его становится  громкой. Опьяневший легко раздражается, проявляет агрессивность к окружающим, совершает антиобщественные поступки. Мышление его утрачивает последовательность, становится бессвязным. Наблюдается излишняя подвижность, пьяный поет слишком громко и бранится. Походка его становится шаткой, он плохо ориентируется в окружающе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D:\школьные работы\классный час\для презентаций\L12p06p02.jpg"/>
          <p:cNvPicPr/>
          <p:nvPr/>
        </p:nvPicPr>
        <p:blipFill>
          <a:blip r:embed="rId2"/>
          <a:stretch/>
        </p:blipFill>
        <p:spPr>
          <a:xfrm>
            <a:off x="5286240" y="392904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S3IYCA4OXH2OCAPXZT8VCA0H8WA0CAQI278HCATGT1JRCAEW5DD7CARHJV8DCAESOU3ZCA2DGSF3CA6QCT8OCA6RMOCDCAU1XWRNCAU4AQS8CA2BKWV3CA2KU9P1CA7R7VMWCALFJLEQCAKPKY05CA0EXRC2"/>
          <p:cNvPicPr/>
          <p:nvPr/>
        </p:nvPicPr>
        <p:blipFill>
          <a:blip r:embed="rId3"/>
          <a:stretch/>
        </p:blipFill>
        <p:spPr>
          <a:xfrm>
            <a:off x="785880" y="4000680"/>
            <a:ext cx="3714840" cy="2582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2876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сильном опьянении возникает рвота, непроизвольное мочеиспускание, слюнотечение, сонливость, сменяющаяся глубоким сном.  Человек засыпает в любом месте, в любой позе. Сон настолько глубок, что приближается к состоянию наркоза. Поэтому такое состояние рассматривается уже не как опьянение, а как начало острого алкогольного отравления, которое может закончиться смертельным исходом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D:\школьные работы\классный час\для презентаций\L32p07p01.jpg"/>
          <p:cNvPicPr/>
          <p:nvPr/>
        </p:nvPicPr>
        <p:blipFill>
          <a:blip r:embed="rId2"/>
          <a:stretch/>
        </p:blipFill>
        <p:spPr>
          <a:xfrm>
            <a:off x="4286160" y="3160800"/>
            <a:ext cx="4595760" cy="3448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школьные работы\классный час\для презентаций\люди\5.1218470965.jpg"/>
          <p:cNvPicPr/>
          <p:nvPr/>
        </p:nvPicPr>
        <p:blipFill>
          <a:blip r:embed="rId3"/>
          <a:stretch/>
        </p:blipFill>
        <p:spPr>
          <a:xfrm>
            <a:off x="285840" y="3571920"/>
            <a:ext cx="3929040" cy="301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6"/>
          <p:cNvSpPr/>
          <p:nvPr/>
        </p:nvSpPr>
        <p:spPr>
          <a:xfrm flipH="1">
            <a:off x="1928880" y="3357720"/>
            <a:ext cx="1295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57120" y="44290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годовалого ребёнка – 1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5500800" y="3357720"/>
            <a:ext cx="17287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929120" y="4357800"/>
            <a:ext cx="378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мертельная доза для подростка 12-13 л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50 – 500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103320" y="317520"/>
            <a:ext cx="899136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школьные работы\классный час\для презентаций\люди\дети\baby2401.gif"/>
          <p:cNvPicPr/>
          <p:nvPr/>
        </p:nvPicPr>
        <p:blipFill>
          <a:blip r:embed="rId3"/>
          <a:stretch/>
        </p:blipFill>
        <p:spPr>
          <a:xfrm>
            <a:off x="4714920" y="2071800"/>
            <a:ext cx="84780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D:\школьные работы\классный час\для презентаций\люди\дети\baby23.gif"/>
          <p:cNvPicPr/>
          <p:nvPr/>
        </p:nvPicPr>
        <p:blipFill>
          <a:blip r:embed="rId4"/>
          <a:stretch/>
        </p:blipFill>
        <p:spPr>
          <a:xfrm>
            <a:off x="3500280" y="2214720"/>
            <a:ext cx="1000440" cy="195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928440"/>
            <a:ext cx="7615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ая потеря памяти (от нескольких минут до нескольких дн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ское воздейств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оз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рдц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чен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желудочную желе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елудочно –  кишечный трак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Утяжеляется течением различных заболеваний, снижается сопротивлени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2"/>
          <a:stretch/>
        </p:blipFill>
        <p:spPr>
          <a:xfrm>
            <a:off x="1000080" y="92160"/>
            <a:ext cx="763128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D:\школьные работы\классный час\для презентаций\разное\101иии.gif"/>
          <p:cNvPicPr/>
          <p:nvPr/>
        </p:nvPicPr>
        <p:blipFill>
          <a:blip r:embed="rId3"/>
          <a:stretch/>
        </p:blipFill>
        <p:spPr>
          <a:xfrm>
            <a:off x="2500200" y="1928880"/>
            <a:ext cx="2286000" cy="164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:\школьные работы\классный час\для презентаций\brain.gif"/>
          <p:cNvPicPr/>
          <p:nvPr/>
        </p:nvPicPr>
        <p:blipFill>
          <a:blip r:embed="rId4"/>
          <a:stretch/>
        </p:blipFill>
        <p:spPr>
          <a:xfrm>
            <a:off x="6286680" y="1571760"/>
            <a:ext cx="195228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D:\школьные работы\классный час\для презентаций\HM00307_.WMF"/>
          <p:cNvPicPr/>
          <p:nvPr/>
        </p:nvPicPr>
        <p:blipFill>
          <a:blip r:embed="rId5"/>
          <a:stretch/>
        </p:blipFill>
        <p:spPr>
          <a:xfrm>
            <a:off x="6786720" y="4786200"/>
            <a:ext cx="212076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717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е (от 2 лет) и чрезмерное употребление алкоголя вызывает физическую и психическую 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(возникает уже на ранних стадиях алкоголизма) – это потребность, характеризующаяся употреблением алкоголя. 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ет нормальное повед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явлению безответственного отношения к семье, окружающим, учебе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2627280" y="158760"/>
            <a:ext cx="4048200" cy="81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школьные работы\классный час\для презентаций\171.gif"/>
          <p:cNvPicPr/>
          <p:nvPr/>
        </p:nvPicPr>
        <p:blipFill>
          <a:blip r:embed="rId3"/>
          <a:stretch/>
        </p:blipFill>
        <p:spPr>
          <a:xfrm>
            <a:off x="714240" y="314316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D:\школьные работы\классный час\для презентаций\171.gif"/>
          <p:cNvPicPr/>
          <p:nvPr/>
        </p:nvPicPr>
        <p:blipFill>
          <a:blip r:embed="rId4"/>
          <a:stretch/>
        </p:blipFill>
        <p:spPr>
          <a:xfrm>
            <a:off x="714240" y="3571920"/>
            <a:ext cx="91440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:\школьные работы\классный час\для презентаций\люди\51.gif"/>
          <p:cNvPicPr/>
          <p:nvPr/>
        </p:nvPicPr>
        <p:blipFill>
          <a:blip r:embed="rId5"/>
          <a:stretch/>
        </p:blipFill>
        <p:spPr>
          <a:xfrm>
            <a:off x="500040" y="4857840"/>
            <a:ext cx="2786040" cy="155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:\школьные работы\классный час\для презентаций\люди\55.gif"/>
          <p:cNvPicPr/>
          <p:nvPr/>
        </p:nvPicPr>
        <p:blipFill>
          <a:blip r:embed="rId6"/>
          <a:stretch/>
        </p:blipFill>
        <p:spPr>
          <a:xfrm>
            <a:off x="5286240" y="4395960"/>
            <a:ext cx="3033720" cy="19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356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избежать  ситуаций, способствующих употреблению алкоголя,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организовать свой дос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творчеством, физической культур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«духовные»потре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отказу от употребления алкоголя в вежливой форме, которая не обидит окружающих, в т. ч. друз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D:\школьные работы\классный час\для презентаций\170.gif"/>
          <p:cNvPicPr/>
          <p:nvPr/>
        </p:nvPicPr>
        <p:blipFill>
          <a:blip r:embed="rId2"/>
          <a:stretch/>
        </p:blipFill>
        <p:spPr>
          <a:xfrm>
            <a:off x="642960" y="264312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D:\школьные работы\классный час\для презентаций\170.gif"/>
          <p:cNvPicPr/>
          <p:nvPr/>
        </p:nvPicPr>
        <p:blipFill>
          <a:blip r:embed="rId3"/>
          <a:stretch/>
        </p:blipFill>
        <p:spPr>
          <a:xfrm>
            <a:off x="642960" y="221472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D:\школьные работы\классный час\для презентаций\170.gif"/>
          <p:cNvPicPr/>
          <p:nvPr/>
        </p:nvPicPr>
        <p:blipFill>
          <a:blip r:embed="rId4"/>
          <a:stretch/>
        </p:blipFill>
        <p:spPr>
          <a:xfrm>
            <a:off x="642960" y="178596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D:\школьные работы\классный час\для презентаций\170.gif"/>
          <p:cNvPicPr/>
          <p:nvPr/>
        </p:nvPicPr>
        <p:blipFill>
          <a:blip r:embed="rId5"/>
          <a:stretch/>
        </p:blipFill>
        <p:spPr>
          <a:xfrm>
            <a:off x="642960" y="13572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D:\школьные работы\классный час\для презентаций\Sport\24.gif"/>
          <p:cNvPicPr/>
          <p:nvPr/>
        </p:nvPicPr>
        <p:blipFill>
          <a:blip r:embed="rId6"/>
          <a:stretch/>
        </p:blipFill>
        <p:spPr>
          <a:xfrm>
            <a:off x="5072040" y="3559320"/>
            <a:ext cx="3738600" cy="303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D:\школьные работы\классный час\для презентаций\люди\68.gif"/>
          <p:cNvPicPr/>
          <p:nvPr/>
        </p:nvPicPr>
        <p:blipFill>
          <a:blip r:embed="rId7"/>
          <a:stretch/>
        </p:blipFill>
        <p:spPr>
          <a:xfrm>
            <a:off x="2357280" y="3571920"/>
            <a:ext cx="200052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826920" y="69228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Если вы всё учли, всё уясн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то сделайте ещё одно усилие и решитесь не прикасаться к рюм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Помните: здоровье, радость жизни в ваших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3" descr=""/>
          <p:cNvPicPr/>
          <p:nvPr/>
        </p:nvPicPr>
        <p:blipFill>
          <a:blip r:embed="rId2"/>
          <a:stretch/>
        </p:blipFill>
        <p:spPr>
          <a:xfrm>
            <a:off x="701640" y="3786120"/>
            <a:ext cx="768672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1.Журнал «Справочник классного руководителя»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2. Картинки  (автор и источник заимствования неизвест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-19080" y="103320"/>
            <a:ext cx="5780160" cy="2530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6840" y="285840"/>
            <a:ext cx="8472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том, как влияет алкоголь на организм челове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том, как можно научиться конструктивному отказу от употребления  алкого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untitled"/>
          <p:cNvPicPr/>
          <p:nvPr/>
        </p:nvPicPr>
        <p:blipFill>
          <a:blip r:embed="rId2"/>
          <a:stretch/>
        </p:blipFill>
        <p:spPr>
          <a:xfrm>
            <a:off x="6572160" y="3624120"/>
            <a:ext cx="2230560" cy="305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мочь детям развивать в себе привычку к здоровому и творческому образу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ыработать умение правильно делать обоснованные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занятия учащиеся должн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информацией об алкогольной зависим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информацией о стадиях опья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убежденными,   что не употреблять алкоголь   – более предпочтите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42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ьянство есть упражн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в безу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stral"/>
              </a:rPr>
              <a:t>Пифаг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D:\школьные работы\классный час\для презентаций\882c665b64effdc059f7945889f17b74-2-1.jpg"/>
          <p:cNvPicPr/>
          <p:nvPr/>
        </p:nvPicPr>
        <p:blipFill>
          <a:blip r:embed="rId2"/>
          <a:stretch/>
        </p:blipFill>
        <p:spPr>
          <a:xfrm>
            <a:off x="357120" y="1822320"/>
            <a:ext cx="6357960" cy="47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9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V="1">
            <a:off x="4648320" y="4643280"/>
            <a:ext cx="66600" cy="76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6400800" y="5572080"/>
            <a:ext cx="67140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 flipH="1" flipV="1">
            <a:off x="2214360" y="5500800"/>
            <a:ext cx="68076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Алк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классный час\здоровое питание\ЛЮДИ\11853384584589215409084.jpg"/>
          <p:cNvPicPr/>
          <p:nvPr/>
        </p:nvPicPr>
        <p:blipFill>
          <a:blip r:embed="rId2"/>
          <a:stretch/>
        </p:blipFill>
        <p:spPr>
          <a:xfrm>
            <a:off x="3357720" y="1571760"/>
            <a:ext cx="2428560" cy="242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лассный час\здоровое питание\1196534202_fa08f8e992305d9290392d87aa276419_full.jpg"/>
          <p:cNvPicPr/>
          <p:nvPr/>
        </p:nvPicPr>
        <p:blipFill>
          <a:blip r:embed="rId3"/>
          <a:stretch/>
        </p:blipFill>
        <p:spPr>
          <a:xfrm>
            <a:off x="5929200" y="2610000"/>
            <a:ext cx="3000600" cy="199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школьные работы\классный час\курение\картинки\news477e2408c3450.jpg"/>
          <p:cNvPicPr/>
          <p:nvPr/>
        </p:nvPicPr>
        <p:blipFill>
          <a:blip r:embed="rId4"/>
          <a:stretch/>
        </p:blipFill>
        <p:spPr>
          <a:xfrm>
            <a:off x="285840" y="2786040"/>
            <a:ext cx="2587680" cy="1919160"/>
          </a:xfrm>
          <a:prstGeom prst="rect">
            <a:avLst/>
          </a:prstGeom>
          <a:ln w="0">
            <a:noFill/>
          </a:ln>
        </p:spPr>
      </p:pic>
      <p:sp>
        <p:nvSpPr>
          <p:cNvPr id="100" name="Содержимое 2"/>
          <p:cNvSpPr/>
          <p:nvPr/>
        </p:nvSpPr>
        <p:spPr>
          <a:xfrm>
            <a:off x="285840" y="21420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Здоровье – это бесценный дар. Берегите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омни, что для здоровья вред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5712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– это этиловый спирт (бесцветная, летучая жидкость с характерным запахом и вкусом). Он используется в качестве растворителя, антифриза, дезинфицирующего  средства, а также для поднятия настроения, обладает наркотическим действием, но официально не относится к наркоти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Мои рисунки\tn_gallery_2__67917.png"/>
          <p:cNvPicPr/>
          <p:nvPr/>
        </p:nvPicPr>
        <p:blipFill>
          <a:blip r:embed="rId2"/>
          <a:stretch/>
        </p:blipFill>
        <p:spPr>
          <a:xfrm>
            <a:off x="5786280" y="2693880"/>
            <a:ext cx="3138480" cy="399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школьные работы\классный час\для презентаций\chel36.gif"/>
          <p:cNvPicPr/>
          <p:nvPr/>
        </p:nvPicPr>
        <p:blipFill>
          <a:blip r:embed="rId3"/>
          <a:stretch/>
        </p:blipFill>
        <p:spPr>
          <a:xfrm>
            <a:off x="357120" y="3786120"/>
            <a:ext cx="4818240" cy="285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85840" y="100008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и употреблении спиртных напитков (пива, вина, водки, коньяка, джина, рома, ликера и др.) содержащийся в них алкоголь начинает всасываться в кровь уже в ротовой полости. Однако большая его часть всасывается в тонком кишечнике. Алкоголь влияет на все системы организма, прежде всего на мозг.  «Сжиганием» алкоголя «занимается» печень. У печени есть так называемая «разрешающая способность» – она  окисляет всего  6 – 8 г алкоголя в 1 ч (20 г водки или кружку пива), преобразуя его в чрезвычайно опасный яд – ацетальдегид, который, в сою очередь, в организме здоровых людей моментально преобразуется в слабую уксусную кислоту и выводятся из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2"/>
          <a:stretch/>
        </p:blipFill>
        <p:spPr>
          <a:xfrm>
            <a:off x="152280" y="92160"/>
            <a:ext cx="8736120" cy="80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28760" y="499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Алкогольное опьянение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– состояние, возникающее в результате приема алкоголя и накопления его в организме.  Накопление происходит в тех случаях, когда печень не справляется  с окислением этилового спирта до уксусной кислоты и в организме накапливается большое количество яда (ацетальдегид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пьяница"/>
          <p:cNvPicPr/>
          <p:nvPr/>
        </p:nvPicPr>
        <p:blipFill>
          <a:blip r:embed="rId2"/>
          <a:stretch/>
        </p:blipFill>
        <p:spPr>
          <a:xfrm>
            <a:off x="3214800" y="2957400"/>
            <a:ext cx="5676840" cy="367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6:24Z</dcterms:created>
  <dc:creator>жежик</dc:creator>
  <dc:description/>
  <dc:language>en-US</dc:language>
  <cp:lastModifiedBy>user</cp:lastModifiedBy>
  <dcterms:modified xsi:type="dcterms:W3CDTF">2013-09-12T11:45:30Z</dcterms:modified>
  <cp:revision>112</cp:revision>
  <dc:subject/>
  <dc:title>Слайд 1</dc:title>
</cp:coreProperties>
</file>