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.gif" ContentType="image/gif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2.png" ContentType="image/png"/>
  <Override PartName="/ppt/media/image31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5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E95-DCDB-4392-B805-6930074D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978-A765-423F-99C1-C09B6F9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19A-335C-4CB5-B9B4-7712C6FB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501-3C2C-4A03-9A07-15D59B0B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3BC8-FCCC-4353-BE33-C2FCA2FB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E5AC-69D4-4C58-B13B-FDF4508A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7132-2334-4E5D-B230-5C5210D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36B6-32A8-4826-B258-DF30B8A8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0E05-6871-4CD7-B929-7CB954E1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FB15-94DD-4E30-9E96-F1494E1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EDB-FD1B-415A-AD69-463D483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210-F5A5-4FE4-BAB9-1FBA7815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287B-C439-4821-AABD-A943FE3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B5AE-2836-4352-8CFE-60C2882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6594-E06C-4DB0-80BD-63D009A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3A38-1674-42E6-AE43-1C39B0E4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70A8-BC1A-4D3A-8F60-07C69C55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92721-6B04-4130-8B1A-69FF2062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16F24-BF08-4CF8-9137-C42FDFE1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600C4-4645-45DF-BB1A-1CA984C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2C70A-2BD7-481A-86C1-3D7B6F6E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FCCCF-1299-410B-B6D4-74C4804F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D50-F9E2-4D89-AA91-BF55F4EA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9BC82-1184-4878-9194-5ED9D24B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5E7EB-3C70-4DEE-BB66-B5A8645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4BF6C-0E19-4CA7-9527-65D4AAC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ECE0C-1999-4258-9682-9446823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33D56-982A-4014-9639-31884E8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FC5D6-9280-4D9A-A5DC-6E9D7F92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1CBE3-C71B-40AF-AF25-D2BF571D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364F-0446-4675-8049-C290E59C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4F37-7EB6-480B-A165-CAFFB788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2ACE-365D-4A23-A8E4-AC179AD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2DB-F11A-4C05-8C0B-1303261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5102-AEDC-439F-AA7E-8EA42766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9EB3-18CD-4B3C-AAA9-66234B7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A4FE-4A70-4E5D-B7D1-202D1BFB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C3AC-2F6F-403B-962B-8BA1B10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BDF0-B3CF-403D-AF34-91A2BBD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FBAE-9FD8-47B5-A932-63C3ADAA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88BE-9F5C-4F1C-A523-F1886AF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D985-0D22-4E21-9C7F-F78CF561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1B15-AE62-4364-AE1C-EB7105D5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7A2DD-5037-42F3-AB7E-31B9827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019-077E-4EF3-9A8B-C738C73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BB4CC-05E6-4431-92F9-4B64F55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D7164-820B-4252-BBFF-4225E91D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116CF-2909-4078-BA62-699EA21B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FAE12-3241-40B7-936C-7A112F8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FCB24-720B-4E2C-9F1F-8A67C03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102F3-2E15-48CD-8FCB-41DBE33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CA41D-5A93-4F8A-A81B-63139E5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29B0D-CFEF-4281-95C4-A5A638CB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5DED3-8FD7-4C73-97A8-33D3538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53A02-5EB7-400B-B1DB-F065F798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586-B302-43E9-9FAE-CA012740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2AB76-8F9E-45C6-8CFD-F73BFBEB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230E4-13CD-449F-BD26-F44AE068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03CE0-25E6-4B29-8444-7E035C92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77E31-9932-489A-A693-6AE75B63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4503C-0860-4664-914C-2E816DE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C83C1-F86B-43FF-924B-E91AA3E6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D909A-8831-49C5-9804-6B5A98B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85518-F0AC-4C9C-9BB9-6830B61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DA8B0-E362-4263-A44A-71734A7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D2667-A49A-4D18-BB28-D113E58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281-E730-4337-91CD-4AE5635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27FE3-663F-41B4-909E-A0ED0FF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52208-3BD7-475A-8E41-5B33042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5F5B2-E2B6-4935-9C13-6FCB1137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49E52-6632-4014-816E-2DD222D8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61BCE-E836-4FAA-967E-D6CD6D0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A94C2-35F6-4504-8299-9C8BE0C3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5E517-5B0C-4489-94C0-E31D6FEB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09D8C-0220-41AD-A17D-1D656AAA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15627-4473-45E9-8E5B-EFE95AA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24919-582A-42DD-8AE3-A84AEC1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B8C-973F-4A7F-97B5-B124A18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93176-0143-4D77-BD37-4493C36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39419-54F6-4DA7-80FC-36150E27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DD10D-C9EC-4CB3-B862-0CEB2758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8B4F7-510C-4C61-99D9-931E1550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FDD71-706D-4680-9A50-F0F40ECF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5D7-4393-4F3E-8874-B45A2EC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D93-1CB3-4AA6-AC53-924AC6927E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11D-83F5-4EC7-AC21-41883CC53B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926-431F-40D7-BD58-42293CD628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F9F-7C07-4F1F-8678-CC567185B7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873F-CD57-42CF-8EB9-DF3F15629D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E573-7DA1-4438-BBF7-0DC5529CD2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B11B-B107-4C52-9E0C-E3365465BE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640" y="9075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Bookman Old Style"/>
              </a:rPr>
              <a:t>ПРАКТИЧЕСКАЯ РАБОТА № 1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Bookman Old Style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Bookman Old Style"/>
              </a:rPr>
              <a:t>«ПРАВИЛА ТБ ПРИ РАБОТЕ В КАБИНЕТЕ ХИМИИ. ПРИЁМЫ ОБРАЩЕНИЯ С ЛАБОРАТОРНЫМ ОБОРУДОВАНИЕМ И НАГРЕВАТЕЛЬНЫМИ ПРИБОРАМ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Users\User\Desktop\презентация\37908682.jpg"/>
          <p:cNvPicPr/>
          <p:nvPr/>
        </p:nvPicPr>
        <p:blipFill>
          <a:blip r:embed="rId1"/>
          <a:stretch/>
        </p:blipFill>
        <p:spPr>
          <a:xfrm>
            <a:off x="4500720" y="1197000"/>
            <a:ext cx="3762360" cy="53150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"/>
          <p:cNvSpPr/>
          <p:nvPr/>
        </p:nvSpPr>
        <p:spPr>
          <a:xfrm>
            <a:off x="0" y="1967040"/>
            <a:ext cx="57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 кислоту не лей ты воду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А совсем наоборо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Тонкой струйкой подлива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Осторожненько меша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Лей в водичку кислоту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Так отвадишь ты бе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User\Desktop\презентация\0_a4ee8_172ceaea_XL.png"/>
          <p:cNvPicPr/>
          <p:nvPr/>
        </p:nvPicPr>
        <p:blipFill>
          <a:blip r:embed="rId1"/>
          <a:stretch/>
        </p:blipFill>
        <p:spPr>
          <a:xfrm>
            <a:off x="3419640" y="476280"/>
            <a:ext cx="4830480" cy="6127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"/>
          <p:cNvSpPr/>
          <p:nvPr/>
        </p:nvSpPr>
        <p:spPr>
          <a:xfrm>
            <a:off x="0" y="2667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С веществами неизвестны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е проводи смешивания неуместны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езнакомые растворы ты друг с другом не слива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е ссыпай в одну посуду, не мешай, не поджигай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1" descr="L01p2p10"/>
          <p:cNvPicPr/>
          <p:nvPr/>
        </p:nvPicPr>
        <p:blipFill>
          <a:blip r:embed="rId1"/>
          <a:srcRect l="9721" t="4211" r="0" b="0"/>
          <a:stretch/>
        </p:blipFill>
        <p:spPr>
          <a:xfrm>
            <a:off x="826920" y="1574640"/>
            <a:ext cx="6697800" cy="528336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1547640" y="62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Чтобы опыт  получился,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Пользуйся  посудой чистой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0" descr="L01p2p03"/>
          <p:cNvPicPr/>
          <p:nvPr/>
        </p:nvPicPr>
        <p:blipFill>
          <a:blip r:embed="rId1"/>
          <a:srcRect l="16881" t="0" r="8621" b="0"/>
          <a:stretch/>
        </p:blipFill>
        <p:spPr>
          <a:xfrm>
            <a:off x="3530520" y="1252440"/>
            <a:ext cx="5613480" cy="56055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0" y="1278000"/>
            <a:ext cx="48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Чай и вкусный бутерб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Очень просятся в твой ро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е обманывай себя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Есть и пить у нас нельзя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Это, друг, химкабинет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для еды условий не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896840" y="406440"/>
            <a:ext cx="528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Меры предосторожнос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C:\Users\User\Desktop\презентация\rasn.gif"/>
          <p:cNvPicPr/>
          <p:nvPr/>
        </p:nvPicPr>
        <p:blipFill>
          <a:blip r:embed="rId1"/>
          <a:stretch/>
        </p:blipFill>
        <p:spPr>
          <a:xfrm>
            <a:off x="5435640" y="333360"/>
            <a:ext cx="3336840" cy="62341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"/>
          <p:cNvSpPr/>
          <p:nvPr/>
        </p:nvSpPr>
        <p:spPr>
          <a:xfrm>
            <a:off x="179280" y="1854720"/>
            <a:ext cx="58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Мы работаем по пара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Чтобы не обдало жаро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Ты пробирку отвер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От соседа впере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сю сначала прогрева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Уголочком наклоня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А потом – сильнее та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Где есть место веществам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User\Desktop\презентация\p10_l01p2p09.jpg"/>
          <p:cNvPicPr/>
          <p:nvPr/>
        </p:nvPicPr>
        <p:blipFill>
          <a:blip r:embed="rId1"/>
          <a:srcRect l="12083" t="0" r="10904" b="0"/>
          <a:stretch/>
        </p:blipFill>
        <p:spPr>
          <a:xfrm>
            <a:off x="3490920" y="1352520"/>
            <a:ext cx="5653080" cy="55054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0" y="201240"/>
            <a:ext cx="57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Задавай себе вопрос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о не суй в пробирку нос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Будешь плакать и чихать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Слёзы градом пролив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Помаши рукой ты к носу –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от ответ на все вопросы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:\Users\User\Desktop\презентация\labsetup.jpg"/>
          <p:cNvPicPr/>
          <p:nvPr/>
        </p:nvPicPr>
        <p:blipFill>
          <a:blip r:embed="rId1"/>
          <a:stretch/>
        </p:blipFill>
        <p:spPr>
          <a:xfrm>
            <a:off x="250920" y="3357720"/>
            <a:ext cx="4714920" cy="3227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"/>
          <p:cNvSpPr/>
          <p:nvPr/>
        </p:nvSpPr>
        <p:spPr>
          <a:xfrm>
            <a:off x="1692360" y="315360"/>
            <a:ext cx="69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3d01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Собери прибор по схеме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се проверь на герметичность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Реактив найди по теме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Помни про  экономичнос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Жди команды, чтоб начать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у а после, чтоб убр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User\Desktop\презентация\item_4466.jpg"/>
          <p:cNvPicPr/>
          <p:nvPr/>
        </p:nvPicPr>
        <p:blipFill>
          <a:blip r:embed="rId1"/>
          <a:stretch/>
        </p:blipFill>
        <p:spPr>
          <a:xfrm>
            <a:off x="3635280" y="3141720"/>
            <a:ext cx="5087880" cy="3357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2"/>
          <p:cNvSpPr/>
          <p:nvPr/>
        </p:nvSpPr>
        <p:spPr>
          <a:xfrm>
            <a:off x="395280" y="18900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Это должен каждый знат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Спирт в спиртовке поджиг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Спичкой только можн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И очень осторож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1042920" y="1916280"/>
            <a:ext cx="53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Мы растворчик подогр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Вещества у нас вскипе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Надо пламя укроти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И спиртовочку закрыт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544680" y="1140480"/>
            <a:ext cx="430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Вдруг попал тебе на кож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Ядовитый химика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Срочно смой его водою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Не то будешь сам не рад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Если это кислот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Содой мы ее тогд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Ну а если это щелочь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Борной смоем кислот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С кожи выгоним долой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79280" y="306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Оказание перв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C:\Users\User\Desktop\презентация\5755-Mans-Pants-Burning-From-A-Cigarette-Clipart-Illustration.jpg"/>
          <p:cNvPicPr/>
          <p:nvPr/>
        </p:nvPicPr>
        <p:blipFill>
          <a:blip r:embed="rId1"/>
          <a:srcRect l="0" t="0" r="4287" b="0"/>
          <a:stretch/>
        </p:blipFill>
        <p:spPr>
          <a:xfrm>
            <a:off x="3995640" y="1628640"/>
            <a:ext cx="4577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3059280" y="981000"/>
            <a:ext cx="56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3d0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Вдруг твоя голова закружилас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Руки будто бы не тво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Если такое случилос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Учителю тут же скаж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Помощь  тебе  он окаж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Даст противоядье, раны смажет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Промоет желудок и даже глаз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Словом, не бросит в беде никог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C:\Users\User\Desktop\презентация\orig.jpg"/>
          <p:cNvPicPr/>
          <p:nvPr/>
        </p:nvPicPr>
        <p:blipFill>
          <a:blip r:embed="rId1"/>
          <a:srcRect l="0" t="0" r="0" b="11497"/>
          <a:stretch/>
        </p:blipFill>
        <p:spPr>
          <a:xfrm>
            <a:off x="179280" y="1268280"/>
            <a:ext cx="31003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ЦЕЛЬ: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ПОЗНАКОМИТЬСЯ   С  ПРАВИЛАМИ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      ТЕХНИКИ БЕЗОПАСНОСТИ ПРИ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      РАБОТЕ В КАБИНЕТЕ ХИМИИ,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      ЛАБОРАТОРНЫМ ОБОРУДОВАНИЕМ 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      И ПРИЁМАМИ ОБРАЩЕНИЯ С НИ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395280" y="189000"/>
            <a:ext cx="820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3d01"/>
                </a:solidFill>
                <a:latin typeface="Century Schoolbook"/>
              </a:rPr>
              <a:t>Несколько правил простых и несложных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3d01"/>
                </a:solidFill>
                <a:latin typeface="Century Schoolbook"/>
              </a:rPr>
              <a:t>Выжить помогут в школе возможно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3d01"/>
                </a:solidFill>
                <a:latin typeface="Century Schoolbook"/>
              </a:rPr>
              <a:t>Ты соблюдай их, мы знаем прекрасно-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3d01"/>
                </a:solidFill>
                <a:latin typeface="Century Schoolbook"/>
              </a:rPr>
              <a:t>Химия - здорово и безопасно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C:\Users\User\Desktop\презентация\intimnaja-zhizn.png"/>
          <p:cNvPicPr/>
          <p:nvPr/>
        </p:nvPicPr>
        <p:blipFill>
          <a:blip r:embed="rId1"/>
          <a:stretch/>
        </p:blipFill>
        <p:spPr>
          <a:xfrm>
            <a:off x="2340000" y="2205000"/>
            <a:ext cx="42480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075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ЧАСТЬ 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I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.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ПРИЁМЫ ОБРАЩЕНИЯ С ЛАБОРАТОРНЫМ ШТАТИВОМ</a:t>
            </a:r>
            <a:br>
              <a:rPr sz="3200"/>
            </a:b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Заголовок 3"/>
          <p:cNvSpPr/>
          <p:nvPr/>
        </p:nvSpPr>
        <p:spPr>
          <a:xfrm>
            <a:off x="684360" y="1557360"/>
            <a:ext cx="7848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ПОЗНАКОМИТЬСЯ С УСТРОЙСТВОМ ЛАБОРАТОРНОГО ШТАТИВА И ОТРАБОТАТЬ ПРИЁМЫ ОБРАЩЕНИЯ С НИ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rcRect l="0" t="3476" r="0" b="0"/>
          <a:stretch/>
        </p:blipFill>
        <p:spPr>
          <a:xfrm>
            <a:off x="611280" y="1197000"/>
            <a:ext cx="3097080" cy="54896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3"/>
          <p:cNvSpPr/>
          <p:nvPr/>
        </p:nvSpPr>
        <p:spPr>
          <a:xfrm>
            <a:off x="611280" y="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Century Schoolbook"/>
              </a:rPr>
              <a:t>        </a:t>
            </a:r>
            <a:r>
              <a:rPr b="1" lang="en-US" sz="1800" spc="-1" strike="noStrike">
                <a:solidFill>
                  <a:srgbClr val="9a3d01"/>
                </a:solidFill>
                <a:latin typeface="Century Schoolbook"/>
              </a:rPr>
              <a:t>ОБЩИЙ ВИ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3d01"/>
                </a:solidFill>
                <a:latin typeface="Century Schoolbook"/>
              </a:rPr>
              <a:t>лабораторного штатива                 ВИДЫ ЛАПОК И КОЛЕЦ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4356000" y="1197000"/>
            <a:ext cx="38163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rcRect l="0" t="13322" r="0" b="0"/>
          <a:stretch/>
        </p:blipFill>
        <p:spPr>
          <a:xfrm>
            <a:off x="250920" y="1125360"/>
            <a:ext cx="4465440" cy="3279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4278240" cy="3313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КРЕПЛЕНИЕ ЛАПКИ И КОЛЬЦА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rcRect l="0" t="8677" r="0" b="0"/>
          <a:stretch/>
        </p:blipFill>
        <p:spPr>
          <a:xfrm>
            <a:off x="1042920" y="1341360"/>
            <a:ext cx="6970680" cy="5011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КРЕПЛЕНИЕ ПРОБИРКИ В ЛАПК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Заголовок 3"/>
          <p:cNvSpPr/>
          <p:nvPr/>
        </p:nvSpPr>
        <p:spPr>
          <a:xfrm>
            <a:off x="457200" y="692280"/>
            <a:ext cx="8075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ЧАСТЬ </a:t>
            </a: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II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СПИРТОВКА И ПРИЁМЫ ОБРАЩЕНИЯ С НЕЙ. СТРОЕНИЕ ПЛАМЕНИ</a:t>
            </a:r>
            <a:br>
              <a:rPr sz="2500"/>
            </a:br>
            <a:br>
              <a:rPr sz="21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Заголовок 3"/>
          <p:cNvSpPr/>
          <p:nvPr/>
        </p:nvSpPr>
        <p:spPr>
          <a:xfrm>
            <a:off x="684360" y="2852640"/>
            <a:ext cx="77040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100" spc="-1" strike="noStrike">
                <a:solidFill>
                  <a:srgbClr val="575f6d"/>
                </a:solidFill>
                <a:latin typeface="Century Schoolbook"/>
              </a:rPr>
              <a:t>ЦЕЛИ: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познакомиться с устройством спиртовки, отработать приёмы и правила обращения с ней;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изучить строение пламени спиртовки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569440" cy="5400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УСТРОЙСТВО СПИРТОВК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rcRect l="0" t="16684" r="0" b="0"/>
          <a:stretch/>
        </p:blipFill>
        <p:spPr>
          <a:xfrm>
            <a:off x="539640" y="1341360"/>
            <a:ext cx="7777440" cy="4329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ЗАЖИГАНИЕ СПИРТОВК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ТУШЕНИЕ СПИРТОВК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0" t="19356" r="0" b="0"/>
          <a:stretch/>
        </p:blipFill>
        <p:spPr>
          <a:xfrm>
            <a:off x="1187280" y="1270080"/>
            <a:ext cx="6840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СТРОЕНИЕ ПЛАМЕН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rcRect l="1038" t="14402" r="66908" b="0"/>
          <a:stretch/>
        </p:blipFill>
        <p:spPr>
          <a:xfrm>
            <a:off x="1042920" y="1484280"/>
            <a:ext cx="5041800" cy="4192560"/>
          </a:xfrm>
          <a:prstGeom prst="rect">
            <a:avLst/>
          </a:prstGeom>
          <a:ln w="0">
            <a:noFill/>
          </a:ln>
        </p:spPr>
      </p:pic>
      <p:sp>
        <p:nvSpPr>
          <p:cNvPr id="414" name="Скругленный прямоугольник 3"/>
          <p:cNvSpPr/>
          <p:nvPr/>
        </p:nvSpPr>
        <p:spPr>
          <a:xfrm>
            <a:off x="6372360" y="1700280"/>
            <a:ext cx="69840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3d01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кругленный прямоугольник 4"/>
          <p:cNvSpPr/>
          <p:nvPr/>
        </p:nvSpPr>
        <p:spPr>
          <a:xfrm>
            <a:off x="6372360" y="2781360"/>
            <a:ext cx="69840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Скругленный прямоугольник 5"/>
          <p:cNvSpPr/>
          <p:nvPr/>
        </p:nvSpPr>
        <p:spPr>
          <a:xfrm>
            <a:off x="6372360" y="3789360"/>
            <a:ext cx="69840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564000" y="189000"/>
            <a:ext cx="55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нает каждый ученик -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Баловству здесь путь закрыт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равила тут соблюдают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доровье берегут и сохраняют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8496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ПРАВИЛА ТЕХНИКИ БЕЗОПАСНОСТИ ПРИ РАБОТЕ В КАБИНЕТЕ ХИМ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3" descr="враъения"/>
          <p:cNvPicPr/>
          <p:nvPr/>
        </p:nvPicPr>
        <p:blipFill>
          <a:blip r:embed="rId1"/>
          <a:stretch/>
        </p:blipFill>
        <p:spPr>
          <a:xfrm>
            <a:off x="5508720" y="3716280"/>
            <a:ext cx="32605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Заголовок 3"/>
          <p:cNvSpPr/>
          <p:nvPr/>
        </p:nvSpPr>
        <p:spPr>
          <a:xfrm>
            <a:off x="250920" y="1052640"/>
            <a:ext cx="849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ЧАСТЬ 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ЛАБОРАТОРНОЕ ОБОРУДОВАНИЕ И ОСНОВНЫЕ ПРИЁМЫ ОБРАЩЕНИЯ С НИМ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Заголовок 3"/>
          <p:cNvSpPr/>
          <p:nvPr/>
        </p:nvSpPr>
        <p:spPr>
          <a:xfrm>
            <a:off x="611280" y="335772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ЦЕЛЬ: </a:t>
            </a: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познакомиться с лабораторным оборудованием и отработать приёмы обращения с ним</a:t>
            </a:r>
            <a:r>
              <a:rPr b="0" lang="en-US" sz="35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ПРОБИРК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ХИМИЧЕСКИЕ СТАКАНЫ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КОЛБЫ ПЛОСКОДОННЫЕ И КРУГЛОДОННЫ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23720" y="2133720"/>
            <a:ext cx="4077000" cy="381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4859280" y="2189160"/>
            <a:ext cx="32418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ВОРОН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69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ФИЛЬТРОВАНИ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Picture 2" descr="C:\Users\1\Desktop\20121115\К уроку5.bmp"/>
          <p:cNvPicPr/>
          <p:nvPr/>
        </p:nvPicPr>
        <p:blipFill>
          <a:blip r:embed="rId1"/>
          <a:stretch/>
        </p:blipFill>
        <p:spPr>
          <a:xfrm>
            <a:off x="2484360" y="1158840"/>
            <a:ext cx="3600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СТЕКЛЯННАЯ ПАЛОЧ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850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ШПАТЕЛЬ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95280" y="1233360"/>
            <a:ext cx="763272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1\Desktop\20121115\К уроку8.bmp"/>
          <p:cNvPicPr/>
          <p:nvPr/>
        </p:nvPicPr>
        <p:blipFill>
          <a:blip r:embed="rId1"/>
          <a:srcRect l="0" t="0" r="52822" b="8235"/>
          <a:stretch/>
        </p:blipFill>
        <p:spPr>
          <a:xfrm>
            <a:off x="755640" y="620640"/>
            <a:ext cx="5643720" cy="2303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C:\Users\1\Desktop\20121115\К уроку8.bmp"/>
          <p:cNvPicPr/>
          <p:nvPr/>
        </p:nvPicPr>
        <p:blipFill>
          <a:blip r:embed="rId2"/>
          <a:srcRect l="49650" t="0" r="0" b="8235"/>
          <a:stretch/>
        </p:blipFill>
        <p:spPr>
          <a:xfrm>
            <a:off x="2195640" y="3933720"/>
            <a:ext cx="5833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ПРОБИРКОДЕРЖАТЕЛЬ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833400" y="1484280"/>
            <a:ext cx="73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L01p2p00"/>
          <p:cNvPicPr/>
          <p:nvPr/>
        </p:nvPicPr>
        <p:blipFill>
          <a:blip r:embed="rId1"/>
          <a:srcRect l="10278" t="3768" r="2398" b="4457"/>
          <a:stretch/>
        </p:blipFill>
        <p:spPr>
          <a:xfrm>
            <a:off x="3419640" y="2421000"/>
            <a:ext cx="5329080" cy="42004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4"/>
          <p:cNvSpPr/>
          <p:nvPr/>
        </p:nvSpPr>
        <p:spPr>
          <a:xfrm>
            <a:off x="468360" y="476280"/>
            <a:ext cx="59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바탕"/>
              </a:rPr>
              <a:t>Помни, каждый ученик, 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바탕"/>
              </a:rPr>
              <a:t>Знай, любая кроха: 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바탕"/>
              </a:rPr>
              <a:t>Безопасность — хорошо, 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바탕"/>
              </a:rPr>
              <a:t>А халатность — плохо!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ТИГЕЛЬНЫЕ ЩИПЦЫ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019160" y="1160640"/>
            <a:ext cx="7008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ФАРФОРОВАЯ ЧАШ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32000" y="1395360"/>
            <a:ext cx="67150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ТИГЕЛЬ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042920" y="1324080"/>
            <a:ext cx="68533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ЛОЖЕЧКА ДЛЯ СЖИГ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3876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ФАРФОРОВАЯ СТУПКА С ПЕСТИКОМ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1042920" y="1263600"/>
            <a:ext cx="69850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МЕРНЫЙ ЦИЛИНДР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553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АРЕОМЕТР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05636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ТЕРМОМЕТР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62472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ДЕЛИТЕЛЬНАЯ ВОРОН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ХИМИЧЕСКАЯ ПИПЕТ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7392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L01p2p07"/>
          <p:cNvPicPr/>
          <p:nvPr/>
        </p:nvPicPr>
        <p:blipFill>
          <a:blip r:embed="rId1"/>
          <a:srcRect l="8338" t="0" r="2377" b="0"/>
          <a:stretch/>
        </p:blipFill>
        <p:spPr>
          <a:xfrm>
            <a:off x="3348000" y="1916280"/>
            <a:ext cx="5400720" cy="47037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2"/>
          <p:cNvSpPr/>
          <p:nvPr/>
        </p:nvSpPr>
        <p:spPr>
          <a:xfrm>
            <a:off x="324000" y="981000"/>
            <a:ext cx="56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Не спеши хватать пробирку, 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А инструкцию читай. 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Убедись, что ты все понял, 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Вот тогда и начинай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0920" y="33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Общие правила работ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ШТАТИВ ДЛЯ ПРОБИРОК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0104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МЕРНАЯ КОЛБ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1" name="Picture 6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4574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ЧАШКА ПЕТР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12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748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8425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a3d01"/>
                </a:solidFill>
                <a:latin typeface="Century Schoolbook"/>
              </a:rPr>
              <a:t>СДЕЛАЙТЕ ОБЩИЙ ВЫВОД ПО ПРОДЕЛАННОЙ РАБОТЕ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a3d01"/>
                </a:solidFill>
                <a:latin typeface="Century Schoolbook"/>
              </a:rPr>
              <a:t>ПРИВЕДИТЕ РАБОЧЕЕ МЕСТО В ПОРЯДОК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468360" y="404640"/>
            <a:ext cx="719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Прежде чем начать работать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Парту надо расчищать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А не то учебник буде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Под рукой тебе меша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Не забудь убрать с проход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Ты портфель свой и пакет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Так как в случае пожара 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</a:rPr>
              <a:t>У тебя дороги нет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C:\Users\User\Desktop\презентация\ecole_004.gif"/>
          <p:cNvPicPr/>
          <p:nvPr/>
        </p:nvPicPr>
        <p:blipFill>
          <a:blip r:embed="rId1"/>
          <a:stretch/>
        </p:blipFill>
        <p:spPr>
          <a:xfrm>
            <a:off x="4140360" y="2565360"/>
            <a:ext cx="4557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User\Desktop\презентация\1221463793_0lik.ru_otr_02.jpg"/>
          <p:cNvPicPr/>
          <p:nvPr/>
        </p:nvPicPr>
        <p:blipFill>
          <a:blip r:embed="rId1"/>
          <a:stretch/>
        </p:blipFill>
        <p:spPr>
          <a:xfrm>
            <a:off x="0" y="1628640"/>
            <a:ext cx="4286160" cy="52293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203640" y="176760"/>
            <a:ext cx="61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ыносить нельзя в карман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икакие веществ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А не то в карманах буде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Преогромная дыр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И вносить, конечно, тож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ичего сюда нельзя –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друг случится  на урок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Неожиданно бед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L01p2p01"/>
          <p:cNvPicPr/>
          <p:nvPr/>
        </p:nvPicPr>
        <p:blipFill>
          <a:blip r:embed="rId1"/>
          <a:srcRect l="13790" t="0" r="2304" b="0"/>
          <a:stretch/>
        </p:blipFill>
        <p:spPr>
          <a:xfrm>
            <a:off x="2484360" y="2228760"/>
            <a:ext cx="5543640" cy="46292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539640" y="19800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Обращение с веществами-реактив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Вещества бывают разны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Едкие и взрывоопас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Бывает, что они сами воспламеняю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А есть, такие, которыми отравляю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7" descr="L01p2p11"/>
          <p:cNvPicPr/>
          <p:nvPr/>
        </p:nvPicPr>
        <p:blipFill>
          <a:blip r:embed="rId1"/>
          <a:srcRect l="1120" t="0" r="0" b="0"/>
          <a:stretch/>
        </p:blipFill>
        <p:spPr>
          <a:xfrm>
            <a:off x="1187280" y="2060640"/>
            <a:ext cx="6375600" cy="47973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"/>
          <p:cNvSpPr/>
          <p:nvPr/>
        </p:nvSpPr>
        <p:spPr>
          <a:xfrm>
            <a:off x="468360" y="558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При работе с веществами не берите их ру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И не пробуйте на вкус, реактивы не арбуз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Слезет кожа с языка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</a:rPr>
              <a:t> и</a:t>
            </a:r>
            <a:r>
              <a:rPr b="1" lang="en-US" sz="2400" spc="-1" strike="noStrike">
                <a:solidFill>
                  <a:srgbClr val="9a3d01"/>
                </a:solidFill>
                <a:latin typeface="Century Schoolbook"/>
                <a:ea typeface="Times New Roman"/>
              </a:rPr>
              <a:t> отвалится ру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7:53:28Z</dcterms:created>
  <dc:creator>Лисецкая</dc:creator>
  <dc:description/>
  <dc:language>en-US</dc:language>
  <cp:lastModifiedBy>Лисецкая</cp:lastModifiedBy>
  <dcterms:modified xsi:type="dcterms:W3CDTF">2012-11-15T20:58:34Z</dcterms:modified>
  <cp:revision>93</cp:revision>
  <dc:subject/>
  <dc:title>Слайд 1</dc:title>
</cp:coreProperties>
</file>