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F75D-3542-48D6-8D4C-B7C929E0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1A41-2F6A-44E2-8C29-90CC44EB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8D75-44FF-443D-88A8-94106989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0489-3E5A-438D-BF88-3E1FE0417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775F-D39E-442E-8FF0-9A481350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E753-0A6E-40AD-B6ED-B5C8440E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85F5-E461-4129-96A0-597CA004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E8B2-8AE2-445B-9CFD-035F771B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170B-6D6D-425C-B05E-F71D79B3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7153-D624-4839-A18E-2C85E83A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696A-03DD-483E-80A5-74C6E0C4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197A-2A82-4306-B30C-C11A286B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AD81-C684-408A-BCEA-2B6FD8B5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1FD3-1BC7-4C9B-80E5-1111788E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0E42-701F-4E6D-B5B3-730F7557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644D-426C-4418-8EB9-5B6698764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8E48-7DD3-447A-BBD0-CE924560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13E52-C62C-4EF1-B3C4-2CBD5322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E8051-284B-4CF6-B00C-5130B7B7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1CC07-7F7E-4167-AFF6-6B7A6F38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060F6-ADC6-4D54-B917-52474E47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CE459-7A66-4324-8895-4BB3D9B5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4BF-DE2D-4AAD-93CC-5FA7E166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4832B-6C3A-444F-9FAD-C55C2F85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28208-DEB7-453B-8641-1C351B76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14486-19DF-4B6A-8CBA-2538827E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43E48-72AA-42AB-9E70-382F4424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C5D63-74CE-48F2-A042-10EFBE7A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10DB3-B0D0-4E37-A5AB-44BCFA65B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A2F4F-6AF5-4B80-8B1F-F123A000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37DEB-FA70-47F6-A86F-FC4E1678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AA2C3-4F3A-429E-8F4F-5B0220FD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C2FFC-E55C-4D58-A3A9-AB29F317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7DAD-CB52-47B2-ABF8-F66D4096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C3074-D181-4570-8703-4C39DA47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3BD2B-A7CF-4F0A-AD12-2046DC55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CBB03-6C9E-47C1-B94E-41BBDBBC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B3A13-5BD0-4B6D-B24C-AD7CF03D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0FF99-3FB1-4404-ADD4-58293230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92331-3798-4463-BDA4-A9128E39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F0648-B962-4C4E-A5A4-6C0371FF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41ECD-8A85-4547-8700-79CD8108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BBF31-BDAA-40C8-9F92-19F32ADD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EB71-C7A6-4656-8A27-CA4BC0E7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30A-DA66-4975-B421-54D02D26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15F2-A118-4FC4-9C18-3182355C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38EA-043D-4335-B197-655C72FE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5493-D195-4387-BCF2-315F118D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D6D4-0F6A-495A-A063-FAF4BFBDCD8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763B-44C1-4E8D-9ED3-6FDC4D5B52A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AEC3-E41B-4407-A72C-B309C0A8080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6EEC-DF5C-47DA-86DC-3EEBB05D10E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3168360" cy="421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1692360" y="692280"/>
          <a:ext cx="6095880" cy="1189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униципальное бюджетное общеобразовательное учре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етрозаводского городского округ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"Средняя общеобразовательная школа №2 "Источник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643280" y="3213000"/>
          <a:ext cx="4500720" cy="63972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оманова Оксана Владимировн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лассный руководитель 7 "А" кл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140360" y="6237360"/>
          <a:ext cx="792000" cy="365040"/>
        </p:xfrm>
        <a:graphic>
          <a:graphicData uri="http://schemas.openxmlformats.org/drawingml/2006/table">
            <a:tbl>
              <a:tblPr/>
              <a:tblGrid>
                <a:gridCol w="792000"/>
              </a:tblGrid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50920" y="1268280"/>
          <a:ext cx="6095880" cy="487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 Что такое гражданские навыки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250920" y="2492280"/>
          <a:ext cx="8353440" cy="88416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 В какой степени эти навыки сформированы в каждом из нас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250920" y="4292640"/>
          <a:ext cx="8066160" cy="884160"/>
        </p:xfrm>
        <a:graphic>
          <a:graphicData uri="http://schemas.openxmlformats.org/drawingml/2006/table">
            <a:tbl>
              <a:tblPr/>
              <a:tblGrid>
                <a:gridCol w="8066160"/>
              </a:tblGrid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 Формирование каких навыков помогут нам стать гражданами России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1332000" y="69228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Лист самодиагностик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Карточка для индивидуальной работы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«7 гражданских навыков во мне»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8" name="Group 4"/>
          <p:cNvGrpSpPr/>
          <p:nvPr/>
        </p:nvGrpSpPr>
        <p:grpSpPr>
          <a:xfrm>
            <a:off x="971640" y="1844640"/>
            <a:ext cx="7129440" cy="1728720"/>
            <a:chOff x="971640" y="1844640"/>
            <a:chExt cx="7129440" cy="1728720"/>
          </a:xfrm>
        </p:grpSpPr>
        <p:sp>
          <p:nvSpPr>
            <p:cNvPr id="249" name="Oval 5"/>
            <p:cNvSpPr/>
            <p:nvPr/>
          </p:nvSpPr>
          <p:spPr>
            <a:xfrm>
              <a:off x="2648520" y="1844640"/>
              <a:ext cx="1680120" cy="172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0" name="Oval 6"/>
            <p:cNvSpPr/>
            <p:nvPr/>
          </p:nvSpPr>
          <p:spPr>
            <a:xfrm>
              <a:off x="971640" y="2014560"/>
              <a:ext cx="1395720" cy="155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1" name="Oval 7"/>
            <p:cNvSpPr/>
            <p:nvPr/>
          </p:nvSpPr>
          <p:spPr>
            <a:xfrm>
              <a:off x="6561720" y="2017800"/>
              <a:ext cx="1539360" cy="1555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2" name="WordArt 8"/>
            <p:cNvSpPr txBox="1"/>
            <p:nvPr/>
          </p:nvSpPr>
          <p:spPr>
            <a:xfrm>
              <a:off x="1111320" y="2274480"/>
              <a:ext cx="1113840" cy="424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1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ила воли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53" name="WordArt 9"/>
            <p:cNvSpPr txBox="1"/>
            <p:nvPr/>
          </p:nvSpPr>
          <p:spPr>
            <a:xfrm>
              <a:off x="6980760" y="2361240"/>
              <a:ext cx="803520" cy="2836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1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уважение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54" name="Oval 10"/>
            <p:cNvSpPr/>
            <p:nvPr/>
          </p:nvSpPr>
          <p:spPr>
            <a:xfrm>
              <a:off x="4604760" y="1844640"/>
              <a:ext cx="1539360" cy="172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5" name="WordArt 11"/>
            <p:cNvSpPr txBox="1"/>
            <p:nvPr/>
          </p:nvSpPr>
          <p:spPr>
            <a:xfrm>
              <a:off x="2772720" y="2109960"/>
              <a:ext cx="1552680" cy="8571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амосовершенствование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56" name="WordArt 12"/>
            <p:cNvSpPr txBox="1"/>
            <p:nvPr/>
          </p:nvSpPr>
          <p:spPr>
            <a:xfrm>
              <a:off x="4744800" y="2193840"/>
              <a:ext cx="1397520" cy="600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1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уравновешенность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57" name="Group 13"/>
          <p:cNvGrpSpPr/>
          <p:nvPr/>
        </p:nvGrpSpPr>
        <p:grpSpPr>
          <a:xfrm>
            <a:off x="1403280" y="3933720"/>
            <a:ext cx="5907240" cy="1726920"/>
            <a:chOff x="1403280" y="3933720"/>
            <a:chExt cx="5907240" cy="1726920"/>
          </a:xfrm>
        </p:grpSpPr>
        <p:sp>
          <p:nvSpPr>
            <p:cNvPr id="258" name="Oval 14"/>
            <p:cNvSpPr/>
            <p:nvPr/>
          </p:nvSpPr>
          <p:spPr>
            <a:xfrm>
              <a:off x="1403280" y="4024440"/>
              <a:ext cx="1440000" cy="1636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9" name="Oval 15"/>
            <p:cNvSpPr/>
            <p:nvPr/>
          </p:nvSpPr>
          <p:spPr>
            <a:xfrm>
              <a:off x="3710160" y="3933720"/>
              <a:ext cx="1440000" cy="1636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0" name="Oval 16"/>
            <p:cNvSpPr/>
            <p:nvPr/>
          </p:nvSpPr>
          <p:spPr>
            <a:xfrm>
              <a:off x="5728680" y="3933720"/>
              <a:ext cx="1581840" cy="163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1" name="WordArt 17"/>
            <p:cNvSpPr txBox="1"/>
            <p:nvPr/>
          </p:nvSpPr>
          <p:spPr>
            <a:xfrm>
              <a:off x="1403280" y="4388400"/>
              <a:ext cx="1389600" cy="891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отрудничество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62" name="WordArt 18"/>
            <p:cNvSpPr txBox="1"/>
            <p:nvPr/>
          </p:nvSpPr>
          <p:spPr>
            <a:xfrm>
              <a:off x="3998160" y="4206600"/>
              <a:ext cx="804960" cy="180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2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терпение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63" name="WordArt 19"/>
            <p:cNvSpPr txBox="1"/>
            <p:nvPr/>
          </p:nvSpPr>
          <p:spPr>
            <a:xfrm>
              <a:off x="5872680" y="4206600"/>
              <a:ext cx="1293480" cy="5486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1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праведливость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264" name="FDUVAL_BALLADE_POUR_ADE.MP3" descr=""/>
          <p:cNvPicPr/>
          <p:nvPr/>
        </p:nvPicPr>
        <p:blipFill>
          <a:blip r:embed="rId1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58525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Отчего так в России берёзы шумят .mp4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136000" cy="60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Какой я?</a:t>
            </a:r>
            <a:br>
              <a:rPr sz="4000"/>
            </a:b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Какая я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 rot="412800">
            <a:off x="3946320" y="1115640"/>
            <a:ext cx="37083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Отчего так в России берёзы шумят .mp4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395280" y="1052640"/>
          <a:ext cx="2544840" cy="487080"/>
        </p:xfrm>
        <a:graphic>
          <a:graphicData uri="http://schemas.openxmlformats.org/drawingml/2006/table">
            <a:tbl>
              <a:tblPr/>
              <a:tblGrid>
                <a:gridCol w="254484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ИЛОЛОГ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940360" y="981000"/>
          <a:ext cx="2759040" cy="531720"/>
        </p:xfrm>
        <a:graphic>
          <a:graphicData uri="http://schemas.openxmlformats.org/drawingml/2006/table">
            <a:tbl>
              <a:tblPr/>
              <a:tblGrid>
                <a:gridCol w="2759040"/>
              </a:tblGrid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ЖУРНАЛИСТ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250920" y="6021360"/>
          <a:ext cx="2473200" cy="487440"/>
        </p:xfrm>
        <a:graphic>
          <a:graphicData uri="http://schemas.openxmlformats.org/drawingml/2006/table">
            <a:tbl>
              <a:tblPr/>
              <a:tblGrid>
                <a:gridCol w="247320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ИЗАЙНЕР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6443640" y="6021360"/>
          <a:ext cx="2471760" cy="487440"/>
        </p:xfrm>
        <a:graphic>
          <a:graphicData uri="http://schemas.openxmlformats.org/drawingml/2006/table">
            <a:tbl>
              <a:tblPr/>
              <a:tblGrid>
                <a:gridCol w="247176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ОЛИТОЛОГ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8" name="Picture 1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904000" cy="4429080"/>
          </a:xfrm>
          <a:prstGeom prst="rect">
            <a:avLst/>
          </a:prstGeom>
          <a:ln w="0">
            <a:noFill/>
          </a:ln>
        </p:spPr>
      </p:pic>
      <p:pic>
        <p:nvPicPr>
          <p:cNvPr id="209" name="FDUVAL_BALLADE_POUR_ADE.MP3" descr=""/>
          <p:cNvPicPr/>
          <p:nvPr/>
        </p:nvPicPr>
        <p:blipFill>
          <a:blip r:embed="rId2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8525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Правила работы в группах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Правило активности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. В групповой работе участвуют вс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Правило искренности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. Каждый участник искренен, что способствует установлению доверительных отношений в групп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Правило равноценности</a:t>
            </a:r>
            <a:r>
              <a:rPr b="0" i="1" lang="ru-RU" sz="2600" spc="-1" strike="noStrike">
                <a:solidFill>
                  <a:srgbClr val="002060"/>
                </a:solidFill>
                <a:latin typeface="Constantia"/>
              </a:rPr>
              <a:t>.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В группе все равны. В ней нет статусных различ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Правило "здесь и теперь"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.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Обсуждению в группе подлежит только то, что происходит непосредственно в ходе занят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2" descr=""/>
          <p:cNvPicPr/>
          <p:nvPr/>
        </p:nvPicPr>
        <p:blipFill>
          <a:blip r:embed="rId1"/>
          <a:stretch/>
        </p:blipFill>
        <p:spPr>
          <a:xfrm>
            <a:off x="463680" y="523800"/>
            <a:ext cx="8315280" cy="146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395280" y="1628640"/>
          <a:ext cx="2687760" cy="487440"/>
        </p:xfrm>
        <a:graphic>
          <a:graphicData uri="http://schemas.openxmlformats.org/drawingml/2006/table">
            <a:tbl>
              <a:tblPr/>
              <a:tblGrid>
                <a:gridCol w="268776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отрудничеств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68360" y="2781360"/>
          <a:ext cx="1822320" cy="487440"/>
        </p:xfrm>
        <a:graphic>
          <a:graphicData uri="http://schemas.openxmlformats.org/drawingml/2006/table">
            <a:tbl>
              <a:tblPr/>
              <a:tblGrid>
                <a:gridCol w="182232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Терпе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539640" y="4005360"/>
          <a:ext cx="2664000" cy="487440"/>
        </p:xfrm>
        <a:graphic>
          <a:graphicData uri="http://schemas.openxmlformats.org/drawingml/2006/table">
            <a:tbl>
              <a:tblPr/>
              <a:tblGrid>
                <a:gridCol w="266400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праведлив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5292720" y="4005360"/>
          <a:ext cx="3311640" cy="487440"/>
        </p:xfrm>
        <a:graphic>
          <a:graphicData uri="http://schemas.openxmlformats.org/drawingml/2006/table">
            <a:tbl>
              <a:tblPr/>
              <a:tblGrid>
                <a:gridCol w="331164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Уравновешенн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5219640" y="2852640"/>
          <a:ext cx="1895400" cy="487440"/>
        </p:xfrm>
        <a:graphic>
          <a:graphicData uri="http://schemas.openxmlformats.org/drawingml/2006/table">
            <a:tbl>
              <a:tblPr/>
              <a:tblGrid>
                <a:gridCol w="189540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Уваже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5219640" y="1628640"/>
          <a:ext cx="2255760" cy="487440"/>
        </p:xfrm>
        <a:graphic>
          <a:graphicData uri="http://schemas.openxmlformats.org/drawingml/2006/table">
            <a:tbl>
              <a:tblPr/>
              <a:tblGrid>
                <a:gridCol w="225576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ила вол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411280" y="5300640"/>
          <a:ext cx="4105440" cy="488880"/>
        </p:xfrm>
        <a:graphic>
          <a:graphicData uri="http://schemas.openxmlformats.org/drawingml/2006/table">
            <a:tbl>
              <a:tblPr/>
              <a:tblGrid>
                <a:gridCol w="410544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амосовершенствова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158760" y="596880"/>
            <a:ext cx="8620200" cy="146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250920" y="2060640"/>
          <a:ext cx="8497800" cy="48744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 Актуальна ли тема сегодня - в год Российской истории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324000" y="2924280"/>
          <a:ext cx="6095880" cy="4888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 Что такое гражданские навыки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24000" y="3716280"/>
          <a:ext cx="8208720" cy="884160"/>
        </p:xfrm>
        <a:graphic>
          <a:graphicData uri="http://schemas.openxmlformats.org/drawingml/2006/table">
            <a:tbl>
              <a:tblPr/>
              <a:tblGrid>
                <a:gridCol w="8208720"/>
              </a:tblGrid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 В какой степени эти навыки сформированы в каждом из нас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31840" y="341280"/>
            <a:ext cx="8620200" cy="214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395280" y="2060640"/>
          <a:ext cx="8280360" cy="936720"/>
        </p:xfrm>
        <a:graphic>
          <a:graphicData uri="http://schemas.openxmlformats.org/drawingml/2006/table">
            <a:tbl>
              <a:tblPr/>
              <a:tblGrid>
                <a:gridCol w="8280360"/>
              </a:tblGrid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. Филологи</a:t>
                      </a:r>
                      <a:r>
                        <a:rPr b="1" lang="ru-RU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 словарь терминов (работа с ресурсами сети Интернет);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68360" y="3141720"/>
          <a:ext cx="7991280" cy="882720"/>
        </p:xfrm>
        <a:graphic>
          <a:graphicData uri="http://schemas.openxmlformats.org/drawingml/2006/table">
            <a:tbl>
              <a:tblPr/>
              <a:tblGrid>
                <a:gridCol w="7991280"/>
              </a:tblGrid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. Журналисты - аналитическая карта "Я - гражданин России"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468360" y="4292640"/>
          <a:ext cx="8136000" cy="88416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. Дизайнеры - тематический коллаж "Активный гражданин"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468360" y="5589720"/>
          <a:ext cx="8207280" cy="88416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. Политологи - памятка "7 навыков гражданина" (работа с ИД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9" name="богини.mp3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26039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324000" y="1125360"/>
          <a:ext cx="3263760" cy="425520"/>
        </p:xfrm>
        <a:graphic>
          <a:graphicData uri="http://schemas.openxmlformats.org/drawingml/2006/table">
            <a:tbl>
              <a:tblPr/>
              <a:tblGrid>
                <a:gridCol w="326376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Самосовершенствов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50920" y="692280"/>
          <a:ext cx="1608120" cy="426960"/>
        </p:xfrm>
        <a:graphic>
          <a:graphicData uri="http://schemas.openxmlformats.org/drawingml/2006/table">
            <a:tbl>
              <a:tblPr/>
              <a:tblGrid>
                <a:gridCol w="160812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Сила вол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3492360" y="1125360"/>
          <a:ext cx="2327400" cy="425520"/>
        </p:xfrm>
        <a:graphic>
          <a:graphicData uri="http://schemas.openxmlformats.org/drawingml/2006/table">
            <a:tbl>
              <a:tblPr/>
              <a:tblGrid>
                <a:gridCol w="232740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Сотрудничеств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3492360" y="620640"/>
          <a:ext cx="2398680" cy="426960"/>
        </p:xfrm>
        <a:graphic>
          <a:graphicData uri="http://schemas.openxmlformats.org/drawingml/2006/table">
            <a:tbl>
              <a:tblPr/>
              <a:tblGrid>
                <a:gridCol w="239868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Справедлив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492360" y="1557360"/>
          <a:ext cx="2471760" cy="425520"/>
        </p:xfrm>
        <a:graphic>
          <a:graphicData uri="http://schemas.openxmlformats.org/drawingml/2006/table">
            <a:tbl>
              <a:tblPr/>
              <a:tblGrid>
                <a:gridCol w="247176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Уравновешен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012000" y="1052640"/>
          <a:ext cx="1679400" cy="426960"/>
        </p:xfrm>
        <a:graphic>
          <a:graphicData uri="http://schemas.openxmlformats.org/drawingml/2006/table">
            <a:tbl>
              <a:tblPr/>
              <a:tblGrid>
                <a:gridCol w="167940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Терп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6012000" y="692280"/>
          <a:ext cx="1608120" cy="426960"/>
        </p:xfrm>
        <a:graphic>
          <a:graphicData uri="http://schemas.openxmlformats.org/drawingml/2006/table">
            <a:tbl>
              <a:tblPr/>
              <a:tblGrid>
                <a:gridCol w="160812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Уваж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50920" y="2133720"/>
          <a:ext cx="5184720" cy="1096920"/>
        </p:xfrm>
        <a:graphic>
          <a:graphicData uri="http://schemas.openxmlformats.org/drawingml/2006/table">
            <a:tbl>
              <a:tblPr/>
              <a:tblGrid>
                <a:gridCol w="5184720"/>
              </a:tblGrid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 это почтительное отношение, основанное на признании чьих-то недостатк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50920" y="3284640"/>
          <a:ext cx="4321080" cy="761760"/>
        </p:xfrm>
        <a:graphic>
          <a:graphicData uri="http://schemas.openxmlformats.org/drawingml/2006/table">
            <a:tbl>
              <a:tblPr/>
              <a:tblGrid>
                <a:gridCol w="432108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 терпимость к другому мнению, образу жизн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250920" y="4292640"/>
          <a:ext cx="4489200" cy="426960"/>
        </p:xfrm>
        <a:graphic>
          <a:graphicData uri="http://schemas.openxmlformats.org/drawingml/2006/table">
            <a:tbl>
              <a:tblPr/>
              <a:tblGrid>
                <a:gridCol w="448920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 это путь устранения разноглас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250920" y="4941720"/>
          <a:ext cx="4249800" cy="425520"/>
        </p:xfrm>
        <a:graphic>
          <a:graphicData uri="http://schemas.openxmlformats.org/drawingml/2006/table">
            <a:tbl>
              <a:tblPr/>
              <a:tblGrid>
                <a:gridCol w="424980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 это стремление стать лучш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5003640" y="2133720"/>
          <a:ext cx="4140360" cy="1096920"/>
        </p:xfrm>
        <a:graphic>
          <a:graphicData uri="http://schemas.openxmlformats.org/drawingml/2006/table">
            <a:tbl>
              <a:tblPr/>
              <a:tblGrid>
                <a:gridCol w="4140360"/>
              </a:tblGrid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 это значит действовать на законных и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честных основания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003640" y="3357720"/>
          <a:ext cx="3552840" cy="1431720"/>
        </p:xfrm>
        <a:graphic>
          <a:graphicData uri="http://schemas.openxmlformats.org/drawingml/2006/table">
            <a:tbl>
              <a:tblPr/>
              <a:tblGrid>
                <a:gridCol w="3552840"/>
              </a:tblGrid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 это способность человека делать что-либо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требующего внутреннего напряж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5003640" y="4941720"/>
          <a:ext cx="3480120" cy="1432080"/>
        </p:xfrm>
        <a:graphic>
          <a:graphicData uri="http://schemas.openxmlformats.org/drawingml/2006/table">
            <a:tbl>
              <a:tblPr/>
              <a:tblGrid>
                <a:gridCol w="3480120"/>
              </a:tblGrid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 это способность работать сообща в группе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ля того чтобы решать проблем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8:29:04Z</dcterms:created>
  <dc:creator>asus</dc:creator>
  <dc:description/>
  <dc:language>en-US</dc:language>
  <cp:lastModifiedBy>asus</cp:lastModifiedBy>
  <dcterms:modified xsi:type="dcterms:W3CDTF">2012-04-15T09:18:45Z</dcterms:modified>
  <cp:revision>5</cp:revision>
  <dc:subject/>
  <dc:title>Слайд 1</dc:title>
</cp:coreProperties>
</file>