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F38-BBDB-4227-A795-77D4E5B3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344-CE81-45A4-8674-DF9472E5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63E-EA7D-463E-95BB-07754BA4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155-7664-448D-85F1-80B57138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A5C-E0A6-4297-9216-F23B8EBF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28C-ADA5-4A53-8CBC-BCD8108F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3BC-A856-42B0-BD0C-E2CB8306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F4C-517A-4DE0-B932-A48E89B7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3ED-DB9B-4088-B986-E1A41EEA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814-7200-4EAD-8BCA-F79830F0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08C-5F45-4A0E-98DF-8070C3B4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6BB-3E4A-4CFE-A259-402DE95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5860-DF82-4273-8BFC-9AA58A15FB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1280" y="3429000"/>
          <a:ext cx="7848360" cy="295272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еро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еро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1"/>
          <p:cNvSpPr/>
          <p:nvPr/>
        </p:nvSpPr>
        <p:spPr>
          <a:xfrm>
            <a:off x="1071720" y="1750320"/>
            <a:ext cx="753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щей Бессмертный и Иван-царевич, Кот Леопольд и мышата, Соловей Разбойник и Илья Муромец, Герда и Снежная Королева, Мачеха и Зол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libri"/>
                <a:ea typeface="Times New Roman"/>
              </a:rPr>
              <a:t>Разделите этих героев на две групп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403280" y="400536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ван-цар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т Леополь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лья Муром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р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ол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643280" y="407664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щей Бессмерт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ш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овей Разбойник  Снежная Королева Маче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99760" y="1714320"/>
            <a:ext cx="6211800" cy="30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9900"/>
                </a:solidFill>
                <a:latin typeface="Calibri"/>
              </a:rPr>
              <a:t>Добро и </a:t>
            </a:r>
            <a:br>
              <a:rPr sz="6500"/>
            </a:br>
            <a:r>
              <a:rPr b="0" lang="ru-RU" sz="6500" spc="-1" strike="noStrike">
                <a:solidFill>
                  <a:srgbClr val="11488b"/>
                </a:solidFill>
                <a:latin typeface="Calibri"/>
              </a:rPr>
              <a:t>                  </a:t>
            </a:r>
            <a:r>
              <a:rPr b="0" lang="ru-RU" sz="6500" spc="-1" strike="noStrike">
                <a:solidFill>
                  <a:srgbClr val="11488b"/>
                </a:solidFill>
                <a:latin typeface="Arial"/>
              </a:rPr>
              <a:t>    </a:t>
            </a:r>
            <a:br>
              <a:rPr sz="6500"/>
            </a:br>
            <a:r>
              <a:rPr b="0" lang="ru-RU" sz="6500" spc="-1" strike="noStrike">
                <a:solidFill>
                  <a:srgbClr val="11488b"/>
                </a:solidFill>
                <a:latin typeface="Arial"/>
              </a:rPr>
              <a:t>                </a:t>
            </a:r>
            <a:r>
              <a:rPr b="1" lang="ru-RU" sz="65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ru-RU" sz="6500" spc="-1" strike="noStrike">
                <a:solidFill>
                  <a:srgbClr val="000000"/>
                </a:solidFill>
                <a:latin typeface="Arial"/>
              </a:rPr>
              <a:t>ло</a:t>
            </a:r>
            <a:br>
              <a:rPr sz="6500"/>
            </a:br>
            <a:r>
              <a:rPr b="0" lang="ru-RU" sz="65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29200" y="5357880"/>
            <a:ext cx="26402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00"/>
                </a:solidFill>
                <a:latin typeface="Calibri"/>
              </a:rPr>
              <a:t>Классный ча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00"/>
                </a:solidFill>
                <a:latin typeface="Calibri"/>
              </a:rPr>
              <a:t>6 клас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ть быстрое слово– ракет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ть кислое слово– лимо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ть слово веселое– сме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ть  и хорошее слово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ДОБ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«Толковый словарь» Ожег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alibri"/>
              </a:rPr>
              <a:t>ДОБРО</a:t>
            </a:r>
            <a:r>
              <a:rPr b="1" i="1" lang="ru-RU" sz="3200" spc="-1" strike="noStrike">
                <a:solidFill>
                  <a:srgbClr val="ff505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5050"/>
                </a:solidFill>
                <a:latin typeface="Calibri"/>
              </a:rPr>
              <a:t>– нечто положительное, хорошее, полезное, противоположное з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ЛО – нечто дурное, вредное, противоположное добру, злой поступ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dmin\Мои документы\Мои рисунки\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притчу «Юноша и морская звезда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«Как-то на рассвете старик шел по берегу моря и увидел юношу, который подбирал на песке морских звезд и бросал их в воду. Старик спросил, для чего он это делает. Юноша ответил, что звезды могут засохнуть и умереть под лучами жаркого солнц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- Но ведь побережье тянется на многие мили, а морских звезд миллионы, что толку в твоих усилиях! – сказал стари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Юноша взглянул на морскую звезду, которую держал в руках, бросил её в море и тихо произнес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- Толк есть для этой морской звезды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Легко ли быть добрым?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Добрым быть совсем не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просто,</a:t>
            </a:r>
            <a:br>
              <a:rPr sz="4000"/>
            </a:b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Не зависит доброта от роста,</a:t>
            </a:r>
            <a:br>
              <a:rPr sz="4000"/>
            </a:b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Доброта приносит людя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                                         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радость,</a:t>
            </a:r>
            <a:br>
              <a:rPr sz="4000"/>
            </a:b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И взамен не требует наград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Calibri"/>
              </a:rPr>
              <a:t>Рассмотрите ситуации с двух позиций (добра и зл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пара – расстроенная подруга плачет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пара – приятель в компании беззастенчиво вр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пара – родители несправедливо сердя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пара – брат (сестра) надел (а) твою новую куртку, которой ты очень дорожиш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 пара – слепой человек пытается перейти дорог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Человек всегда стоит перед выбо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Каждый выбирает для себ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Женщину, религию, дорог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ьяволу служить или пророку 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Каждый выбирает для себ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Ю.Д. Левитанск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2T02:16:43Z</dcterms:modified>
  <cp:revision>10</cp:revision>
  <dc:subject/>
  <dc:title>Слайд 1</dc:title>
</cp:coreProperties>
</file>