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3.wmf" ContentType="image/x-wmf"/>
  <Override PartName="/ppt/media/image2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5.gif" ContentType="image/gif"/>
  <Override PartName="/ppt/media/image16.wmf" ContentType="image/x-wmf"/>
  <Override PartName="/ppt/media/image4.gif" ContentType="image/gif"/>
  <Override PartName="/ppt/media/image1.jpeg" ContentType="image/jpeg"/>
  <Override PartName="/ppt/media/image15.wmf" ContentType="image/x-wmf"/>
  <Override PartName="/ppt/media/image27.gif" ContentType="image/gif"/>
  <Override PartName="/ppt/media/image12.png" ContentType="image/png"/>
  <Override PartName="/ppt/media/image25.png" ContentType="image/png"/>
  <Override PartName="/ppt/media/image24.png" ContentType="image/png"/>
  <Override PartName="/ppt/media/image23.gif" ContentType="image/gif"/>
  <Override PartName="/ppt/media/image22.png" ContentType="image/png"/>
  <Override PartName="/ppt/media/image21.png" ContentType="image/png"/>
  <Override PartName="/ppt/media/image17.png" ContentType="image/png"/>
  <Override PartName="/ppt/media/image3.gif" ContentType="image/gif"/>
  <Override PartName="/ppt/media/image14.wmf" ContentType="image/x-wmf"/>
  <Override PartName="/ppt/media/image26.gif" ContentType="image/gif"/>
  <Override PartName="/ppt/media/image20.png" ContentType="image/png"/>
  <Override PartName="/ppt/media/image18.png" ContentType="image/png"/>
  <Override PartName="/ppt/media/image7.jpeg" ContentType="image/jpe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4252-6838-4DED-B851-B30D29F3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5E80-14E6-4331-B8B1-E70C649D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FDC-9E54-42AA-8E9D-16E938503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1991-478A-46D4-BDF3-9EB7F7D1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7163-D844-403D-93C3-821DAA2A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05F0-4C9F-4C2B-A4D8-96F03DEF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7E01-42D5-465F-971B-58BF38FF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527A-94B8-4A84-A556-845E398A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06BE-14D6-483E-BDCF-28C0EE50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487A-40C3-4558-9C42-282A1C14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96AB-614C-49B4-A03D-C00E66BC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9A8-CE7C-4341-84D5-6CE3EC89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DD9E-F453-433B-AC30-D415F07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80CB-16F1-46CC-8319-C3030CCC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949E-A3B3-47E2-B006-88910C83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0097-44C4-4289-A0D9-7717A8AB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60E5-DC47-4F3E-BF27-C7D359FC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215-6323-4F9D-8DAD-48BD11C5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E96-B118-45C7-A294-80568375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FED-886F-4CE9-8EB4-BAABC4DA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47F2-41F7-4ED1-8B14-B9610776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8E33-462E-48B9-B1D6-668599D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1B8B-3925-4749-8E3F-6F81F19E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72FE-DF35-404C-9F69-F34CB0F9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e1bf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e1bf9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b8ad4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b8ad48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3ce8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A2BE-2F4F-4E30-A962-383089E5431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b8ad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b8ad48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e1b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e1bf9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3ce8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b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8ad4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e1bf9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dba9c2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4CD0-CD93-4C9C-9446-4AAB2CD156E2}" type="slidenum">
              <a:rPr b="0" lang="ru-RU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22.png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a4076"/>
                </a:solidFill>
                <a:latin typeface="Comic Sans MS"/>
              </a:rPr>
              <a:t>В царстве </a:t>
            </a:r>
            <a:br>
              <a:rPr sz="4400"/>
            </a:br>
            <a:r>
              <a:rPr b="1" lang="ru-RU" sz="4400" spc="-1" strike="noStrike">
                <a:solidFill>
                  <a:srgbClr val="6a4076"/>
                </a:solidFill>
                <a:latin typeface="Comic Sans MS"/>
              </a:rPr>
              <a:t>«Рыжего дьявола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рок-путешеств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9 клас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5" descr="1e30abd0178cc26cd7ab2922934df170"/>
          <p:cNvPicPr/>
          <p:nvPr/>
        </p:nvPicPr>
        <p:blipFill>
          <a:blip r:embed="rId1"/>
          <a:stretch/>
        </p:blipFill>
        <p:spPr>
          <a:xfrm>
            <a:off x="2916360" y="5805360"/>
            <a:ext cx="3876480" cy="447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Станция</a:t>
            </a:r>
            <a:br>
              <a:rPr sz="4400"/>
            </a:b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 «Практическ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Способы защиты металлов от корроз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Шлифование поверхностей</a:t>
            </a: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248f5f804c7b8fe1956f2526cd8b20eb"/>
          <p:cNvPicPr/>
          <p:nvPr/>
        </p:nvPicPr>
        <p:blipFill>
          <a:blip r:embed="rId3"/>
          <a:stretch/>
        </p:blipFill>
        <p:spPr>
          <a:xfrm flipH="1">
            <a:off x="7164000" y="260280"/>
            <a:ext cx="1081080" cy="149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4_1"/>
          <p:cNvPicPr/>
          <p:nvPr/>
        </p:nvPicPr>
        <p:blipFill>
          <a:blip r:embed="rId4"/>
          <a:stretch/>
        </p:blipFill>
        <p:spPr>
          <a:xfrm>
            <a:off x="1258920" y="4076640"/>
            <a:ext cx="1778040" cy="1067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O_9011AV"/>
          <p:cNvPicPr/>
          <p:nvPr/>
        </p:nvPicPr>
        <p:blipFill>
          <a:blip r:embed="rId5"/>
          <a:stretch/>
        </p:blipFill>
        <p:spPr>
          <a:xfrm>
            <a:off x="3851280" y="4292640"/>
            <a:ext cx="17780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9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47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Станция</a:t>
            </a:r>
            <a:br>
              <a:rPr sz="4400"/>
            </a:b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 «Практическ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 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Способы защиты металлов от  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корроз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Использование легированных сталей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248f5f804c7b8fe1956f2526cd8b20eb"/>
          <p:cNvPicPr/>
          <p:nvPr/>
        </p:nvPicPr>
        <p:blipFill>
          <a:blip r:embed="rId3"/>
          <a:stretch/>
        </p:blipFill>
        <p:spPr>
          <a:xfrm flipH="1">
            <a:off x="7164000" y="260280"/>
            <a:ext cx="1081080" cy="1498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FD01084_"/>
          <p:cNvPicPr/>
          <p:nvPr/>
        </p:nvPicPr>
        <p:blipFill>
          <a:blip r:embed="rId4"/>
          <a:stretch/>
        </p:blipFill>
        <p:spPr>
          <a:xfrm>
            <a:off x="684360" y="3933720"/>
            <a:ext cx="2449440" cy="2401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H00276_"/>
          <p:cNvPicPr/>
          <p:nvPr/>
        </p:nvPicPr>
        <p:blipFill>
          <a:blip r:embed="rId5"/>
          <a:stretch/>
        </p:blipFill>
        <p:spPr>
          <a:xfrm>
            <a:off x="3492360" y="4365720"/>
            <a:ext cx="1927440" cy="2238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HH00513_"/>
          <p:cNvPicPr/>
          <p:nvPr/>
        </p:nvPicPr>
        <p:blipFill>
          <a:blip r:embed="rId6"/>
          <a:stretch/>
        </p:blipFill>
        <p:spPr>
          <a:xfrm>
            <a:off x="6012000" y="4076640"/>
            <a:ext cx="1749240" cy="2238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HH01015_"/>
          <p:cNvPicPr/>
          <p:nvPr/>
        </p:nvPicPr>
        <p:blipFill>
          <a:blip r:embed="rId7"/>
          <a:stretch/>
        </p:blipFill>
        <p:spPr>
          <a:xfrm>
            <a:off x="7956720" y="2852640"/>
            <a:ext cx="666720" cy="20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Станция</a:t>
            </a:r>
            <a:br>
              <a:rPr sz="4400"/>
            </a:b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 «Практическ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Способы защиты металлов от  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корроз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Нанесение защитных покрыти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6a4076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металлических (лаки, эмали, смазка, масл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Picture 4" descr="248f5f804c7b8fe1956f2526cd8b20eb"/>
          <p:cNvPicPr/>
          <p:nvPr/>
        </p:nvPicPr>
        <p:blipFill>
          <a:blip r:embed="rId3"/>
          <a:stretch/>
        </p:blipFill>
        <p:spPr>
          <a:xfrm flipH="1">
            <a:off x="7164000" y="260280"/>
            <a:ext cx="1081080" cy="1498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PH02040U"/>
          <p:cNvPicPr/>
          <p:nvPr/>
        </p:nvPicPr>
        <p:blipFill>
          <a:blip r:embed="rId4"/>
          <a:stretch/>
        </p:blipFill>
        <p:spPr>
          <a:xfrm>
            <a:off x="4500720" y="4149720"/>
            <a:ext cx="1541160" cy="23115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PH02749U"/>
          <p:cNvPicPr/>
          <p:nvPr/>
        </p:nvPicPr>
        <p:blipFill>
          <a:blip r:embed="rId5"/>
          <a:stretch/>
        </p:blipFill>
        <p:spPr>
          <a:xfrm>
            <a:off x="2124000" y="4149720"/>
            <a:ext cx="16369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Станция</a:t>
            </a:r>
            <a:br>
              <a:rPr sz="4400"/>
            </a:b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 «Практическ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Способы защиты металлов от  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корроз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Нанесение защитных покрыти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6a4076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еталлических (покрытие одного металла слоем другого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пример никелирование, лужение, хромирова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Picture 4" descr="248f5f804c7b8fe1956f2526cd8b20eb"/>
          <p:cNvPicPr/>
          <p:nvPr/>
        </p:nvPicPr>
        <p:blipFill>
          <a:blip r:embed="rId3"/>
          <a:stretch/>
        </p:blipFill>
        <p:spPr>
          <a:xfrm flipH="1">
            <a:off x="7164000" y="260280"/>
            <a:ext cx="1081080" cy="14986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J0386764"/>
          <p:cNvPicPr/>
          <p:nvPr/>
        </p:nvPicPr>
        <p:blipFill>
          <a:blip r:embed="rId4"/>
          <a:stretch/>
        </p:blipFill>
        <p:spPr>
          <a:xfrm>
            <a:off x="2050920" y="5084640"/>
            <a:ext cx="1111320" cy="1557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WB01740_"/>
          <p:cNvPicPr/>
          <p:nvPr/>
        </p:nvPicPr>
        <p:blipFill>
          <a:blip r:embed="rId5"/>
          <a:stretch/>
        </p:blipFill>
        <p:spPr>
          <a:xfrm>
            <a:off x="4140360" y="544500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PH01478U"/>
          <p:cNvPicPr/>
          <p:nvPr/>
        </p:nvPicPr>
        <p:blipFill>
          <a:blip r:embed="rId6"/>
          <a:stretch/>
        </p:blipFill>
        <p:spPr>
          <a:xfrm>
            <a:off x="5724360" y="5084640"/>
            <a:ext cx="230832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1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8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5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9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3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9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Станция</a:t>
            </a:r>
            <a:br>
              <a:rPr sz="4400"/>
            </a:b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 «Практическ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Способы защиты металлов от  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корроз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Нанесение защитных покрытий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a4076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имических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ba9c2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ронение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ba9c2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ксидные пленк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ba9c2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имерные пленк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dba9c2"/>
              </a:buClr>
              <a:buSzPct val="6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другие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4" descr="248f5f804c7b8fe1956f2526cd8b20eb"/>
          <p:cNvPicPr/>
          <p:nvPr/>
        </p:nvPicPr>
        <p:blipFill>
          <a:blip r:embed="rId3"/>
          <a:stretch/>
        </p:blipFill>
        <p:spPr>
          <a:xfrm flipH="1">
            <a:off x="7164000" y="260280"/>
            <a:ext cx="1081080" cy="1498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A_9024V"/>
          <p:cNvPicPr/>
          <p:nvPr/>
        </p:nvPicPr>
        <p:blipFill>
          <a:blip r:embed="rId4"/>
          <a:stretch/>
        </p:blipFill>
        <p:spPr>
          <a:xfrm>
            <a:off x="6659640" y="3357720"/>
            <a:ext cx="1778040" cy="133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AG00165_"/>
          <p:cNvPicPr/>
          <p:nvPr/>
        </p:nvPicPr>
        <p:blipFill>
          <a:blip r:embed="rId5"/>
          <a:stretch/>
        </p:blipFill>
        <p:spPr>
          <a:xfrm>
            <a:off x="5508720" y="5084640"/>
            <a:ext cx="194472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5" dur="8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8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3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8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8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76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Станция</a:t>
            </a:r>
            <a:br>
              <a:rPr sz="4400"/>
            </a:b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 «Практическ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Способы защиты металлов от  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корроз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Электрохимические мето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текторная защита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 металлической конструкции присоединяется кусок более активного металла, который служит анодом  и разрушае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Picture 4" descr="248f5f804c7b8fe1956f2526cd8b20eb"/>
          <p:cNvPicPr/>
          <p:nvPr/>
        </p:nvPicPr>
        <p:blipFill>
          <a:blip r:embed="rId3"/>
          <a:stretch/>
        </p:blipFill>
        <p:spPr>
          <a:xfrm flipH="1">
            <a:off x="7164000" y="260280"/>
            <a:ext cx="1081080" cy="1498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PH02398U"/>
          <p:cNvPicPr/>
          <p:nvPr/>
        </p:nvPicPr>
        <p:blipFill>
          <a:blip r:embed="rId4"/>
          <a:stretch/>
        </p:blipFill>
        <p:spPr>
          <a:xfrm>
            <a:off x="5651640" y="4797360"/>
            <a:ext cx="2743200" cy="1816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PH02071U"/>
          <p:cNvPicPr/>
          <p:nvPr/>
        </p:nvPicPr>
        <p:blipFill>
          <a:blip r:embed="rId5"/>
          <a:stretch/>
        </p:blipFill>
        <p:spPr>
          <a:xfrm>
            <a:off x="2124000" y="4869000"/>
            <a:ext cx="17478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Станция</a:t>
            </a:r>
            <a:br>
              <a:rPr sz="4400"/>
            </a:b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 «Практическ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Способы защиты металлов от  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корроз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Электрохимические метод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атодная защита-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нструкция присоединяется к внешнему источнику тока (так защищают трубы нефтепроводов и газопроводов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Picture 4" descr="248f5f804c7b8fe1956f2526cd8b20eb"/>
          <p:cNvPicPr/>
          <p:nvPr/>
        </p:nvPicPr>
        <p:blipFill>
          <a:blip r:embed="rId3"/>
          <a:stretch/>
        </p:blipFill>
        <p:spPr>
          <a:xfrm flipH="1">
            <a:off x="7164000" y="260280"/>
            <a:ext cx="10810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9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Станция</a:t>
            </a:r>
            <a:br>
              <a:rPr sz="4400"/>
            </a:b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 «Практическ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Способы защиты металлов от      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cc0066"/>
                </a:solidFill>
                <a:latin typeface="Tahoma"/>
              </a:rPr>
              <a:t>коррози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Обработка сред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котельных установках из воды удаляется кислород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248f5f804c7b8fe1956f2526cd8b20eb"/>
          <p:cNvPicPr/>
          <p:nvPr/>
        </p:nvPicPr>
        <p:blipFill>
          <a:blip r:embed="rId3"/>
          <a:stretch/>
        </p:blipFill>
        <p:spPr>
          <a:xfrm flipH="1">
            <a:off x="7164000" y="260280"/>
            <a:ext cx="108108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2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8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a4076"/>
                </a:solidFill>
                <a:latin typeface="Tahoma"/>
              </a:rPr>
              <a:t>«</a:t>
            </a:r>
            <a:r>
              <a:rPr b="0" lang="ru-RU" sz="4400" spc="-1" strike="noStrike">
                <a:solidFill>
                  <a:srgbClr val="cc0066"/>
                </a:solidFill>
                <a:latin typeface="Tahoma"/>
              </a:rPr>
              <a:t>Стоп! Красный свет!</a:t>
            </a:r>
            <a:r>
              <a:rPr b="0" lang="ru-RU" sz="4400" spc="-1" strike="noStrike">
                <a:solidFill>
                  <a:srgbClr val="6a4076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ль хотите домой возвратитьс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о придется вам всем потрудитьс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сделана будет работ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Я открою из царства ворота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ыжий дьяво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6a4076"/>
                </a:solidFill>
                <a:latin typeface="Tahoma"/>
              </a:rPr>
              <a:t>«</a:t>
            </a:r>
            <a:r>
              <a:rPr b="0" lang="ru-RU" sz="4400" spc="-1" strike="noStrike">
                <a:solidFill>
                  <a:srgbClr val="cc0066"/>
                </a:solidFill>
                <a:latin typeface="Tahoma"/>
              </a:rPr>
              <a:t>Стоп! Красный свет!</a:t>
            </a:r>
            <a:r>
              <a:rPr b="0" lang="ru-RU" sz="4400" spc="-1" strike="noStrike">
                <a:solidFill>
                  <a:srgbClr val="6a4076"/>
                </a:solidFill>
                <a:latin typeface="Tahoma"/>
              </a:rPr>
              <a:t>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прос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 такое коррози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ие виды коррозии вы знаете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гда и кем была создана теория коррозии металлов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можно замедлить коррозию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луженный бак в местах повреждения быстро ржавеет, а оцинкованный при тех же условиях не разрушается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чему рядом с золотой коронкой на зубах не рекомендуют ставить стальную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Picture 4" descr="e42e4e78134618864b4b748ae4be45e5"/>
          <p:cNvPicPr/>
          <p:nvPr/>
        </p:nvPicPr>
        <p:blipFill>
          <a:blip r:embed="rId1"/>
          <a:stretch/>
        </p:blipFill>
        <p:spPr>
          <a:xfrm>
            <a:off x="7451640" y="189000"/>
            <a:ext cx="145908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8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3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8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8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a4076"/>
                </a:solidFill>
                <a:latin typeface="Comic Sans MS"/>
              </a:rPr>
              <a:t>«Знать – значит победить»</a:t>
            </a:r>
            <a:br>
              <a:rPr sz="4400"/>
            </a:b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А.Н.Несмеянов</a:t>
            </a:r>
            <a:endParaRPr b="0" lang="en-US" sz="36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знакомиться с сущностью химической и электрохимической корроз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смотреть способы защиты от коррози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яснить процессы, протекающие на поверхности металл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учиться практически защищать металлы от корроз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a4076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Vrinda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просы 2, 3, 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4" descr="2bd80f411d746e70fd617691bad8ccb9"/>
          <p:cNvPicPr/>
          <p:nvPr/>
        </p:nvPicPr>
        <p:blipFill>
          <a:blip r:embed="rId1"/>
          <a:stretch/>
        </p:blipFill>
        <p:spPr>
          <a:xfrm>
            <a:off x="5219640" y="2637000"/>
            <a:ext cx="185436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a4076"/>
                </a:solidFill>
                <a:latin typeface="Comic Sans MS"/>
              </a:rPr>
              <a:t>Графический диктант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826920" y="1916280"/>
            <a:ext cx="396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826920" y="2060640"/>
            <a:ext cx="3673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1 вариан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Меди (Си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716360" y="2133720"/>
            <a:ext cx="395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2 вариант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ля калия (К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684360" y="3068640"/>
            <a:ext cx="81356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Это активный щелочной метал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талл занимает 2 место по теплопровод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ый мягкий метал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ходит в состав бронз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внешнем энергетическом уровне 2 электрон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талл взаимодействует с вод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талл не взаимодействует с водо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ытесняет железо из растворов его солей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8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8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a4076"/>
                </a:solidFill>
                <a:latin typeface="Comic Sans MS"/>
              </a:rPr>
              <a:t>Графический диктант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еталлом можно воспользоваться для получения серебра из его со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жет вытеснять цинк из его сол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 реакциях с галогенами является окислителе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 хранении на открытом воздухе быстро окисляе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створ соли этого металла используют для борьбы с вредителями сад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гко режется нож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a4076"/>
                </a:solidFill>
                <a:latin typeface="Comic Sans MS"/>
              </a:rPr>
              <a:t>Проверяе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11,-65,-3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26,-50,-7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a4076"/>
                </a:solidFill>
                <a:latin typeface="Comic Sans MS"/>
              </a:rPr>
              <a:t>Ключ для проверки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 2 3 4 5 6 7 8 9 10 11 12 13 1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ариант:0 1 0 1 0 0 1 0 1  0   0   0   1  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ариант:1 0 1 0  0 1 0 0 0  0   0   1   0  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ез ошибок – «5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-2 ошибки – «4»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-5 ошибок - «3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a4076"/>
                </a:solidFill>
                <a:latin typeface="Comic Sans MS"/>
              </a:rPr>
              <a:t>Станция «Информационн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349000"/>
            <a:ext cx="777240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Tahoma"/>
              </a:rPr>
              <a:t>КОРРОЗ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разрушение металлов и сплавов под действием внешней сред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Tahoma"/>
              </a:rPr>
              <a:t>КОРРОЗ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окислительно-восстановительный процесс, при котором атомы металла переходя в ионы. В роли окислителя, как правило, выступают 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Н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8ad4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66"/>
                </a:solidFill>
                <a:latin typeface="Tahoma"/>
              </a:rPr>
              <a:t>Корроз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от латинского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rrodere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разъеда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e8b094b7950d327c31c53f3be710d585"/>
          <p:cNvPicPr/>
          <p:nvPr/>
        </p:nvPicPr>
        <p:blipFill>
          <a:blip r:embed="rId1"/>
          <a:stretch/>
        </p:blipFill>
        <p:spPr>
          <a:xfrm>
            <a:off x="6948360" y="189000"/>
            <a:ext cx="15638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a4076"/>
                </a:solidFill>
                <a:latin typeface="Comic Sans MS"/>
              </a:rPr>
              <a:t>Станция «Информационн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17" name="Picture 4" descr="8b1747ac230d8b3e41b4a1330d0f9b8e"/>
          <p:cNvPicPr/>
          <p:nvPr/>
        </p:nvPicPr>
        <p:blipFill>
          <a:blip r:embed="rId1"/>
          <a:stretch/>
        </p:blipFill>
        <p:spPr>
          <a:xfrm>
            <a:off x="7020000" y="260280"/>
            <a:ext cx="1422360" cy="1354320"/>
          </a:xfrm>
          <a:prstGeom prst="rect">
            <a:avLst/>
          </a:prstGeom>
          <a:ln w="0">
            <a:noFill/>
          </a:ln>
        </p:spPr>
      </p:pic>
      <p:grpSp>
        <p:nvGrpSpPr>
          <p:cNvPr id="118" name="Organization Chart 6"/>
          <p:cNvGrpSpPr/>
          <p:nvPr/>
        </p:nvGrpSpPr>
        <p:grpSpPr>
          <a:xfrm>
            <a:off x="1186200" y="1990800"/>
            <a:ext cx="7768080" cy="4866480"/>
            <a:chOff x="1186200" y="1990800"/>
            <a:chExt cx="7768080" cy="4866480"/>
          </a:xfrm>
        </p:grpSpPr>
        <p:cxnSp>
          <p:nvCxnSpPr>
            <p:cNvPr id="119" name="_s1028"/>
            <p:cNvCxnSpPr/>
            <p:nvPr/>
          </p:nvCxnSpPr>
          <p:spPr>
            <a:xfrm flipV="1" rot="16200000">
              <a:off x="5637960" y="2363040"/>
              <a:ext cx="968760" cy="2091960"/>
            </a:xfrm>
            <a:prstGeom prst="bentConnector3">
              <a:avLst>
                <a:gd name="adj1" fmla="val 283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1029"/>
            <p:cNvCxnSpPr/>
            <p:nvPr/>
          </p:nvCxnSpPr>
          <p:spPr>
            <a:xfrm flipH="1" flipV="1" rot="5400000">
              <a:off x="3424320" y="2056680"/>
              <a:ext cx="1218960" cy="2091960"/>
            </a:xfrm>
            <a:prstGeom prst="bentConnector3">
              <a:avLst>
                <a:gd name="adj1" fmla="val 93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1" name="_s1030"/>
            <p:cNvSpPr/>
            <p:nvPr/>
          </p:nvSpPr>
          <p:spPr>
            <a:xfrm>
              <a:off x="3203640" y="1990800"/>
              <a:ext cx="3586680" cy="981720"/>
            </a:xfrm>
            <a:prstGeom prst="roundRect">
              <a:avLst>
                <a:gd name="adj" fmla="val 16667"/>
              </a:avLst>
            </a:prstGeom>
            <a:solidFill>
              <a:srgbClr val="dba9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Коррози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2" name="_s1031"/>
            <p:cNvSpPr/>
            <p:nvPr/>
          </p:nvSpPr>
          <p:spPr>
            <a:xfrm>
              <a:off x="1186200" y="3718080"/>
              <a:ext cx="3457800" cy="3139200"/>
            </a:xfrm>
            <a:prstGeom prst="roundRect">
              <a:avLst>
                <a:gd name="adj" fmla="val 16667"/>
              </a:avLst>
            </a:prstGeom>
            <a:solidFill>
              <a:srgbClr val="dba9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Химическа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протекает в средах не проводящих электрический ток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Fe+3O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+6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=4Fe(OH)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Коррозия железа и образование ржавчины 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_s1032"/>
            <p:cNvSpPr/>
            <p:nvPr/>
          </p:nvSpPr>
          <p:spPr>
            <a:xfrm>
              <a:off x="4714920" y="3859920"/>
              <a:ext cx="4239360" cy="2997360"/>
            </a:xfrm>
            <a:prstGeom prst="roundRect">
              <a:avLst>
                <a:gd name="adj" fmla="val 16667"/>
              </a:avLst>
            </a:prstGeom>
            <a:solidFill>
              <a:srgbClr val="dba9c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omic Sans MS"/>
                </a:rPr>
                <a:t>Электрохимическая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(протекает в средах при возникновении электрического тока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А(+)на железе      на меди К(-)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F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-2e=Fe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2+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H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+2e=H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Comic Sans MS"/>
                </a:rPr>
                <a:t>0   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Comic Sans MS"/>
                </a:rPr>
                <a:t>Коррозия железа, находящегося в контакте с медью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4" name="Line 18"/>
          <p:cNvSpPr/>
          <p:nvPr/>
        </p:nvSpPr>
        <p:spPr>
          <a:xfrm flipV="1">
            <a:off x="8317080" y="5589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a4076"/>
                </a:solidFill>
                <a:latin typeface="Comic Sans MS"/>
              </a:rPr>
              <a:t>Станция </a:t>
            </a:r>
            <a:br>
              <a:rPr sz="4400"/>
            </a:br>
            <a:r>
              <a:rPr b="0" lang="ru-RU" sz="4400" spc="-1" strike="noStrike">
                <a:solidFill>
                  <a:srgbClr val="6a4076"/>
                </a:solidFill>
                <a:latin typeface="Comic Sans MS"/>
              </a:rPr>
              <a:t>«Историческ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26" name="Picture 4" descr="41"/>
          <p:cNvPicPr/>
          <p:nvPr/>
        </p:nvPicPr>
        <p:blipFill>
          <a:blip r:embed="rId1"/>
          <a:stretch/>
        </p:blipFill>
        <p:spPr>
          <a:xfrm>
            <a:off x="6877080" y="189000"/>
            <a:ext cx="1336680" cy="133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1116000" y="2276640"/>
            <a:ext cx="6192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юди издавна гадали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к металлы убереч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теорию создали,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т о ней как раз и речь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9" descr="67ba56191dac43f469a54475669cf627"/>
          <p:cNvPicPr/>
          <p:nvPr/>
        </p:nvPicPr>
        <p:blipFill>
          <a:blip r:embed="rId2"/>
          <a:stretch/>
        </p:blipFill>
        <p:spPr>
          <a:xfrm>
            <a:off x="3276720" y="4797360"/>
            <a:ext cx="237492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a4076"/>
                </a:solidFill>
                <a:latin typeface="Comic Sans MS"/>
              </a:rPr>
              <a:t>Станция «Экспериментальная»</a:t>
            </a:r>
            <a:endParaRPr b="0" lang="en-US" sz="4400" spc="-1" strike="noStrike">
              <a:solidFill>
                <a:srgbClr val="6a4076"/>
              </a:solidFill>
              <a:latin typeface="Tahoma"/>
            </a:endParaRPr>
          </a:p>
        </p:txBody>
      </p:sp>
      <p:pic>
        <p:nvPicPr>
          <p:cNvPr id="130" name="Picture 9" descr="J0287641"/>
          <p:cNvPicPr/>
          <p:nvPr/>
        </p:nvPicPr>
        <p:blipFill>
          <a:blip r:embed="rId1"/>
          <a:stretch/>
        </p:blipFill>
        <p:spPr>
          <a:xfrm>
            <a:off x="7308720" y="189000"/>
            <a:ext cx="1665360" cy="233352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0" descr="Рис. 2. Опыт по коррозии металлов"/>
          <p:cNvPicPr/>
          <p:nvPr/>
        </p:nvPicPr>
        <p:blipFill>
          <a:blip r:embed="rId2"/>
          <a:stretch/>
        </p:blipFill>
        <p:spPr>
          <a:xfrm>
            <a:off x="0" y="2643120"/>
            <a:ext cx="9144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1:12:57Z</dcterms:created>
  <dc:creator>***</dc:creator>
  <dc:description/>
  <dc:language>en-US</dc:language>
  <cp:lastModifiedBy>семья</cp:lastModifiedBy>
  <dcterms:modified xsi:type="dcterms:W3CDTF">2012-12-08T17:03:03Z</dcterms:modified>
  <cp:revision>19</cp:revision>
  <dc:subject/>
  <dc:title>Слайд 1</dc:title>
</cp:coreProperties>
</file>