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06F-B079-4394-B61A-34FD415E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DA8-A1E8-4C87-A89B-F71F1D56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0CB-BFF4-4187-A74E-AE82512A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05C-D246-4CA6-B34B-1CC67D61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10D-828C-414B-8015-9DA305D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527-597F-473E-BD7A-88F5347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3E4-3401-452B-8267-955A1448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0E3-2D0C-41BA-B779-8C8874E2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1DB-B192-4368-9A29-C462F8B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8CD-0DA4-4647-B38E-38C01F2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757-0366-4B4D-BD53-4D18D77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CF1-24AF-4E84-B81E-FF517F8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6D68-3CCE-4F95-8A38-77BCAC733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alitina.okis.ru/" TargetMode="External"/><Relationship Id="rId2" Type="http://schemas.openxmlformats.org/officeDocument/2006/relationships/hyperlink" Target="http://www.nsportal.ru/kalitina-tamara-mikhailovna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неорганических веществ. Окси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литина Тамар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о работы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У СОШ №3 с.Александров-Г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лжност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читель экологии, биологии, хи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ительные 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й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kalitina.okis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-сай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sportal.ru/kalitina-tamara-mikhailov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D:\ТАМАРА\D9 презентации все\картинки\картинки анемешки\Animated\J0076135.GIF"/>
          <p:cNvPicPr/>
          <p:nvPr/>
        </p:nvPicPr>
        <p:blipFill>
          <a:blip r:embed="rId3"/>
          <a:stretch/>
        </p:blipFill>
        <p:spPr>
          <a:xfrm>
            <a:off x="857160" y="642960"/>
            <a:ext cx="2124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. Химия.:универсальный справочник/О.В.Мешкова.- М.: Эксмо, 2010.- 368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/ О.С. Габриелян, И.Г.Остроумов, С.А.Сладков. –М.: Дрофа, 2011. – 304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Admin\Мои документы\Мои рисунки\Изображение\Изображение 013.jpg"/>
          <p:cNvPicPr/>
          <p:nvPr/>
        </p:nvPicPr>
        <p:blipFill>
          <a:blip r:embed="rId2"/>
          <a:stretch/>
        </p:blipFill>
        <p:spPr>
          <a:xfrm>
            <a:off x="0" y="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С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сиды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нарные соединения с кислородом в степени окислени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-2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щая формул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: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томов элемент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томов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окс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C:\Documents and Settings\Admin\Мои документы\Мои рисунки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500040" y="1571760"/>
            <a:ext cx="7929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олеобразующие окс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солеебразующим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такие оксиды, которые не взаимодействуют ни со щелочами, ни с кислотами и не образуют солей. Их немного, в их состав входят неметал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C:\Documents and Settings\Admin\Мои документы\Мои рисунки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3857760" y="4500720"/>
            <a:ext cx="291600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еобразу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еобразующим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такие оксиды, которые взаимодействуют с кислотами или основаниями и образуют при этом соль и в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солеобразующих оксидов различают оксиды: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, кислотные, амфотер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окс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сновные оксиды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акие оксиды, которым соответствуют основания. Например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- Са(ОН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- NaO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отные окс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ислотные оксиды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акие оксиды, которым соответствуют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сиды неметаллов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 ж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сиды металл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большим значением степеней окисл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H 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фотерные окс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мфотерным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оксиды, которые в зависимости от условий проявляют основные или кислотные свой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,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ые оксиды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вод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соединя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22:40:53Z</dcterms:created>
  <dc:creator>Admin</dc:creator>
  <dc:description/>
  <dc:language>en-US</dc:language>
  <cp:lastModifiedBy>Admin</cp:lastModifiedBy>
  <dcterms:modified xsi:type="dcterms:W3CDTF">2012-01-19T00:11:04Z</dcterms:modified>
  <cp:revision>10</cp:revision>
  <dc:subject/>
  <dc:title>Слайд 1</dc:title>
</cp:coreProperties>
</file>