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8637-2D36-4F83-9735-77E387E440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97F4-19C3-4C63-AFEB-D6CD0FF59B4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F59-99A8-4510-83CB-CFC8D56C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FDF-FC96-4998-BACE-1043090C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5F7-BF0D-4BE1-ADEC-3AAA755D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D13E-32C1-4330-A10D-C351149B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279E-4119-44FB-ADF0-E9B60D67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ACCC-D21E-4B04-B049-C36505BC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49E2-D0BB-44DC-824A-FADB9106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B04F-E162-425D-A9AE-4108E5E3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9DE4-2B50-4CCD-A6B2-5F3916B3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A6DC-0CE1-49E6-A071-D0DB9819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B425-9AAC-4A88-8D34-7C4E76DA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297-BB4D-462B-A89A-C85B410F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5DFB-9A50-46ED-8795-D5740C01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B8FA-1D70-4106-8774-D3222D65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D07D-966A-4C2B-BA8C-0DB6690B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F9C1-D6ED-43B0-921D-8FE2D54A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A4DD-B4C9-4714-855B-4AF207A4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18C3-1C0D-4355-9DBF-7B2252E0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31EE-B213-40AF-B913-B08C3D29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CC6-5CD7-4D07-A08B-B767C89F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817-FBC8-4447-958B-E13D3E51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CEA-B2CD-4DD7-857C-C5EE2C0E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6DC3-15C3-4D1C-A3A7-10F19575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A861-62E4-4726-96E2-3585679B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32D2-F2E3-4C8D-86EA-3E8DF8FE3C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F985-50E0-4CDB-B50B-7CE622154A2D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hyperlink" Target="file:///C:/Documents%20and%20Settings/Admin/&#1056;&#1072;&#1073;&#1086;&#1095;&#1080;&#1081;%20&#1089;&#1090;&#1086;&#1083;/&#1045;&#1075;&#1080;&#1087;&#1077;&#1090;&#1089;&#1082;&#1080;&#1077;%20&#1087;&#1080;&#1088;&#1072;&#1084;&#1080;&#1076;&#1099;.ppt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C:/Documents%20and%20Settings/Admin/&#1056;&#1072;&#1073;&#1086;&#1095;&#1080;&#1081;%20&#1089;&#1090;&#1086;&#1083;/&#1045;&#1075;&#1080;&#1087;&#1077;&#1090;&#1089;&#1082;&#1080;&#1077;%20&#1087;&#1080;&#1088;&#1072;&#1084;&#1080;&#1076;&#1099;.ppt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24000" y="3886200"/>
            <a:ext cx="280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Урок ИЗ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8 класс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Учитель ИЗ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МОУ-СОШ с.Царевщина Салина С.А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468360" y="0"/>
            <a:ext cx="7129440" cy="318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мь чудес св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21" name="Picture 6" descr="mos12"/>
          <p:cNvPicPr/>
          <p:nvPr/>
        </p:nvPicPr>
        <p:blipFill>
          <a:blip r:embed="rId1"/>
          <a:stretch/>
        </p:blipFill>
        <p:spPr>
          <a:xfrm>
            <a:off x="3492360" y="2565360"/>
            <a:ext cx="5112000" cy="3857760"/>
          </a:xfrm>
          <a:prstGeom prst="rect">
            <a:avLst/>
          </a:prstGeom>
          <a:ln w="0">
            <a:noFill/>
          </a:ln>
        </p:spPr>
      </p:pic>
      <p:sp>
        <p:nvSpPr>
          <p:cNvPr id="222" name="Управляющая кнопка: далее 4">
            <a:hlinkClick r:id="rId2" action="ppaction://hlinksldjump"/>
          </p:cNvPr>
          <p:cNvSpPr/>
          <p:nvPr/>
        </p:nvSpPr>
        <p:spPr>
          <a:xfrm>
            <a:off x="4286160" y="650088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3794"/>
                </a:moveTo>
                <a:lnTo>
                  <a:pt x="19971" y="10800"/>
                </a:lnTo>
                <a:lnTo>
                  <a:pt x="5958" y="17806"/>
                </a:lnTo>
                <a:close/>
              </a:path>
            </a:pathLst>
          </a:custGeom>
          <a:solidFill>
            <a:srgbClr val="00cc66"/>
          </a:solidFill>
          <a:ln w="2556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атуя Зевса в Олимп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4" descr="сканирование0004"/>
          <p:cNvPicPr/>
          <p:nvPr/>
        </p:nvPicPr>
        <p:blipFill>
          <a:blip r:embed="rId1"/>
          <a:stretch/>
        </p:blipFill>
        <p:spPr>
          <a:xfrm>
            <a:off x="2786040" y="1500120"/>
            <a:ext cx="3143160" cy="5141880"/>
          </a:xfrm>
          <a:prstGeom prst="rect">
            <a:avLst/>
          </a:prstGeom>
          <a:ln w="0">
            <a:noFill/>
          </a:ln>
        </p:spPr>
      </p:pic>
      <p:sp>
        <p:nvSpPr>
          <p:cNvPr id="257" name="Управляющая кнопка: в конец 4"/>
          <p:cNvSpPr/>
          <p:nvPr/>
        </p:nvSpPr>
        <p:spPr>
          <a:xfrm>
            <a:off x="4000680" y="6337440"/>
            <a:ext cx="428400" cy="306360"/>
          </a:xfrm>
          <a:custGeom>
            <a:avLst/>
            <a:gdLst>
              <a:gd name="textAreaLeft" fmla="*/ 19800 w 428400"/>
              <a:gd name="textAreaRight" fmla="*/ 408600 w 4284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30194" h="21600">
                <a:moveTo>
                  <a:pt x="0" y="0"/>
                </a:moveTo>
                <a:lnTo>
                  <a:pt x="30194" y="0"/>
                </a:lnTo>
                <a:lnTo>
                  <a:pt x="30194" y="21600"/>
                </a:lnTo>
                <a:lnTo>
                  <a:pt x="0" y="21600"/>
                </a:lnTo>
                <a:close/>
              </a:path>
              <a:path fill="lightenLess" w="30194" h="21600">
                <a:moveTo>
                  <a:pt x="0" y="0"/>
                </a:moveTo>
                <a:lnTo>
                  <a:pt x="30194" y="0"/>
                </a:lnTo>
                <a:lnTo>
                  <a:pt x="28794" y="1400"/>
                </a:lnTo>
                <a:lnTo>
                  <a:pt x="1400" y="1400"/>
                </a:lnTo>
                <a:close/>
              </a:path>
              <a:path fill="darken" w="30194" h="21600">
                <a:moveTo>
                  <a:pt x="30194" y="0"/>
                </a:moveTo>
                <a:lnTo>
                  <a:pt x="30194" y="21600"/>
                </a:lnTo>
                <a:lnTo>
                  <a:pt x="28794" y="20200"/>
                </a:lnTo>
                <a:lnTo>
                  <a:pt x="28794" y="1400"/>
                </a:lnTo>
                <a:close/>
              </a:path>
              <a:path fill="darkenLess" w="30194" h="21600">
                <a:moveTo>
                  <a:pt x="3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4" y="20200"/>
                </a:lnTo>
                <a:close/>
              </a:path>
              <a:path fill="lighten" w="3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4" h="21600">
                <a:moveTo>
                  <a:pt x="18596" y="10800"/>
                </a:moveTo>
                <a:lnTo>
                  <a:pt x="8091" y="17806"/>
                </a:lnTo>
                <a:lnTo>
                  <a:pt x="8091" y="3794"/>
                </a:lnTo>
                <a:close/>
              </a:path>
              <a:path fill="darken" w="30194" h="21600">
                <a:moveTo>
                  <a:pt x="20441" y="3794"/>
                </a:moveTo>
                <a:lnTo>
                  <a:pt x="20441" y="17806"/>
                </a:lnTo>
                <a:lnTo>
                  <a:pt x="22104" y="17806"/>
                </a:lnTo>
                <a:lnTo>
                  <a:pt x="22104" y="3794"/>
                </a:lnTo>
                <a:close/>
              </a:path>
            </a:pathLst>
          </a:custGeom>
          <a:solidFill>
            <a:srgbClr val="00cc66"/>
          </a:solidFill>
          <a:ln w="2556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268280"/>
            <a:ext cx="82263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ак вы думаете, почему эти архитектурные и скульптурные сооружения относят к чудесам света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Что, на ваш взгляд, можно отнести к восьмому чуду света у нас в России и почему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пробуйте создать коллекцию чудес своего района. Обоснуйте свой выбор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Управляющая кнопка: назад 4">
            <a:hlinkClick r:id="" action="ppaction://hlinkshowjump?jump=firstslide"/>
          </p:cNvPr>
          <p:cNvSpPr/>
          <p:nvPr/>
        </p:nvSpPr>
        <p:spPr>
          <a:xfrm>
            <a:off x="4071960" y="607212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10800"/>
                </a:moveTo>
                <a:lnTo>
                  <a:pt x="21394" y="3794"/>
                </a:lnTo>
                <a:lnTo>
                  <a:pt x="21394" y="17806"/>
                </a:lnTo>
                <a:close/>
              </a:path>
            </a:pathLst>
          </a:custGeom>
          <a:solidFill>
            <a:srgbClr val="00cc66"/>
          </a:solidFill>
          <a:ln w="2556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Давным – давно, в маленькой стране на берегу средиземного моря, в древней Греции, когда люди собирались вместе и начинали рассказывать об удивительных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странах и далеких городах, часто можно было услышать слова «семь чудес света».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   Чудесами, древние греки, называли самые удивительные и прекрасные сооружения, построенные в разных странах.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14" descr="z31"/>
          <p:cNvPicPr/>
          <p:nvPr/>
        </p:nvPicPr>
        <p:blipFill>
          <a:blip r:embed="rId1"/>
          <a:stretch/>
        </p:blipFill>
        <p:spPr>
          <a:xfrm>
            <a:off x="900000" y="3213000"/>
            <a:ext cx="2664000" cy="3241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Рисунок15"/>
          <p:cNvPicPr/>
          <p:nvPr/>
        </p:nvPicPr>
        <p:blipFill>
          <a:blip r:embed="rId2"/>
          <a:stretch/>
        </p:blipFill>
        <p:spPr>
          <a:xfrm>
            <a:off x="3851280" y="3141720"/>
            <a:ext cx="1627200" cy="28796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17" descr="z32"/>
          <p:cNvPicPr/>
          <p:nvPr/>
        </p:nvPicPr>
        <p:blipFill>
          <a:blip r:embed="rId3"/>
          <a:stretch/>
        </p:blipFill>
        <p:spPr>
          <a:xfrm>
            <a:off x="5364000" y="3284640"/>
            <a:ext cx="3456000" cy="2952720"/>
          </a:xfrm>
          <a:prstGeom prst="rect">
            <a:avLst/>
          </a:prstGeom>
          <a:ln w="0">
            <a:noFill/>
          </a:ln>
        </p:spPr>
      </p:pic>
      <p:sp>
        <p:nvSpPr>
          <p:cNvPr id="228" name="Управляющая кнопка: далее 6">
            <a:hlinkClick r:id="rId4" action="ppaction://hlinksldjump"/>
          </p:cNvPr>
          <p:cNvSpPr/>
          <p:nvPr/>
        </p:nvSpPr>
        <p:spPr>
          <a:xfrm>
            <a:off x="4429080" y="6429240"/>
            <a:ext cx="428760" cy="214560"/>
          </a:xfrm>
          <a:custGeom>
            <a:avLst/>
            <a:gdLst>
              <a:gd name="textAreaLeft" fmla="*/ 13680 w 428760"/>
              <a:gd name="textAreaRight" fmla="*/ 415080 w 42876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7" y="3794"/>
                </a:moveTo>
                <a:lnTo>
                  <a:pt x="28570" y="10800"/>
                </a:lnTo>
                <a:lnTo>
                  <a:pt x="14557" y="17806"/>
                </a:lnTo>
                <a:close/>
              </a:path>
            </a:pathLst>
          </a:custGeom>
          <a:solidFill>
            <a:srgbClr val="00cc66"/>
          </a:solidFill>
          <a:ln w="2556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5400" y="404280"/>
            <a:ext cx="82263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от мы в жаркой Африке, на берегах великой реки Нил, в Древнем Египте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есь находится самое древнее из семи чудес света – три огромные пирамиды. Эти величественные усыпальницы фараонов -  словно  вырастают из песков пустыни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468360" y="386064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WordArt 9"/>
          <p:cNvSpPr txBox="1"/>
          <p:nvPr/>
        </p:nvSpPr>
        <p:spPr>
          <a:xfrm>
            <a:off x="1000080" y="3643200"/>
            <a:ext cx="6769080" cy="187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гипетские пирами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2" name="Управляющая кнопка: далее 4">
            <a:hlinkClick r:id="rId1" action="ppaction://hlinksldjump"/>
          </p:cNvPr>
          <p:cNvSpPr/>
          <p:nvPr/>
        </p:nvSpPr>
        <p:spPr>
          <a:xfrm>
            <a:off x="442908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00cc66"/>
          </a:solidFill>
          <a:ln w="2556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71280" y="5300640"/>
            <a:ext cx="727236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1400" spc="-1" strike="noStrike">
                <a:solidFill>
                  <a:srgbClr val="171717"/>
                </a:solidFill>
                <a:latin typeface="Arial"/>
              </a:rPr>
              <a:t>Для получения подробной информации нажимайте на стрелку</a:t>
            </a:r>
            <a:br>
              <a:rPr sz="2000"/>
            </a:b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WordArt 11"/>
          <p:cNvSpPr txBox="1"/>
          <p:nvPr/>
        </p:nvSpPr>
        <p:spPr>
          <a:xfrm>
            <a:off x="826920" y="476280"/>
            <a:ext cx="252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еоп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6" name="WordArt 12"/>
          <p:cNvSpPr txBox="1"/>
          <p:nvPr/>
        </p:nvSpPr>
        <p:spPr>
          <a:xfrm>
            <a:off x="6372360" y="692280"/>
            <a:ext cx="23158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Хефр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237" name="WordArt 13"/>
          <p:cNvSpPr txBox="1"/>
          <p:nvPr/>
        </p:nvSpPr>
        <p:spPr>
          <a:xfrm>
            <a:off x="3276720" y="4714920"/>
            <a:ext cx="2295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керин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8" name="Picture 17" descr="Копия сканирование0005"/>
          <p:cNvPicPr/>
          <p:nvPr/>
        </p:nvPicPr>
        <p:blipFill>
          <a:blip r:embed="rId5"/>
          <a:stretch/>
        </p:blipFill>
        <p:spPr>
          <a:xfrm>
            <a:off x="1332000" y="1413000"/>
            <a:ext cx="5761080" cy="2879640"/>
          </a:xfrm>
          <a:prstGeom prst="rect">
            <a:avLst/>
          </a:prstGeom>
          <a:ln w="0">
            <a:noFill/>
          </a:ln>
        </p:spPr>
      </p:pic>
      <p:sp>
        <p:nvSpPr>
          <p:cNvPr id="239" name="Управляющая кнопка: в конец 9">
            <a:hlinkClick r:id="rId6"/>
          </p:cNvPr>
          <p:cNvSpPr/>
          <p:nvPr/>
        </p:nvSpPr>
        <p:spPr>
          <a:xfrm>
            <a:off x="4143240" y="550080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20781" y="10800"/>
                </a:moveTo>
                <a:lnTo>
                  <a:pt x="10276" y="17806"/>
                </a:lnTo>
                <a:lnTo>
                  <a:pt x="10276" y="3794"/>
                </a:lnTo>
                <a:close/>
              </a:path>
              <a:path fill="darken" w="34564" h="21600">
                <a:moveTo>
                  <a:pt x="22626" y="3794"/>
                </a:moveTo>
                <a:lnTo>
                  <a:pt x="22626" y="17806"/>
                </a:lnTo>
                <a:lnTo>
                  <a:pt x="24289" y="17806"/>
                </a:lnTo>
                <a:lnTo>
                  <a:pt x="24289" y="3794"/>
                </a:lnTo>
                <a:close/>
              </a:path>
            </a:pathLst>
          </a:custGeom>
          <a:solidFill>
            <a:srgbClr val="00cc66"/>
          </a:solidFill>
          <a:ln w="2556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Храм Артемиды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5" descr="сканирование0001"/>
          <p:cNvPicPr/>
          <p:nvPr/>
        </p:nvPicPr>
        <p:blipFill>
          <a:blip r:embed="rId1"/>
          <a:stretch/>
        </p:blipFill>
        <p:spPr>
          <a:xfrm>
            <a:off x="2143080" y="1428840"/>
            <a:ext cx="4237200" cy="4786200"/>
          </a:xfrm>
          <a:prstGeom prst="rect">
            <a:avLst/>
          </a:prstGeom>
          <a:ln w="0">
            <a:noFill/>
          </a:ln>
        </p:spPr>
      </p:pic>
      <p:sp>
        <p:nvSpPr>
          <p:cNvPr id="242" name="Управляющая кнопка: в конец 5">
            <a:hlinkClick r:id="rId2"/>
          </p:cNvPr>
          <p:cNvSpPr/>
          <p:nvPr/>
        </p:nvSpPr>
        <p:spPr>
          <a:xfrm>
            <a:off x="4071960" y="650088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6463" y="10800"/>
                </a:moveTo>
                <a:lnTo>
                  <a:pt x="5958" y="17806"/>
                </a:lnTo>
                <a:lnTo>
                  <a:pt x="5958" y="3794"/>
                </a:lnTo>
                <a:close/>
              </a:path>
              <a:path fill="darken" w="25929" h="21600">
                <a:moveTo>
                  <a:pt x="18308" y="3794"/>
                </a:moveTo>
                <a:lnTo>
                  <a:pt x="18308" y="17806"/>
                </a:lnTo>
                <a:lnTo>
                  <a:pt x="19971" y="17806"/>
                </a:lnTo>
                <a:lnTo>
                  <a:pt x="19971" y="3794"/>
                </a:lnTo>
                <a:close/>
              </a:path>
            </a:pathLst>
          </a:custGeom>
          <a:solidFill>
            <a:srgbClr val="00cc66"/>
          </a:solidFill>
          <a:ln w="2556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Галикарнасский мавзолей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Picture 7" descr="сканирование0002"/>
          <p:cNvPicPr/>
          <p:nvPr/>
        </p:nvPicPr>
        <p:blipFill>
          <a:blip r:embed="rId1"/>
          <a:stretch/>
        </p:blipFill>
        <p:spPr>
          <a:xfrm>
            <a:off x="2071800" y="1071720"/>
            <a:ext cx="4511520" cy="5357520"/>
          </a:xfrm>
          <a:prstGeom prst="rect">
            <a:avLst/>
          </a:prstGeom>
          <a:ln w="0">
            <a:noFill/>
          </a:ln>
        </p:spPr>
      </p:pic>
      <p:sp>
        <p:nvSpPr>
          <p:cNvPr id="245" name="Управляющая кнопка: в конец 4"/>
          <p:cNvSpPr/>
          <p:nvPr/>
        </p:nvSpPr>
        <p:spPr>
          <a:xfrm>
            <a:off x="4214880" y="6572160"/>
            <a:ext cx="428400" cy="285840"/>
          </a:xfrm>
          <a:custGeom>
            <a:avLst/>
            <a:gdLst>
              <a:gd name="textAreaLeft" fmla="*/ 18360 w 428400"/>
              <a:gd name="textAreaRight" fmla="*/ 410040 w 4284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59" h="21600">
                <a:moveTo>
                  <a:pt x="0" y="0"/>
                </a:moveTo>
                <a:lnTo>
                  <a:pt x="32359" y="0"/>
                </a:lnTo>
                <a:lnTo>
                  <a:pt x="32359" y="21600"/>
                </a:lnTo>
                <a:lnTo>
                  <a:pt x="0" y="21600"/>
                </a:lnTo>
                <a:close/>
              </a:path>
              <a:path fill="lightenLess" w="32359" h="21600">
                <a:moveTo>
                  <a:pt x="0" y="0"/>
                </a:moveTo>
                <a:lnTo>
                  <a:pt x="32359" y="0"/>
                </a:lnTo>
                <a:lnTo>
                  <a:pt x="30959" y="1400"/>
                </a:lnTo>
                <a:lnTo>
                  <a:pt x="1400" y="1400"/>
                </a:lnTo>
                <a:close/>
              </a:path>
              <a:path fill="darken" w="32359" h="21600">
                <a:moveTo>
                  <a:pt x="32359" y="0"/>
                </a:moveTo>
                <a:lnTo>
                  <a:pt x="32359" y="21600"/>
                </a:lnTo>
                <a:lnTo>
                  <a:pt x="30959" y="20200"/>
                </a:lnTo>
                <a:lnTo>
                  <a:pt x="30959" y="1400"/>
                </a:lnTo>
                <a:close/>
              </a:path>
              <a:path fill="darkenLess" w="32359" h="21600">
                <a:moveTo>
                  <a:pt x="32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9" y="20200"/>
                </a:lnTo>
                <a:close/>
              </a:path>
              <a:path fill="lighten" w="32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9" h="21600">
                <a:moveTo>
                  <a:pt x="19679" y="10800"/>
                </a:moveTo>
                <a:lnTo>
                  <a:pt x="9173" y="17806"/>
                </a:lnTo>
                <a:lnTo>
                  <a:pt x="9173" y="3794"/>
                </a:lnTo>
                <a:close/>
              </a:path>
              <a:path fill="darken" w="32359" h="21600">
                <a:moveTo>
                  <a:pt x="21524" y="3794"/>
                </a:moveTo>
                <a:lnTo>
                  <a:pt x="21524" y="17806"/>
                </a:lnTo>
                <a:lnTo>
                  <a:pt x="23186" y="17806"/>
                </a:lnTo>
                <a:lnTo>
                  <a:pt x="23186" y="3794"/>
                </a:lnTo>
                <a:close/>
              </a:path>
            </a:pathLst>
          </a:custGeom>
          <a:solidFill>
            <a:srgbClr val="00cc66"/>
          </a:solidFill>
          <a:ln w="2556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Александрийский маяк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2500200" y="1357200"/>
            <a:ext cx="4000680" cy="5313600"/>
          </a:xfrm>
          <a:prstGeom prst="rect">
            <a:avLst/>
          </a:prstGeom>
          <a:ln w="0">
            <a:noFill/>
          </a:ln>
        </p:spPr>
      </p:pic>
      <p:sp>
        <p:nvSpPr>
          <p:cNvPr id="248" name="Управляющая кнопка: в конец 4"/>
          <p:cNvSpPr/>
          <p:nvPr/>
        </p:nvSpPr>
        <p:spPr>
          <a:xfrm>
            <a:off x="4286160" y="650088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6463" y="10800"/>
                </a:moveTo>
                <a:lnTo>
                  <a:pt x="5958" y="17806"/>
                </a:lnTo>
                <a:lnTo>
                  <a:pt x="5958" y="3794"/>
                </a:lnTo>
                <a:close/>
              </a:path>
              <a:path fill="darken" w="25929" h="21600">
                <a:moveTo>
                  <a:pt x="18308" y="3794"/>
                </a:moveTo>
                <a:lnTo>
                  <a:pt x="18308" y="17806"/>
                </a:lnTo>
                <a:lnTo>
                  <a:pt x="19971" y="17806"/>
                </a:lnTo>
                <a:lnTo>
                  <a:pt x="19971" y="3794"/>
                </a:lnTo>
                <a:close/>
              </a:path>
            </a:pathLst>
          </a:custGeom>
          <a:solidFill>
            <a:srgbClr val="00cc66"/>
          </a:solidFill>
          <a:ln w="2556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исячие сады Семирамиды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Picture 4" descr="сканирование0003"/>
          <p:cNvPicPr/>
          <p:nvPr/>
        </p:nvPicPr>
        <p:blipFill>
          <a:blip r:embed="rId1"/>
          <a:stretch/>
        </p:blipFill>
        <p:spPr>
          <a:xfrm>
            <a:off x="2000160" y="1571760"/>
            <a:ext cx="4683240" cy="4857480"/>
          </a:xfrm>
          <a:prstGeom prst="rect">
            <a:avLst/>
          </a:prstGeom>
          <a:ln w="0">
            <a:noFill/>
          </a:ln>
        </p:spPr>
      </p:pic>
      <p:sp>
        <p:nvSpPr>
          <p:cNvPr id="251" name="Управляющая кнопка: в конец 4"/>
          <p:cNvSpPr/>
          <p:nvPr/>
        </p:nvSpPr>
        <p:spPr>
          <a:xfrm>
            <a:off x="4214880" y="635796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16452" y="10800"/>
                </a:moveTo>
                <a:lnTo>
                  <a:pt x="5947" y="17806"/>
                </a:lnTo>
                <a:lnTo>
                  <a:pt x="5947" y="3794"/>
                </a:lnTo>
                <a:close/>
              </a:path>
              <a:path fill="darken" w="25907" h="21600">
                <a:moveTo>
                  <a:pt x="18298" y="3794"/>
                </a:moveTo>
                <a:lnTo>
                  <a:pt x="18298" y="17806"/>
                </a:lnTo>
                <a:lnTo>
                  <a:pt x="19960" y="17806"/>
                </a:lnTo>
                <a:lnTo>
                  <a:pt x="19960" y="3794"/>
                </a:lnTo>
                <a:close/>
              </a:path>
            </a:pathLst>
          </a:custGeom>
          <a:solidFill>
            <a:srgbClr val="00cc66"/>
          </a:solidFill>
          <a:ln w="2556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Колосс Родосский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Picture 4" descr="колосс-111"/>
          <p:cNvPicPr/>
          <p:nvPr/>
        </p:nvPicPr>
        <p:blipFill>
          <a:blip r:embed="rId1"/>
          <a:stretch/>
        </p:blipFill>
        <p:spPr>
          <a:xfrm>
            <a:off x="2643120" y="1357200"/>
            <a:ext cx="3598920" cy="5112000"/>
          </a:xfrm>
          <a:prstGeom prst="rect">
            <a:avLst/>
          </a:prstGeom>
          <a:ln w="0">
            <a:noFill/>
          </a:ln>
        </p:spPr>
      </p:pic>
      <p:sp>
        <p:nvSpPr>
          <p:cNvPr id="254" name="Управляющая кнопка: в конец 5"/>
          <p:cNvSpPr/>
          <p:nvPr/>
        </p:nvSpPr>
        <p:spPr>
          <a:xfrm>
            <a:off x="4286160" y="628668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4308" y="10800"/>
                </a:moveTo>
                <a:lnTo>
                  <a:pt x="3803" y="17806"/>
                </a:lnTo>
                <a:lnTo>
                  <a:pt x="3803" y="3794"/>
                </a:lnTo>
                <a:close/>
              </a:path>
              <a:path fill="darken" w="21618" h="21600">
                <a:moveTo>
                  <a:pt x="16153" y="3794"/>
                </a:moveTo>
                <a:lnTo>
                  <a:pt x="16153" y="17806"/>
                </a:lnTo>
                <a:lnTo>
                  <a:pt x="17816" y="17806"/>
                </a:lnTo>
                <a:lnTo>
                  <a:pt x="17816" y="3794"/>
                </a:lnTo>
                <a:close/>
              </a:path>
            </a:pathLst>
          </a:custGeom>
          <a:solidFill>
            <a:srgbClr val="00cc66"/>
          </a:solidFill>
          <a:ln w="2556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9:23:04Z</dcterms:created>
  <dc:creator>12</dc:creator>
  <dc:description/>
  <dc:language>en-US</dc:language>
  <cp:lastModifiedBy>Admin</cp:lastModifiedBy>
  <dcterms:modified xsi:type="dcterms:W3CDTF">2012-01-17T10:01:15Z</dcterms:modified>
  <cp:revision>34</cp:revision>
  <dc:subject/>
  <dc:title>Семь чудес света</dc:title>
</cp:coreProperties>
</file>