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643-91BE-4575-A075-669336CB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211-2C46-4FC5-91E4-2EF8E9BF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2F6-0BC3-4CDB-82C2-361B521C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FC9-C588-4F06-BE19-CAC5DC59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71F3-AC15-4A02-8211-2108E4C8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81D8-9371-4B9B-9527-53519BE4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62CA-C2A2-4234-A1AB-EC4B54CC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A6AA-9F0F-43EF-A277-5425E195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F5BA-0615-4EE7-AC1D-C3DDBABC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7231-AA80-41C9-82E9-38915D3F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BC61-C153-4141-96E0-FDCFE347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5A9-4C9D-42B6-869C-88F3E9B1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12C2-8192-4015-A302-25544CF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4B2B-3E48-4C58-AE47-55F36841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37B1-7A01-430D-B55C-4074FD32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68D4-B463-462F-A066-EBDFBEE6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815C-D6A1-4CE6-AD37-DA6DBA63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015-049E-4387-B1D9-D153CBDA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859-259E-4202-B8DF-1F967EED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279-7EFC-44F3-BD4E-BC2DF77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2B3-BD3C-474C-86C7-71D342EF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19A-F5D7-4175-8091-17153B8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3FC-CF2A-4B97-ACDE-3E44E787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1BB-FCDC-43FF-BD60-AAA4F272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E773-4984-453A-B7C0-491362799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62E4-6374-4C77-A469-447C51FDD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ldmos.ru/upload/photos/3/9/6/800_3960208289dd9d04e1b650bae777b49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gip2008.madi.ru/images/casedr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ahotel-spb.ru/public_file/&#1050;&#1072;&#1079;&#1072;&#1085;&#1089;&#1082;&#1080;&#1081;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rod.tomsk.ru/uploads/34046/1271171820/004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g0.liveinternet.ru/images/attach/c/1/50/800/50800157_Konstantin_Thon_1820th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4000" y="5157360"/>
            <a:ext cx="8172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православн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Острик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79640" y="981000"/>
            <a:ext cx="5472000" cy="4116600"/>
            <a:chOff x="1979640" y="981000"/>
            <a:chExt cx="5472000" cy="411660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1979640" y="981000"/>
              <a:ext cx="5472000" cy="41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1979640" y="981000"/>
              <a:ext cx="5472000" cy="411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 flipV="1" rot="10789200">
            <a:off x="464760" y="256680"/>
            <a:ext cx="86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Храм Христа Спас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иколай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лично избрал место для сооружения храма – на берегу реки Москвы, неподалеку от Кремля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2" descr="Картинка 8 из 1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0280"/>
            <a:ext cx="6235560" cy="4676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56360" y="1989000"/>
            <a:ext cx="2519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Алексеевский монастырь и церковь Всех святых, находившиеся на этом месте были разрушены, монастырь переведен в Соколь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Хронология строительства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Храм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10.09.1839 год – торжественная закладка Х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1841 год – стены выровнены с поверхностью цок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1846 год – сведен свод большого ку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1849 год – установка металлических крыш  и гл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1860 год – разобраны наружные леса; Храм впервые предстал перед на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1881 год – закончены работы по устройству набережной и площади перед Храмо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280" y="5229360"/>
            <a:ext cx="65739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нутренний вид храма Христа Спасителя (1883 г.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956040" cy="487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359240" y="333360"/>
            <a:ext cx="47847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6880" y="5300640"/>
            <a:ext cx="59371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26 мая 1883 года состоялось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Торжественное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освящение Храма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5759280" cy="4176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11040" y="189000"/>
            <a:ext cx="2841840" cy="345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40000" y="4221000"/>
            <a:ext cx="17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ператор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андр III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845-18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320200"/>
            <a:ext cx="6516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70440" y="0"/>
            <a:ext cx="2303280" cy="2924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502320" y="0"/>
            <a:ext cx="2641680" cy="3500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308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июля освящен второй придел – во имя  св. Александра Н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2749680" cy="323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60280"/>
            <a:ext cx="34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июня – освящение придела  во имя  св. Николая Чудотво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708360" y="306864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25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859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 Храме торжественно отмечались коронации, всенародные праздники и юбил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15 августа 1917 года – открытие Поместного собора и обретение Россией своего Патриарха . Им был избран Святейший патриарх Тих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i046.radikal.ru/1104/3d/2e7c065a72ea.jpg"/>
          <p:cNvPicPr/>
          <p:nvPr/>
        </p:nvPicPr>
        <p:blipFill>
          <a:blip r:embed="rId1"/>
          <a:stretch/>
        </p:blipFill>
        <p:spPr>
          <a:xfrm>
            <a:off x="4859280" y="907920"/>
            <a:ext cx="4162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19280" cy="3392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4859280" cy="33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716360" y="3930480"/>
            <a:ext cx="4427640" cy="2927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335772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5 декабря 1931 года Храм-памятник воинской слав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Главный Храм России был варварски уничтоже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404640"/>
            <a:ext cx="80074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юбите, дети, ста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 ее былинными век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 ее старинными церкв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 величию ведшие стран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юб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ти, старину!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.С.Бехте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D:\Мои документы\ОПК\УРОКИ\Основы православной культуры\data\objects\004-005-01-03-pic\pic.png"/>
          <p:cNvPicPr/>
          <p:nvPr/>
        </p:nvPicPr>
        <p:blipFill>
          <a:blip r:embed="rId1"/>
          <a:stretch/>
        </p:blipFill>
        <p:spPr>
          <a:xfrm>
            <a:off x="395280" y="3141720"/>
            <a:ext cx="39956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тавить в честь великих побед благодарственные храмы-памятники – давняя российская традиция. Так появились Покровский и Казанский соборы, церкви на Кулишах и на Яким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Картинка 10 из 953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3543120" cy="446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Картинка 10 из 969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781360"/>
            <a:ext cx="5076720" cy="3048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080" y="609300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окров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21440" y="601992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азан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44640"/>
            <a:ext cx="7380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Памятник мужеству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русского народ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3756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56000" y="1844280"/>
            <a:ext cx="65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Александр I (1801-1825), российский император с 1801 года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097000" cy="237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2924280"/>
            <a:ext cx="8280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В сохранение вечной памяти того беспримерного усердия, верности и любви к Вере и Отечеству, какими в сии трудные времена превознес себя народ российский, и в ознаменование благодарности нашей к Промыслу Божию, спасшему Россию от грозившей ей гибели, вознамерились мы в Первопрестольном граде нашем Москве создать церковь во имя Спасителя Христ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Да благословит Всевышний начинания наши! Да простоит сей храм многие века, и да курится в нем пред святым Престолом Божиим кадило благодарности позднейших родов вместе с любовью и подражаньем к делам их предков!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3440" y="551664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а из царского Маниф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На создание храма-памятника было проведено два конкурс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820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1 конкурс                              2 кон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Русские архитекторы: Русские архитек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2800" spc="-1" strike="noStrike">
                <a:solidFill>
                  <a:srgbClr val="ab0043"/>
                </a:solidFill>
                <a:latin typeface="Arial"/>
              </a:rPr>
              <a:t>Тон К.                               Кваренги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0043"/>
                </a:solidFill>
                <a:latin typeface="Arial"/>
              </a:rPr>
              <a:t>Шестаков Ф.                     Воронихин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0043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ab0043"/>
                </a:solidFill>
                <a:latin typeface="Arial"/>
              </a:rPr>
              <a:t>Татищев А.                        Мельников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0043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ab0043"/>
                </a:solidFill>
                <a:latin typeface="Arial"/>
              </a:rPr>
              <a:t>Кутепов А.                        Витберг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0043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ab0043"/>
                </a:solidFill>
                <a:latin typeface="Arial"/>
              </a:rPr>
              <a:t>Таманский И.                   Стасов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a4f"/>
                </a:solidFill>
                <a:latin typeface="Arial"/>
              </a:rPr>
              <a:t>Государь утвердил проект, представленный архитектором </a:t>
            </a:r>
            <a:r>
              <a:rPr b="1" i="1" lang="ru-RU" sz="2800" spc="-1" strike="noStrike">
                <a:solidFill>
                  <a:srgbClr val="ab0043"/>
                </a:solidFill>
                <a:latin typeface="Arial"/>
              </a:rPr>
              <a:t>А.Л. Витбер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5"/>
          <p:cNvCxnSpPr/>
          <p:nvPr/>
        </p:nvCxnSpPr>
        <p:spPr>
          <a:xfrm flipH="1">
            <a:off x="3347280" y="1196640"/>
            <a:ext cx="429480" cy="5720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7" name="Прямая со стрелкой 6"/>
          <p:cNvCxnSpPr/>
          <p:nvPr/>
        </p:nvCxnSpPr>
        <p:spPr>
          <a:xfrm>
            <a:off x="5143320" y="1214280"/>
            <a:ext cx="643320" cy="5724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врентьевич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тберг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787-1855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3520" cy="4535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84720" y="515772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ект Храма Христа Спасителя. 1817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635280" y="187200"/>
            <a:ext cx="55087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3851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АМ ХРИСТА СПАСИТЕЛЯ НА ВОРОБЬЕВЫХ ГОРАХ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ПО ПРОЕКТУ А.Л. ВИТБЕРГА –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РЖЕСТВЕННАЯ ЦЕРЕМОНИЯ ЗАКЛАДКИ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101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5013360"/>
            <a:ext cx="335916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Николай I (1796–1855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5210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10 апреля 1832 года Император Николай</a:t>
            </a: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 I</a:t>
            </a: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 утвердил новый проект Храма, составленный архитектором К.А. Тоном.</a:t>
            </a:r>
            <a:r>
              <a:rPr b="1" lang="ru-RU" sz="4000" spc="-1" strike="noStrike">
                <a:solidFill>
                  <a:srgbClr val="996600"/>
                </a:solidFill>
                <a:latin typeface="Arial Black"/>
              </a:rPr>
              <a:t>   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2" descr="Картинка 6 из 20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060640"/>
            <a:ext cx="3333600" cy="4190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Картинка 1 из 2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1916280"/>
            <a:ext cx="3413160" cy="424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008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Проект архитектора К. 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61657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Портрет К. Т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Брюллов Н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4:28:18Z</dcterms:created>
  <dc:creator>я</dc:creator>
  <dc:description/>
  <dc:language>en-US</dc:language>
  <cp:lastModifiedBy>я</cp:lastModifiedBy>
  <dcterms:modified xsi:type="dcterms:W3CDTF">2013-05-28T12:40:27Z</dcterms:modified>
  <cp:revision>15</cp:revision>
  <dc:subject/>
  <dc:title>Храм Христа Спасителя. История строительства и освящения. </dc:title>
</cp:coreProperties>
</file>