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8.jpeg" ContentType="image/jpeg"/>
  <Override PartName="/ppt/media/image24.gif" ContentType="image/gif"/>
  <Override PartName="/ppt/media/image32.jpeg" ContentType="image/jpeg"/>
  <Override PartName="/ppt/media/image22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5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4.png" ContentType="image/png"/>
  <Override PartName="/ppt/media/image4.jpeg" ContentType="image/jpe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64A-5EF6-4780-93BA-D81C57E9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6D4-CBBC-4308-9C24-C85301E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9EF-453C-468B-9C72-55B35EE5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71D-CE86-4A80-A11F-B5C925CA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0B21-7C84-4A5F-8839-F73D8E66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C632-25F8-408F-B4FF-848C0D6A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702-C930-4044-BB44-D0644E8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1C54-854D-4667-AB6E-11DBF6C3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060-DA49-4BD8-AC74-56EB40F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9D5F-8AF2-4952-AB93-D4C5A1B4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A000-1BAB-4DDE-9405-2F943D42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1B0-5E68-44A7-B5BC-23999854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879-0CE9-49C6-9AD9-8F0F1CB9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3EF-5DBE-4BE1-A003-441E3A60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FBD5-F417-4FE2-B4FD-E51A57C5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C07A-0F4A-4644-91A8-815D88A0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B2F3-CF09-4A04-B160-854CC7FA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299-3D5E-42D9-BF45-B5E3AA5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0DB-B0FE-47B3-83B8-2CEACA27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36D-4028-4472-8374-AA6BDB07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587-40A9-41A6-92C6-0155A84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A3A-2F42-4A8C-B0DB-39FB2A0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C90-DD49-4472-9278-C767396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A585-C71D-4725-8EA7-F84DBF4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2E7-8484-4538-A1E4-BF4FB6EA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D17A-79F5-462F-910E-4DDC3D4EC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hyperlink" Target="http://openclipart.org/image/800px/svg_to_png/barretr_Pencil.png" TargetMode="External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ncrypted-tbn0.gstatic.com/images?q=tbn:ANd9GcT_BlLtGeLd-PrVVLomcBlj3U87f3-h7R4trxZmc05kHC_Prov2AA" TargetMode="External"/><Relationship Id="rId2" Type="http://schemas.openxmlformats.org/officeDocument/2006/relationships/hyperlink" Target="https://encrypted-tbn0.gstatic.com/images?q=tbn:ANd9GcQQGXkH2jwDPFrs6XzOzfSD8miWa-RF_3YG74vEPOhPEo5Yvli98g" TargetMode="External"/><Relationship Id="rId3" Type="http://schemas.openxmlformats.org/officeDocument/2006/relationships/hyperlink" Target="https://encrypted-tbn3.gstatic.com/images?q=tbn:ANd9GcS75txYSCfQ_LByeo7UTLA0VVunLpDMKCVy1cRyIcg3P5vcmgL7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Автоматизация звука Ш в слогах, словах, предложениях</a:t>
            </a: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. «Лесные игры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502884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огопедическое занятие в 1 класс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КОУ СО «Буткинская специальная (коррекционная) общеобразовательная школа-интернат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ила учитель-логопед Марина Михайловна Мокрин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853240" cy="6629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808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33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4" descr="Untitled-Scanned-20"/>
          <p:cNvPicPr/>
          <p:nvPr/>
        </p:nvPicPr>
        <p:blipFill>
          <a:blip r:embed="rId1"/>
          <a:stretch/>
        </p:blipFill>
        <p:spPr>
          <a:xfrm>
            <a:off x="298440" y="1447920"/>
            <a:ext cx="8845560" cy="44719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2800440" cy="3733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2667240" cy="230796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15" descr=""/>
          <p:cNvPicPr/>
          <p:nvPr/>
        </p:nvPicPr>
        <p:blipFill>
          <a:blip r:embed="rId4"/>
          <a:stretch/>
        </p:blipFill>
        <p:spPr>
          <a:xfrm>
            <a:off x="8305920" y="6019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857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1514520" cy="302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285732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44756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609480"/>
          <a:ext cx="1600200" cy="517680"/>
        </p:xfrm>
        <a:graphic>
          <a:graphicData uri="http://schemas.openxmlformats.org/drawingml/2006/table">
            <a:tbl>
              <a:tblPr/>
              <a:tblGrid>
                <a:gridCol w="533520"/>
                <a:gridCol w="556920"/>
                <a:gridCol w="509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858000" y="1523880"/>
          <a:ext cx="1600200" cy="517320"/>
        </p:xfrm>
        <a:graphic>
          <a:graphicData uri="http://schemas.openxmlformats.org/drawingml/2006/table">
            <a:tbl>
              <a:tblPr/>
              <a:tblGrid>
                <a:gridCol w="533160"/>
                <a:gridCol w="609120"/>
                <a:gridCol w="45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10" descr="Мамкаева 04"/>
          <p:cNvPicPr/>
          <p:nvPr/>
        </p:nvPicPr>
        <p:blipFill>
          <a:blip r:embed="rId4"/>
          <a:srcRect l="0" t="-1793" r="4279" b="0"/>
          <a:stretch/>
        </p:blipFill>
        <p:spPr>
          <a:xfrm>
            <a:off x="2286000" y="5029200"/>
            <a:ext cx="1397160" cy="1447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Мамкаева 08"/>
          <p:cNvPicPr/>
          <p:nvPr/>
        </p:nvPicPr>
        <p:blipFill>
          <a:blip r:embed="rId5"/>
          <a:srcRect l="54650" t="0" r="4828" b="64778"/>
          <a:stretch/>
        </p:blipFill>
        <p:spPr>
          <a:xfrm>
            <a:off x="4114800" y="4343400"/>
            <a:ext cx="1523880" cy="1082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Картинка 30 из 960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259092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6858000" y="2514600"/>
          <a:ext cx="1606320" cy="533160"/>
        </p:xfrm>
        <a:graphic>
          <a:graphicData uri="http://schemas.openxmlformats.org/drawingml/2006/table">
            <a:tbl>
              <a:tblPr/>
              <a:tblGrid>
                <a:gridCol w="534960"/>
                <a:gridCol w="505080"/>
                <a:gridCol w="5662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6676920" y="3505320"/>
            <a:ext cx="24670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828800" y="525780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ша Маша под душем моет шею и у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5105160"/>
            <a:ext cx="800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Мишки шишки, шишки у М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5345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а с ветки в свой домишко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таскивала шишку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лка уронила шишку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годила прямо в ми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онал, заохал мишка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а носу вскочила шишк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76320"/>
            <a:ext cx="64771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71880" y="152280"/>
            <a:ext cx="4914720" cy="6553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90720" y="54864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57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В презентации использованы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9907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s://encrypted-tbn0.gstatic.com/images?q=tbn:ANd9GcT_BlLtGeLd-PrVVLomcBlj3U87f3-h7R4trxZmc05kHC_Prov2A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s://encrypted-tbn0.gstatic.com/images?q=tbn:ANd9GcQQGXkH2jwDPFrs6XzOzfSD8miWa-RF_3YG74vEPOhPEo5Yvli98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s://encrypted-tbn3.gstatic.com/images?q=tbn:ANd9GcS75txYSCfQ_LByeo7UTLA0VVunLpDMKCVy1cRyIcg3P5vcmgL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s://encrypted-tbn2.gstatic.com/images?q=tbn:ANd9GcQIZ2mOMwDGAE-gB_bBcSOumrcobrHdNo8SEUS_c0DrYrX54Zf6L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s://encrypted-tbn3.gstatic.com/images?q=tbn:ANd9GcS5gvvIlg-2RYjNlzYwzNxdvz5tYlKPgoqZmhB8IXuLg0ohoC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s://www.google.ru/search?hl=ru&amp;gs_rn=11&amp;gs_ri=psy-ab&amp;cp=4&amp;gs_id=h&amp;xhr=t&amp;q=маша+и+медведь&amp;newwindow=1&amp;bav=on.2,or.r_qf.&amp;bvm=bv.45580626,d.ZW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олбенко Е. А. Зашифрованные скороговорки. М., 201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оваленко В. В., Коноваленко С.В. Автоматизация звуков у детей. М.,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ирнова Л. Н. Мы учим звуки Ш, С. М. 200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ьник Ю. К. Логопедия. М., 200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3520" y="289080"/>
            <a:ext cx="827568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загруженное (1)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4908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838080" y="548640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«Жду всех в домике лесном, поиграем, отдохнё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337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mages"/>
          <p:cNvPicPr/>
          <p:nvPr/>
        </p:nvPicPr>
        <p:blipFill>
          <a:blip r:embed="rId1"/>
          <a:stretch/>
        </p:blipFill>
        <p:spPr>
          <a:xfrm>
            <a:off x="21337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22096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6172200"/>
            <a:ext cx="381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69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загруженное (2)"/>
          <p:cNvPicPr/>
          <p:nvPr/>
        </p:nvPicPr>
        <p:blipFill>
          <a:blip r:embed="rId1"/>
          <a:stretch/>
        </p:blipFill>
        <p:spPr>
          <a:xfrm>
            <a:off x="457200" y="990720"/>
            <a:ext cx="3076560" cy="4343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артикуляционная гимнастика (лопаточка)"/>
          <p:cNvPicPr/>
          <p:nvPr/>
        </p:nvPicPr>
        <p:blipFill>
          <a:blip r:embed="rId2"/>
          <a:stretch/>
        </p:blipFill>
        <p:spPr>
          <a:xfrm>
            <a:off x="4724280" y="380880"/>
            <a:ext cx="303372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мама\Мои рисунки\глаза\h25.gif"/>
          <p:cNvPicPr/>
          <p:nvPr/>
        </p:nvPicPr>
        <p:blipFill>
          <a:blip r:embed="rId3"/>
          <a:stretch/>
        </p:blipFill>
        <p:spPr>
          <a:xfrm flipH="1">
            <a:off x="4190760" y="3886200"/>
            <a:ext cx="1928520" cy="256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мама\Мои рисунки\глаза\h25.gif"/>
          <p:cNvPicPr/>
          <p:nvPr/>
        </p:nvPicPr>
        <p:blipFill>
          <a:blip r:embed="rId4"/>
          <a:stretch/>
        </p:blipFill>
        <p:spPr>
          <a:xfrm>
            <a:off x="6629400" y="3886200"/>
            <a:ext cx="19288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ages (1)"/>
          <p:cNvPicPr/>
          <p:nvPr/>
        </p:nvPicPr>
        <p:blipFill>
          <a:blip r:embed="rId1"/>
          <a:stretch/>
        </p:blipFill>
        <p:spPr>
          <a:xfrm>
            <a:off x="457200" y="1676520"/>
            <a:ext cx="3581280" cy="331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загруженное (1)"/>
          <p:cNvPicPr/>
          <p:nvPr/>
        </p:nvPicPr>
        <p:blipFill>
          <a:blip r:embed="rId2"/>
          <a:stretch/>
        </p:blipFill>
        <p:spPr>
          <a:xfrm>
            <a:off x="4724280" y="152280"/>
            <a:ext cx="3295800" cy="3733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images (7)"/>
          <p:cNvPicPr/>
          <p:nvPr/>
        </p:nvPicPr>
        <p:blipFill>
          <a:blip r:embed="rId3"/>
          <a:stretch/>
        </p:blipFill>
        <p:spPr>
          <a:xfrm>
            <a:off x="4724280" y="4191120"/>
            <a:ext cx="32004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mages (2)"/>
          <p:cNvPicPr/>
          <p:nvPr/>
        </p:nvPicPr>
        <p:blipFill>
          <a:blip r:embed="rId1"/>
          <a:stretch/>
        </p:blipFill>
        <p:spPr>
          <a:xfrm>
            <a:off x="533520" y="1447920"/>
            <a:ext cx="3504960" cy="3504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артикуляционная гимнастика (лошадка)"/>
          <p:cNvPicPr/>
          <p:nvPr/>
        </p:nvPicPr>
        <p:blipFill>
          <a:blip r:embed="rId2"/>
          <a:stretch/>
        </p:blipFill>
        <p:spPr>
          <a:xfrm>
            <a:off x="5105520" y="533520"/>
            <a:ext cx="3124080" cy="310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ages"/>
          <p:cNvPicPr/>
          <p:nvPr/>
        </p:nvPicPr>
        <p:blipFill>
          <a:blip r:embed="rId3"/>
          <a:stretch/>
        </p:blipFill>
        <p:spPr>
          <a:xfrm>
            <a:off x="5029200" y="3809880"/>
            <a:ext cx="32767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images (3)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артикуляционная гимнастика (чашечка)"/>
          <p:cNvPicPr/>
          <p:nvPr/>
        </p:nvPicPr>
        <p:blipFill>
          <a:blip r:embed="rId2"/>
          <a:stretch/>
        </p:blipFill>
        <p:spPr>
          <a:xfrm>
            <a:off x="1143000" y="3581280"/>
            <a:ext cx="3048120" cy="303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images (5)"/>
          <p:cNvPicPr/>
          <p:nvPr/>
        </p:nvPicPr>
        <p:blipFill>
          <a:blip r:embed="rId3"/>
          <a:stretch/>
        </p:blipFill>
        <p:spPr>
          <a:xfrm>
            <a:off x="6477120" y="1828800"/>
            <a:ext cx="2324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images (4)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319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218448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2971800" y="3657600"/>
            <a:ext cx="234936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images (6)"/>
          <p:cNvPicPr/>
          <p:nvPr/>
        </p:nvPicPr>
        <p:blipFill>
          <a:blip r:embed="rId4"/>
          <a:stretch/>
        </p:blipFill>
        <p:spPr>
          <a:xfrm>
            <a:off x="5715000" y="4419720"/>
            <a:ext cx="30574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6:32:58Z</dcterms:created>
  <dc:creator>марина</dc:creator>
  <dc:description/>
  <dc:language>en-US</dc:language>
  <cp:lastModifiedBy>марина</cp:lastModifiedBy>
  <dcterms:modified xsi:type="dcterms:W3CDTF">2013-04-24T14:16:0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