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4941-C166-4EB5-A860-6E4C88E832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ный 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ина Н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1465-C950-49AB-A6D2-9D2FEA4ED3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F4A-28B9-4ABA-92E5-CE7977C8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341-6B79-4FA9-8A06-0EB00075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92F-A277-4E6A-A222-347BC343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7EC-3DDE-4C46-8710-8FAE8C7E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870-8393-4040-A379-8F8AE99B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2A2-24B2-495D-91E5-3EB645E0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99C-B084-400A-861F-74A3D45F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9DB-EAC7-49D0-A208-832310CE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AFF-E4C3-47DE-A4C4-92029AD9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9C3-6E52-4541-9919-525CC514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A83-D8A1-43B6-82E5-ABD1D612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DEF-31B3-4CAE-85B5-70F6ACFD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1B75-FB3D-49B6-9823-6A6EFC2D7C37}" type="datetime">
              <a:rPr b="0" lang="ru-RU" sz="1200" spc="-1" strike="noStrike">
                <a:solidFill>
                  <a:srgbClr val="bcbcbc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FE1F-78E6-4590-8886-6C15A3914B9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09080" cy="5759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mbria"/>
              </a:rPr>
              <a:t>«ЗЕМНАЯ ЖИЗНЬ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mbria"/>
              </a:rPr>
              <a:t> ПРЕСВЯТОЙ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Cambria"/>
              </a:rPr>
              <a:t> БОГОРОДИЦЫ»</a:t>
            </a:r>
            <a:br>
              <a:rPr sz="6000"/>
            </a:br>
            <a:br>
              <a:rPr sz="6000"/>
            </a:b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РАЗРАБОТА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КЛАССНЫЙ РУКОВОДИТЕЛ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mbria"/>
              </a:rPr>
              <a:t>СИЛИНА Н.Н.</a:t>
            </a:r>
            <a:br>
              <a:rPr sz="60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двух тысячелетий отделяют нас то того дня, когда на свет Божий появилась Пресвятая Дева, которой суждено было стать матерью Иисуса Хрис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BBFAEAAD"/>
          <p:cNvPicPr/>
          <p:nvPr/>
        </p:nvPicPr>
        <p:blipFill>
          <a:blip r:embed="rId1"/>
          <a:srcRect l="36304" t="0" r="0" b="0"/>
          <a:stretch/>
        </p:blipFill>
        <p:spPr>
          <a:xfrm rot="5400000">
            <a:off x="1738440" y="475920"/>
            <a:ext cx="3309840" cy="59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Рисунок 4" descr="AEE85401"/>
          <p:cNvPicPr/>
          <p:nvPr/>
        </p:nvPicPr>
        <p:blipFill>
          <a:blip r:embed="rId2"/>
          <a:srcRect l="29472" t="63021" r="46162" b="13869"/>
          <a:stretch/>
        </p:blipFill>
        <p:spPr>
          <a:xfrm rot="10799400">
            <a:off x="6928920" y="2999880"/>
            <a:ext cx="157176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Прямоугольник 5"/>
          <p:cNvSpPr/>
          <p:nvPr/>
        </p:nvSpPr>
        <p:spPr>
          <a:xfrm>
            <a:off x="1928880" y="5214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лагове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еонардо 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6429240" y="485784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лагове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. Л. Борови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Рождение Христа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3E305C7"/>
          <p:cNvPicPr/>
          <p:nvPr/>
        </p:nvPicPr>
        <p:blipFill>
          <a:blip r:embed="rId1"/>
          <a:srcRect l="16108" t="45890" r="0" b="17292"/>
          <a:stretch/>
        </p:blipFill>
        <p:spPr>
          <a:xfrm rot="10799400">
            <a:off x="1857240" y="1928520"/>
            <a:ext cx="5429520" cy="37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Я ухожу, но вместо Меня прими в свое сердце, расширенное таким страданием, другого сына: всех тех людей, которые ради Меня придут к Тебе и назовут тебя своею Матерью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BB66C7F"/>
          <p:cNvPicPr/>
          <p:nvPr/>
        </p:nvPicPr>
        <p:blipFill>
          <a:blip r:embed="rId1"/>
          <a:srcRect l="18034" t="48634" r="1445" b="9934"/>
          <a:stretch/>
        </p:blipFill>
        <p:spPr>
          <a:xfrm rot="10799400">
            <a:off x="1928880" y="2214360"/>
            <a:ext cx="5500800" cy="3786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E225C1DA"/>
          <p:cNvPicPr/>
          <p:nvPr/>
        </p:nvPicPr>
        <p:blipFill>
          <a:blip r:embed="rId1"/>
          <a:srcRect l="19715" t="16781" r="1199" b="10102"/>
          <a:stretch/>
        </p:blipFill>
        <p:spPr>
          <a:xfrm rot="10799400">
            <a:off x="213840" y="999360"/>
            <a:ext cx="3571920" cy="464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Прямоугольник 5"/>
          <p:cNvSpPr/>
          <p:nvPr/>
        </p:nvSpPr>
        <p:spPr>
          <a:xfrm>
            <a:off x="3929040" y="357120"/>
            <a:ext cx="485784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традание матери по погибшему ребенку несравнимы ни с какими другими мучениями. Ее горе ослепляет . Но вместе с тем оно поднимает ее до высот святости. Каждая женщина, потерявшая ребенка, - святая. И каждая мать – тоже святая, потому что с ней незримо всегда присутствует Пресвятая Богородица – защитница, утешительница, к которой мать прибегает с молитвой и в радости, и в печали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3000"/>
          </a:bodyPr>
          <a:p>
            <a:pPr marL="509040" indent="-382320" algn="ctr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традание матери по погибшему ребенку несравнимы ни с какими другими мучениями. Ее горе ослепляет . Но вместе с тем оно поднимает ее до высот святости. Каждая женщина, потерявшая ребенка, - святая. И каждая мать – тоже святая, потому что с ней незримо всегда присутствует Пресвятая Богородица – защитница, утешительница, к которой мать прибегает с молитвой и в радости, и в печал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560" y="274320"/>
            <a:ext cx="5357880" cy="5226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святая Богородица, защити моего ребенка, помоги ему, молю ТЕБЯ</a:t>
            </a:r>
            <a:br>
              <a:rPr sz="3600"/>
            </a:b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обращается каждая мама к Царице Небесной. Ведь материна молитва идет от чистого сердц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одержимое 3" descr="E30E4EBC"/>
          <p:cNvPicPr/>
          <p:nvPr/>
        </p:nvPicPr>
        <p:blipFill>
          <a:blip r:embed="rId1"/>
          <a:srcRect l="12983" t="11306" r="7695" b="9934"/>
          <a:stretch/>
        </p:blipFill>
        <p:spPr>
          <a:xfrm>
            <a:off x="5643720" y="1143000"/>
            <a:ext cx="3143160" cy="43815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4996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МАТЬ – Земля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МАТЬ – Родина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А где же брали силы земные МАТЕРИ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одержимое 3" descr="66C64432"/>
          <p:cNvPicPr/>
          <p:nvPr/>
        </p:nvPicPr>
        <p:blipFill>
          <a:blip r:embed="rId1"/>
          <a:srcRect l="6968" t="4110" r="0" b="0"/>
          <a:stretch/>
        </p:blipFill>
        <p:spPr>
          <a:xfrm>
            <a:off x="357120" y="928800"/>
            <a:ext cx="3254400" cy="47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" name="Рисунок 4" descr="EC677EE3"/>
          <p:cNvPicPr/>
          <p:nvPr/>
        </p:nvPicPr>
        <p:blipFill>
          <a:blip r:embed="rId2"/>
          <a:srcRect l="8531" t="11300" r="10339" b="47605"/>
          <a:stretch/>
        </p:blipFill>
        <p:spPr>
          <a:xfrm rot="5400000">
            <a:off x="3357000" y="928440"/>
            <a:ext cx="6143760" cy="500076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раморных плитах мемориала навечно высечены имена Девяти братьев Степановых – сыновей Епистинии Федоровны Степановой, колхозницы, солдатской матер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3" descr="15C7ACAE"/>
          <p:cNvPicPr/>
          <p:nvPr/>
        </p:nvPicPr>
        <p:blipFill>
          <a:blip r:embed="rId1"/>
          <a:srcRect l="4325" t="37671" r="0" b="0"/>
          <a:stretch/>
        </p:blipFill>
        <p:spPr>
          <a:xfrm rot="10799400">
            <a:off x="1213560" y="1642320"/>
            <a:ext cx="6643800" cy="47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43280" y="642960"/>
            <a:ext cx="4114800" cy="315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низко кланяемся русской женщине, восхищаясь ее мужеством, добротой и стойкостью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Содержимое 3" descr="59FC4CAC"/>
          <p:cNvPicPr/>
          <p:nvPr/>
        </p:nvPicPr>
        <p:blipFill>
          <a:blip r:embed="rId1"/>
          <a:srcRect l="15940" t="7786" r="45496" b="20896"/>
          <a:stretch/>
        </p:blipFill>
        <p:spPr>
          <a:xfrm>
            <a:off x="357120" y="642960"/>
            <a:ext cx="4143600" cy="5429160"/>
          </a:xfrm>
          <a:prstGeom prst="rect">
            <a:avLst/>
          </a:prstGeom>
          <a:ln w="19080">
            <a:solidFill>
              <a:srgbClr val="0d0d0d"/>
            </a:solidFill>
            <a:miter/>
          </a:ln>
        </p:spPr>
      </p:pic>
      <p:pic>
        <p:nvPicPr>
          <p:cNvPr id="82" name="Picture 2" descr="59FC4CAC"/>
          <p:cNvPicPr/>
          <p:nvPr/>
        </p:nvPicPr>
        <p:blipFill>
          <a:blip r:embed="rId2"/>
          <a:srcRect l="61067" t="8267" r="10361" b="65567"/>
          <a:stretch/>
        </p:blipFill>
        <p:spPr>
          <a:xfrm>
            <a:off x="4941720" y="4071960"/>
            <a:ext cx="3773520" cy="2467080"/>
          </a:xfrm>
          <a:prstGeom prst="rect">
            <a:avLst/>
          </a:prstGeom>
          <a:ln w="12600">
            <a:solidFill>
              <a:srgbClr val="0d0d0d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1071360"/>
            <a:ext cx="4686480" cy="442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й картины я желал бы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вечный зрител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й: чтоб на меня с холста как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облаков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чистая и наш Божественн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аситель-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а с величием. Он с разумом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х -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зирали, кроткие, во славе и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лучах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3" descr="6FFCC60E"/>
          <p:cNvPicPr/>
          <p:nvPr/>
        </p:nvPicPr>
        <p:blipFill>
          <a:blip r:embed="rId1"/>
          <a:srcRect l="41110" t="52401" r="12265" b="5993"/>
          <a:stretch/>
        </p:blipFill>
        <p:spPr>
          <a:xfrm>
            <a:off x="4929120" y="1000080"/>
            <a:ext cx="4000680" cy="4857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E2A2C9CC"/>
          <p:cNvPicPr/>
          <p:nvPr/>
        </p:nvPicPr>
        <p:blipFill>
          <a:blip r:embed="rId1"/>
          <a:srcRect l="17552" t="11474" r="6732" b="7624"/>
          <a:stretch/>
        </p:blipFill>
        <p:spPr>
          <a:xfrm>
            <a:off x="571680" y="1214280"/>
            <a:ext cx="3000240" cy="45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Прямоугольник 4"/>
          <p:cNvSpPr/>
          <p:nvPr/>
        </p:nvSpPr>
        <p:spPr>
          <a:xfrm>
            <a:off x="3857760" y="642960"/>
            <a:ext cx="528624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ла в станице Курганной семья Пилипенко: Филипп Александрович, Александра Алексеевна и 6 сыновей, которые в довоенные годы служили на границе. Ребята были сильными и крепкими, но война не дала порадоваться жизни. И все ушли на фро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Милая  мамочка, постараемся управиться с Гитлером сами, а у вас там, в тылу, много дел. Наш долг – громить врага. Ваш женский долг – растить хлеб, воспитывать детей» - писал младш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войны не вернулись все – шестеро сильных, милых, самых дорогих для матер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8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ее святых сединах –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т тех пожарищ прядь.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Когда стреляли в сына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сегда стреляли в мать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6"/>
          <p:cNvSpPr/>
          <p:nvPr/>
        </p:nvSpPr>
        <p:spPr>
          <a:xfrm>
            <a:off x="428760" y="1773360"/>
            <a:ext cx="871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мое первое слово ребенок сказал – мама. Это слово согревает душу, лечит раны и помогает в беде. Когда человеку плохо, он всегда зовет маму, и только от одного произношения этого слова на душе светле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6715080" y="857160"/>
            <a:ext cx="2214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7400" y="1214280"/>
            <a:ext cx="507204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ь в природе знак святой и вещий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рко обозначенный в веках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ая прекрасная из женщин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нщина с ребенком на руках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3" descr="4E4B636C"/>
          <p:cNvPicPr/>
          <p:nvPr/>
        </p:nvPicPr>
        <p:blipFill>
          <a:blip r:embed="rId1"/>
          <a:stretch/>
        </p:blipFill>
        <p:spPr>
          <a:xfrm>
            <a:off x="500040" y="1071720"/>
            <a:ext cx="3354480" cy="47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357120"/>
            <a:ext cx="9144000" cy="59515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2000"/>
          </a:bodyPr>
          <a:p>
            <a:pPr marL="503640" indent="-378000" algn="ctr">
              <a:lnSpc>
                <a:spcPct val="100000"/>
              </a:lnSpc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entury"/>
              </a:rPr>
              <a:t>«Каждый человек может обратиться к Ней за помощью, как к своей Матери, потому, что ее материнство распространяется на всех на. Матерь Божья -  Мать всего человечества, любящая нас не меньше нашей собственной матери .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4E4B636C"/>
          <p:cNvPicPr/>
          <p:nvPr/>
        </p:nvPicPr>
        <p:blipFill>
          <a:blip r:embed="rId1"/>
          <a:stretch/>
        </p:blipFill>
        <p:spPr>
          <a:xfrm>
            <a:off x="1857240" y="285840"/>
            <a:ext cx="5214960" cy="6286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43628550"/>
          <p:cNvPicPr/>
          <p:nvPr/>
        </p:nvPicPr>
        <p:blipFill>
          <a:blip r:embed="rId1"/>
          <a:srcRect l="26202" t="48977" r="27165" b="12671"/>
          <a:stretch/>
        </p:blipFill>
        <p:spPr>
          <a:xfrm>
            <a:off x="2357280" y="1000080"/>
            <a:ext cx="4572000" cy="4929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:\Дева Мария\Израиль 2008 (75).jpg"/>
          <p:cNvPicPr/>
          <p:nvPr/>
        </p:nvPicPr>
        <p:blipFill>
          <a:blip r:embed="rId1"/>
          <a:stretch/>
        </p:blipFill>
        <p:spPr>
          <a:xfrm>
            <a:off x="1428840" y="1143000"/>
            <a:ext cx="6278400" cy="47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:\Дева Мария\Израиль 2008 (79).jpg"/>
          <p:cNvPicPr/>
          <p:nvPr/>
        </p:nvPicPr>
        <p:blipFill>
          <a:blip r:embed="rId1"/>
          <a:stretch/>
        </p:blipFill>
        <p:spPr>
          <a:xfrm>
            <a:off x="1071720" y="1000080"/>
            <a:ext cx="6887880" cy="516564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ский народ в трудные периоды своей истории, прежде всего, обращается к ней, как к своей управительницы и заступницей перед Господом, и всегда получал помощь</a:t>
            </a:r>
            <a:br>
              <a:rPr sz="14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E9A70341"/>
          <p:cNvPicPr/>
          <p:nvPr/>
        </p:nvPicPr>
        <p:blipFill>
          <a:blip r:embed="rId1"/>
          <a:srcRect l="3607" t="0" r="0" b="5138"/>
          <a:stretch/>
        </p:blipFill>
        <p:spPr>
          <a:xfrm>
            <a:off x="571680" y="1500120"/>
            <a:ext cx="3412800" cy="47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Рисунок 4" descr="5513A84D"/>
          <p:cNvPicPr/>
          <p:nvPr/>
        </p:nvPicPr>
        <p:blipFill>
          <a:blip r:embed="rId2"/>
          <a:srcRect l="0" t="3022" r="0" b="1566"/>
          <a:stretch/>
        </p:blipFill>
        <p:spPr>
          <a:xfrm rot="10799400">
            <a:off x="4857120" y="1499400"/>
            <a:ext cx="3429000" cy="47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3:33:16Z</dcterms:created>
  <dc:creator>Admin</dc:creator>
  <dc:description/>
  <dc:language>en-US</dc:language>
  <cp:lastModifiedBy>DNS</cp:lastModifiedBy>
  <dcterms:modified xsi:type="dcterms:W3CDTF">2013-11-07T16:37:16Z</dcterms:modified>
  <cp:revision>19</cp:revision>
  <dc:subject/>
  <dc:title>Слайд 1</dc:title>
</cp:coreProperties>
</file>