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2A4C-3929-4222-B7F1-E21232B7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1FA-CE2E-49C8-9521-C5686483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C2A-43CE-4211-A579-02D1C6E2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3D7-3EE4-40BD-A107-8312A871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37FA-7310-43BE-BF64-1DDD88E8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E2E5-2205-4F9A-9E87-19D3C0FB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2B0F-C474-4A3F-8989-11D2DE5C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A488-B32B-4794-90C4-6BE9CC2A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CDDE-B960-4A42-A97C-A6D45F65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52DA-AEC3-416C-ABA9-AD789FB6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99C8-5685-4248-875D-74F81A92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0C5-9D0E-4564-BD1F-07210413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A919-BCF7-4BB4-9A90-4EF13B22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EFEB-6BA8-4795-8782-DCCF7302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273D-735D-45A2-9C08-4DF93135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2801-BC9F-4EA6-849F-3A6E62E1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BA9E-5C86-4020-9E86-332EC217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163EE-05C4-40DB-B80E-F4F2D81F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66D89-E966-4F47-AC3C-9912F436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74DA6-D899-4243-A692-E5827679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6D8C1-CD42-4796-9B67-424DF84A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4E509-3166-497E-931D-72476207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9BA-C14F-4198-9B72-0E92A9B9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7DA48-B6E2-4B1F-8F8A-694E63D1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E536E-12C1-4225-8410-E724A3CE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0FB51-8302-46DA-8CA1-29A0C081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8D24B-5C4B-40EC-85DC-AF8CD213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ECFAB-4AEA-4CA7-9F1C-C051A753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1B897-E34F-450D-AEC2-93874B27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0EFAC-3BF0-4BCB-9176-10EDBF74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9391A-17E2-45AD-95C0-34CF9FF3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71FC6-4201-48EE-839B-8FAF1815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450C1-33F2-4385-8C63-CA099BA0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ECA-5033-4A0B-BCAB-4B4BE701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07E58-CC43-42BD-9696-FA0D50C4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7CC17-123F-4007-BA78-F6F2732C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C62CD-76A8-43AA-B1A2-2955791E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67111-5AC8-4CC5-A21C-ECA390D0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7AD9F-6C03-4685-B699-4128CE03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887B1-9D6F-4D6B-A197-8CA799E6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386D6-938E-45BC-87AE-2301D154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ECB97-74D6-45DA-8224-21498CB8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0795E-18FE-41F7-8AFC-4D02BA3F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810-A466-4A2D-8C94-42203B0B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D57-E6CC-4BBD-ACEB-F11E663E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E6C-1332-4EE9-8A4D-A75580D1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39CB-C451-4C62-83BA-38767DB5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6091-2CB8-40BB-823B-D4A53369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9AC2-D252-4520-AB45-3DCC78C976E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5597-D5CC-4DE9-9E63-41813B4F847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D00F-9949-4C1C-85BD-28814FDD55F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6D78-4FA7-48E2-8C2C-B2E87D06CD3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566640"/>
            <a:ext cx="7864560" cy="3926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4857840"/>
            <a:ext cx="78548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читель химии 1 кв.категор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ерновская Ж.Ю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043840" cy="9111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 Black"/>
              </a:rPr>
              <a:t>Опыт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заимодействие железа(скрепк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раствором хлорида меди(11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заимодействие цинка с раствором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ляной кислот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6588000" y="1773360"/>
            <a:ext cx="1714680" cy="164304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pic>
        <p:nvPicPr>
          <p:cNvPr id="221" name="Picture 6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1428840" cy="10666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 Black"/>
              </a:rPr>
              <a:t>Вопрос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В + С = СВ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uCl2 + Fe = FeCl2 + C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Zn + HCl = ZnCl2 + H2 ↑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акие по составу вещества вступили в химическую реакци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акие по составу вещества образовались в процессе реакц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то произошло с веществами в процессе химической реакции точки зрения атомно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молекулярного учени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ак мы можем назвать этот тип химической реакц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ужны ли в этих реакциях коэффициент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20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 Black"/>
                <a:ea typeface="Arial"/>
              </a:rPr>
              <a:t>Вывод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В + С = СВ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uCl2 + Fe = FeCl2 + C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Zn + 2HCl = ZnCl2 + H2 ↑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еакции замещения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заимодействуют одно простое и одно сложное вещества, получаются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вое простое и новое сложное вещест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 Black"/>
              </a:rPr>
              <a:t>Опыт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заимодействие растворов хлорида железа(111) и гидроксида натр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заимодействие растворов сульфата меди(11) и гидроксида натр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4140360" y="2492280"/>
            <a:ext cx="1400040" cy="10288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5148360" y="4724280"/>
            <a:ext cx="1400040" cy="10288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04617b"/>
                </a:solidFill>
                <a:latin typeface="Arial Black"/>
              </a:rPr>
              <a:t>Вопрос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u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+ 2NaOH =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+ Cu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↓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+ 3 NaOH = 3NaCl + Fe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акие по составу вещества вступили в химическую реакци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акие по составу вещества образовались в процессе реакц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то произошло с веществами в процессе химической реакции точки зрения атомно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молекулярного учени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ак мы можем назвать этот тип химической реакц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ужны ли в этих реакциях коэффициент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 Black"/>
                <a:ea typeface="Arial"/>
              </a:rPr>
              <a:t>Вывод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u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+ 2NaOH =N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+ Cu(OH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C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+ 3 NaOH = 3NaCl + Fe(OH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↓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В + СД = АД + ВС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еакции обмена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заимодействуют два сложных вещест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обмениваются свои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авными частя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 Black"/>
              </a:rPr>
              <a:t>Задание: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Arial Black"/>
              </a:rPr>
              <a:t>Определить тип химической реакци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09dd9"/>
            </a:solidFill>
            <a:miter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O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n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O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)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C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l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+ 3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r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= 2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lBr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 Black"/>
              </a:rPr>
              <a:t>Проверка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9360">
            <a:solidFill>
              <a:srgbClr val="009dd9"/>
            </a:solidFill>
            <a:miter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S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+ 2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aOH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акция обме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+ 5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= 2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акция соедин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iO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акция разлож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ZnS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акция соедин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uS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+ 2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aOH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u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)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акция обме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+ 3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= 2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акция соедин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акция разлож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+ 2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eCl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акция замещ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Br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реакц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един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 Black"/>
              </a:rPr>
              <a:t>Итоги урок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341000"/>
            <a:ext cx="8229600" cy="5087880"/>
          </a:xfrm>
          <a:prstGeom prst="rect">
            <a:avLst/>
          </a:prstGeom>
          <a:noFill/>
          <a:ln w="9360">
            <a:solidFill>
              <a:srgbClr val="009dd9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химии существует несколько классификаций реакций, за основу классификации берется какой-либо признак.  Все химические реакции можно классифицировать в зависимости от числа и состава исходных и образующихся веществ. С этой точ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рения принято деление реакций на 4 тип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акции соедин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акции разложен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акции замещ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4617b"/>
              </a:solidFill>
              <a:latin typeface="Arial Black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1692360" y="907920"/>
            <a:ext cx="538164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 Black"/>
              </a:rPr>
              <a:t>Цель урока: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09dd9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Провести опыт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Провести наблюден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Объяснить опыты с позиции атомно – молекулярного учен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Дать классификацию химических реакций по составу и количеству исходных веществ и продуктов реакци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ru-RU" sz="4000" spc="-1" strike="noStrike">
                <a:solidFill>
                  <a:srgbClr val="04617b"/>
                </a:solidFill>
                <a:latin typeface="Arial Black"/>
              </a:rPr>
              <a:t>Спасибо за урок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 Black"/>
              </a:rPr>
              <a:t>Вопросы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9360">
            <a:solidFill>
              <a:srgbClr val="009dd9"/>
            </a:solidFill>
            <a:miter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.Что такое химическая реакци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2.Что происходит с точки зрения атомно- молекулярного учения с веществами в процессе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й реакц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3.Какие признаки химических реакций мы може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блюдат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4.Какие могут быть условия проведени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их реакци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5.Какой закон должен выполняться пр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и химических реакци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6.При помощи каких действий мы можем записать  химическую реакцию верно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137440" cy="1152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04617b"/>
                </a:solidFill>
                <a:latin typeface="Arial Black"/>
              </a:rPr>
              <a:t>Опыт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2214720"/>
            <a:ext cx="8229600" cy="4109760"/>
          </a:xfrm>
          <a:prstGeom prst="rect">
            <a:avLst/>
          </a:prstGeom>
          <a:noFill/>
          <a:ln w="9360">
            <a:solidFill>
              <a:srgbClr val="6bdbfa"/>
            </a:solidFill>
            <a:miter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Горение сер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ым без огн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6156360" y="4508640"/>
            <a:ext cx="2000160" cy="1643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6300720" y="2492280"/>
            <a:ext cx="12956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 Black"/>
              </a:rPr>
              <a:t>Вопрос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+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=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А+В=А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АВ+СД=АВС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акие по составу вещества вступили в химическую реакци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акие по составу вещества образовались в процессе реакц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то произошло с веществами в процессе химической реакции точки зрения атомно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молекулярного учени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ак мы можем назвать этот тип химической реакц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ужны ли в этих реакциях коэффициент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0800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 Black"/>
              </a:rPr>
              <a:t>Вывод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В+СД=АВС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+В=А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еакции соединения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з двух или нескольких веществ получается одно, более сложное вещество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 Black"/>
              </a:rPr>
              <a:t>Опыт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360" y="1773000"/>
            <a:ext cx="8229600" cy="46227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зложение малахит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ложение перекиси водоро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4716360" y="1916280"/>
            <a:ext cx="1623960" cy="1357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6732720" y="1916280"/>
            <a:ext cx="1714320" cy="1428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3"/>
          <a:stretch/>
        </p:blipFill>
        <p:spPr>
          <a:xfrm>
            <a:off x="6227640" y="436572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 Black"/>
              </a:rPr>
              <a:t>Вопрос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Cu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= CuO + H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O + C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= Н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+О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акие по составу вещества вступили в химическую реакци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акие по составу вещества образовались в процессе реакц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то произошло с веществами в процессе химической реакции точки зрения атомно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молекулярного учени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ак мы можем назвать этот тип химической реакц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ужны ли в этих реакциях коэффициент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 Black"/>
                <a:ea typeface="Arial"/>
              </a:rPr>
              <a:t>Вывод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В = А + В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Cu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= CuO + H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O + C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↑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АВС=АВ+С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Н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= Н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+О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еакции разложени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из одного сложного вещества образуются два ил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сколько простых или менее сложны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щест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9:29:34Z</dcterms:created>
  <dc:creator>Жанна</dc:creator>
  <dc:description/>
  <dc:language>en-US</dc:language>
  <cp:lastModifiedBy>Жанна</cp:lastModifiedBy>
  <dcterms:modified xsi:type="dcterms:W3CDTF">2012-03-18T14:00:46Z</dcterms:modified>
  <cp:revision>42</cp:revision>
  <dc:subject/>
  <dc:title>МОУ «Средняя общеобразовательная  русско - татарская школа №147 Авиастроительного района Города Казани Урок химии в 8 классе: Типы химических реакций</dc:title>
</cp:coreProperties>
</file>