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1CB3-FEE4-4E56-AABA-C99D6A904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F6CA-45EF-4E9E-B8F7-A40462B63E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43B6-9768-431F-A6B6-5350515978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D485-2EE6-401D-8076-31C2A4483B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EE82-8FC4-4535-B48A-6F0A28BEB0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7DA-1380-436D-83D0-BF038C480D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4B4E-39A0-4A7F-BF53-038AFBB496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1856-437D-46AB-8304-7427999C92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C44F-094E-4A36-A9C7-48CD30768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ABF0-F574-4748-BB86-D96FCA402A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76A-99C6-4545-A643-40F060F01F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7DA9-FD90-4744-974C-4EE60EB5D8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0E1C-9490-4CA9-8A07-A3F1E63CE8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F50D-929C-45BE-AE72-4A0A29AC21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C9B0-90A8-425F-AA29-312878DA61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93E-EB70-4D97-9872-2E5255FF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8EF-C647-444E-B53A-702A700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699-8D4D-4BDC-AAAB-35F3B76F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250-7DA0-4242-BB8D-FC71FDC0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E82-BF00-4594-BFF1-3E531CBD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154-CEEB-432B-AF02-09166FEC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F85-719E-4532-BD74-D3B883C7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B7D-A34A-4B44-A96B-E158A072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778-ABB9-4E5D-976D-F98C30A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EFE-03CC-4489-8F1E-B9AC6F2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CBC-4BB8-4298-90EC-F128AF8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9E5-3E05-4D43-9AC8-C5DE6F22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E99-FADB-421E-9D6E-A8C983E2A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Я\Pictures\Спящая царевна\Рисунок2.jpg"/>
          <p:cNvPicPr/>
          <p:nvPr/>
        </p:nvPicPr>
        <p:blipFill>
          <a:blip r:embed="rId2"/>
          <a:stretch/>
        </p:blipFill>
        <p:spPr>
          <a:xfrm>
            <a:off x="87480" y="82440"/>
            <a:ext cx="8978760" cy="59374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" descr=""/>
          <p:cNvPicPr/>
          <p:nvPr/>
        </p:nvPicPr>
        <p:blipFill>
          <a:blip r:embed="rId3"/>
          <a:stretch/>
        </p:blipFill>
        <p:spPr>
          <a:xfrm>
            <a:off x="2146320" y="5645160"/>
            <a:ext cx="543096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4"/>
          <a:stretch/>
        </p:blipFill>
        <p:spPr>
          <a:xfrm>
            <a:off x="2023920" y="1584360"/>
            <a:ext cx="5168880" cy="1262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5"/>
          <a:stretch/>
        </p:blipFill>
        <p:spPr>
          <a:xfrm>
            <a:off x="2000160" y="3627360"/>
            <a:ext cx="516888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748800" y="2028960"/>
            <a:ext cx="7527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Кем была старушон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что дала царевне верете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Arial"/>
              </a:rPr>
              <a:t>Есть ли ответ в тексте сказ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Arial"/>
              </a:rPr>
              <a:t>Как можно доказать свою прав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-9360" y="-22320"/>
            <a:ext cx="9153360" cy="6880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:\Спящая царевна\Валентин Ходов из Палеха\0_71b9b_821429c_L.jpg"/>
          <p:cNvPicPr/>
          <p:nvPr/>
        </p:nvPicPr>
        <p:blipFill>
          <a:blip r:embed="rId2"/>
          <a:stretch/>
        </p:blipFill>
        <p:spPr>
          <a:xfrm>
            <a:off x="2214720" y="142920"/>
            <a:ext cx="4779720" cy="65721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2214720" y="3714840"/>
            <a:ext cx="4786200" cy="3000240"/>
          </a:xfrm>
          <a:prstGeom prst="rect">
            <a:avLst/>
          </a:prstGeom>
          <a:solidFill>
            <a:srgbClr val="f3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214720" y="4286160"/>
            <a:ext cx="4786200" cy="2428920"/>
          </a:xfrm>
          <a:prstGeom prst="rect">
            <a:avLst/>
          </a:prstGeom>
          <a:solidFill>
            <a:srgbClr val="f3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И покрыл окрестность б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Из терновника з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Дикий бор тот окружи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Он навек загоро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К дому царскому пу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Долго, долго не на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Никому туда сле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И приблизиться бе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2286000" y="364320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Что произошло в округе за то в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как весь царский двор сп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I:\Спящая царевна\Валентин Ходов из Палеха\0_71b9e_abdf3392_L.jpg"/>
          <p:cNvPicPr/>
          <p:nvPr/>
        </p:nvPicPr>
        <p:blipFill>
          <a:blip r:embed="rId2"/>
          <a:stretch/>
        </p:blipFill>
        <p:spPr>
          <a:xfrm>
            <a:off x="2143080" y="142920"/>
            <a:ext cx="4738680" cy="6572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483640" y="285840"/>
            <a:ext cx="4178160" cy="36828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К какому эпизоду иллюстрац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2203200" y="6072120"/>
            <a:ext cx="4700880" cy="36828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Подберите название к иллюст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167560" y="6072120"/>
            <a:ext cx="4773960" cy="36828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стреча со старинушкой честным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I:\Спящая царевна\Валентин Ходов из Палеха\0_71b9d_24b4116d_L.jpg"/>
          <p:cNvPicPr/>
          <p:nvPr/>
        </p:nvPicPr>
        <p:blipFill>
          <a:blip r:embed="rId2"/>
          <a:stretch/>
        </p:blipFill>
        <p:spPr>
          <a:xfrm>
            <a:off x="2162160" y="162000"/>
            <a:ext cx="4808520" cy="65721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2571840" y="620640"/>
            <a:ext cx="4000320" cy="2741760"/>
          </a:xfrm>
          <a:prstGeom prst="rect">
            <a:avLst/>
          </a:prstGeom>
          <a:solidFill>
            <a:srgbClr val="f3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571840" y="642960"/>
            <a:ext cx="4027320" cy="2865240"/>
          </a:xfrm>
          <a:prstGeom prst="rect">
            <a:avLst/>
          </a:prstGeom>
          <a:solidFill>
            <a:srgbClr val="f3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Много было смельча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(По сказанью стариков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 лес брались они сход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Чтоб царевну разбуди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Даже бились об закла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И ходили — но наза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Не пришел никто. С тех п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 неприступный, страшный 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Ни старик, ни молод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За царевной ни но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571840" y="1285920"/>
            <a:ext cx="4000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К какому фрагменту речи ста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отнесёте вы данную иллюстр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алентина Ход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I:\Спящая царевна\Валентин Ходов из Палеха\0_71b95_2569d8b4_L.jpg"/>
          <p:cNvPicPr/>
          <p:nvPr/>
        </p:nvPicPr>
        <p:blipFill>
          <a:blip r:embed="rId2"/>
          <a:stretch/>
        </p:blipFill>
        <p:spPr>
          <a:xfrm>
            <a:off x="2143080" y="142920"/>
            <a:ext cx="4808520" cy="65721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2900880" y="623736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ех, Валентин 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I:\Спящая царевна\Валентин Ходов из Палеха\0_71b9f_81afb33c_L.jpg"/>
          <p:cNvPicPr/>
          <p:nvPr/>
        </p:nvPicPr>
        <p:blipFill>
          <a:blip r:embed="rId2"/>
          <a:stretch/>
        </p:blipFill>
        <p:spPr>
          <a:xfrm>
            <a:off x="2184480" y="142920"/>
            <a:ext cx="4682880" cy="65721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2484360" y="3573360"/>
            <a:ext cx="4170600" cy="3081600"/>
          </a:xfrm>
          <a:prstGeom prst="rect">
            <a:avLst/>
          </a:prstGeom>
          <a:solidFill>
            <a:srgbClr val="f5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451240" y="3673440"/>
            <a:ext cx="4170240" cy="2873520"/>
          </a:xfrm>
          <a:prstGeom prst="rect">
            <a:avLst/>
          </a:prstGeom>
          <a:solidFill>
            <a:srgbClr val="f5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есь дворец обходит о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Пышно все, но всюду сон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Гробовая тиши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друг глядит: отворе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Дверь в покой; в покое 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ьется лестница вин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круг столба; по ступеня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Он взошел. И что же та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ся душа его кипи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Перед ним царевна сп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334600" y="4500720"/>
            <a:ext cx="44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К какому фрагменту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отнесёте вы данную иллюстр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алентина Ход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как дитя лежит.wma" descr=""/>
          <p:cNvPicPr/>
          <p:nvPr/>
        </p:nvPicPr>
        <p:blipFill>
          <a:blip r:embed="rId3"/>
          <a:stretch/>
        </p:blipFill>
        <p:spPr>
          <a:xfrm>
            <a:off x="228600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203200" y="214200"/>
            <a:ext cx="4700880" cy="36828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Подберите название к иллюст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2187720" y="214200"/>
            <a:ext cx="4751280" cy="36828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стреча царевича с царевной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Я\Pictures\Спящая царевна\Валентин Ходов из Палеха\0_71ba0_26cd5663_L.jpg"/>
          <p:cNvPicPr/>
          <p:nvPr/>
        </p:nvPicPr>
        <p:blipFill>
          <a:blip r:embed="rId2"/>
          <a:stretch/>
        </p:blipFill>
        <p:spPr>
          <a:xfrm>
            <a:off x="1979640" y="115920"/>
            <a:ext cx="5135400" cy="6635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2900880" y="623736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ех, Валентин 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2214720" y="5429160"/>
            <a:ext cx="4572000" cy="916920"/>
          </a:xfrm>
          <a:prstGeom prst="rect">
            <a:avLst/>
          </a:prstGeom>
          <a:solidFill>
            <a:srgbClr val="231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  <a:ea typeface="Arial"/>
              </a:rPr>
              <a:t>Какой фра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  <a:ea typeface="Arial"/>
              </a:rPr>
              <a:t>из услышанного эпиз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  <a:ea typeface="Arial"/>
              </a:rPr>
              <a:t>иллюстрирует художник</a:t>
            </a:r>
            <a:r>
              <a:rPr b="1" lang="ru-RU" sz="1400" spc="-1" strike="noStrike">
                <a:solidFill>
                  <a:srgbClr val="ffffff"/>
                </a:solidFill>
                <a:latin typeface="Constantia"/>
                <a:ea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" descr=""/>
          <p:cNvPicPr/>
          <p:nvPr/>
        </p:nvPicPr>
        <p:blipFill>
          <a:blip r:embed="rId2"/>
          <a:stretch/>
        </p:blipFill>
        <p:spPr>
          <a:xfrm>
            <a:off x="1176480" y="476280"/>
            <a:ext cx="6804000" cy="925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882720" y="226044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rtru.info/ar/2127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798480" y="334476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images.yandex.ru/yandsearch?text=%D0%98%D0%BB%D0%BB%D1%8E%D1%81%D1%82%D1%80%D0%B0%D1%86%D0%B8%D0%B8%20%D0%92.%20%D0%A5%D0%BE%D0%B4%D0%BE%D0%B2%D0%B0%20%D0%BA%20%D1%81%D0%BA%D0%B0%D0%B7%D0%BA%D0%B5%20%D0%A1%D0%BF%D1%8F%D1%89%D0%B0%D1%8F%20%D1%86%D0%B0%D1%80%D0%B5%D0%B2%D0%BD%D0%B0&amp;stype=image&amp;lr=2&amp;noreask=1&amp;source=w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672120" y="1435680"/>
            <a:ext cx="78966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  <a:ea typeface="Calibri"/>
              </a:rPr>
              <a:t>Цель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воспитывать в себе интерес к познанию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создания иллюстраций к произве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художественной литературы для более точного по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содержания художественн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688680" y="3224520"/>
            <a:ext cx="84736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  <a:ea typeface="Calibri"/>
              </a:rPr>
              <a:t>Задачи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через работу с иллюстративным материалом на основе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сказки «Спящая царевна» В.А. Жуко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выйти на более широкое понимание её замыс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используя в качестве работы на уроке презентац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показать на практике, чем может быть вызван инте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Calibri"/>
              </a:rPr>
              <a:t>к созданию иллюстраций к этой сказке у разных худож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1428840" y="571680"/>
            <a:ext cx="6329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Цели и задач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Я\Pictures\Спящая царевна\1191.jpg"/>
          <p:cNvPicPr/>
          <p:nvPr/>
        </p:nvPicPr>
        <p:blipFill>
          <a:blip r:embed="rId2"/>
          <a:stretch/>
        </p:blipFill>
        <p:spPr>
          <a:xfrm>
            <a:off x="3203640" y="182520"/>
            <a:ext cx="2533680" cy="3743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866240" y="5572080"/>
            <a:ext cx="58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и В.А. Жуков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давались неоднократ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иллюстрировались многими художн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Users\Я\Pictures\Спящая царевна\3982400.jpg"/>
          <p:cNvPicPr/>
          <p:nvPr/>
        </p:nvPicPr>
        <p:blipFill>
          <a:blip r:embed="rId3"/>
          <a:stretch/>
        </p:blipFill>
        <p:spPr>
          <a:xfrm>
            <a:off x="539640" y="334800"/>
            <a:ext cx="2114640" cy="323856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  <p:pic>
        <p:nvPicPr>
          <p:cNvPr id="61" name="Picture 5" descr="C:\Users\Я\Pictures\Спящая царевна\2f334.jpg"/>
          <p:cNvPicPr/>
          <p:nvPr/>
        </p:nvPicPr>
        <p:blipFill>
          <a:blip r:embed="rId4"/>
          <a:stretch/>
        </p:blipFill>
        <p:spPr>
          <a:xfrm>
            <a:off x="4754520" y="2846520"/>
            <a:ext cx="2097000" cy="266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Users\Я\Pictures\Спящая царевна\bs0000756440.jpg"/>
          <p:cNvPicPr/>
          <p:nvPr/>
        </p:nvPicPr>
        <p:blipFill>
          <a:blip r:embed="rId5"/>
          <a:stretch/>
        </p:blipFill>
        <p:spPr>
          <a:xfrm>
            <a:off x="6278400" y="368280"/>
            <a:ext cx="2400480" cy="330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Я\Pictures\Спящая царевна\200x320.jpg"/>
          <p:cNvPicPr/>
          <p:nvPr/>
        </p:nvPicPr>
        <p:blipFill>
          <a:blip r:embed="rId6"/>
          <a:stretch/>
        </p:blipFill>
        <p:spPr>
          <a:xfrm>
            <a:off x="7000920" y="3429000"/>
            <a:ext cx="1828800" cy="292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Я\Pictures\Спящая царевна\1012514.jpg"/>
          <p:cNvPicPr/>
          <p:nvPr/>
        </p:nvPicPr>
        <p:blipFill>
          <a:blip r:embed="rId7"/>
          <a:stretch/>
        </p:blipFill>
        <p:spPr>
          <a:xfrm>
            <a:off x="2313000" y="2549520"/>
            <a:ext cx="2259000" cy="29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Я\Pictures\Спящая царевна\V_A_Zhukovskij__V_A_Zhukovskij_Skazki.jpg"/>
          <p:cNvPicPr/>
          <p:nvPr/>
        </p:nvPicPr>
        <p:blipFill>
          <a:blip r:embed="rId8"/>
          <a:stretch/>
        </p:blipFill>
        <p:spPr>
          <a:xfrm>
            <a:off x="357120" y="3143160"/>
            <a:ext cx="1944720" cy="32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Я\Pictures\Спящая царевна\Е.П. Соловьев\pic0007.gif"/>
          <p:cNvPicPr/>
          <p:nvPr/>
        </p:nvPicPr>
        <p:blipFill>
          <a:blip r:embed="rId2"/>
          <a:stretch/>
        </p:blipFill>
        <p:spPr>
          <a:xfrm>
            <a:off x="1062000" y="490680"/>
            <a:ext cx="7020000" cy="5876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067400" y="5857920"/>
            <a:ext cx="4700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эпизод к 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4" descr=""/>
          <p:cNvPicPr/>
          <p:nvPr/>
        </p:nvPicPr>
        <p:blipFill>
          <a:blip r:embed="rId3"/>
          <a:stretch/>
        </p:blipFill>
        <p:spPr>
          <a:xfrm>
            <a:off x="1695600" y="907920"/>
            <a:ext cx="603396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I:\Спящая царевна\Валентин Ходов из Палеха\0_71b97_83223f2_L.jpg"/>
          <p:cNvPicPr/>
          <p:nvPr/>
        </p:nvPicPr>
        <p:blipFill>
          <a:blip r:embed="rId2"/>
          <a:stretch/>
        </p:blipFill>
        <p:spPr>
          <a:xfrm>
            <a:off x="2286000" y="142920"/>
            <a:ext cx="4643280" cy="66117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2556000" y="2936880"/>
            <a:ext cx="4122720" cy="3630600"/>
          </a:xfrm>
          <a:prstGeom prst="rect">
            <a:avLst/>
          </a:prstGeom>
          <a:solidFill>
            <a:srgbClr val="f5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700360" y="2708280"/>
            <a:ext cx="3978360" cy="3960720"/>
          </a:xfrm>
          <a:prstGeom prst="rect">
            <a:avLst/>
          </a:prstGeom>
          <a:solidFill>
            <a:srgbClr val="f5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н, конечно, был пророк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Что сказал — сбылося в срок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очь царица родил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очь прекрасна так была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Что ни в сказке рассказать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и пером не описа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2700360" y="4295880"/>
            <a:ext cx="39783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от царем Матвеем пир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натный дан на целый мир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на пир веселый тот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арь одиннадцать зове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Чародеек молодых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ыло ж всех двенадцать их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о двенадцатой одной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ромоногой, старой, злой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арь на праздник не позва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849760" y="50277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Что же было да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7" descr=""/>
          <p:cNvPicPr/>
          <p:nvPr/>
        </p:nvPicPr>
        <p:blipFill>
          <a:blip r:embed="rId3"/>
          <a:stretch/>
        </p:blipFill>
        <p:spPr>
          <a:xfrm>
            <a:off x="2481120" y="195120"/>
            <a:ext cx="4181760" cy="11638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2500200" y="242892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Что вы скажете о пророчестве р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I:\Спящая царевна\Валентин Ходов из Палеха\0_71b98_a9faaa96_L.jpg"/>
          <p:cNvPicPr/>
          <p:nvPr/>
        </p:nvPicPr>
        <p:blipFill>
          <a:blip r:embed="rId2"/>
          <a:stretch/>
        </p:blipFill>
        <p:spPr>
          <a:xfrm>
            <a:off x="2143080" y="142920"/>
            <a:ext cx="4786200" cy="657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:\Спящая царевна\Валентин Ходов из Палеха\0_71b98_a9faaa96_L - копия.jpg"/>
          <p:cNvPicPr/>
          <p:nvPr/>
        </p:nvPicPr>
        <p:blipFill>
          <a:blip r:embed="rId3"/>
          <a:stretch/>
        </p:blipFill>
        <p:spPr>
          <a:xfrm>
            <a:off x="2198520" y="181080"/>
            <a:ext cx="4643640" cy="31464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2428920" y="3311640"/>
            <a:ext cx="4295880" cy="3324240"/>
          </a:xfrm>
          <a:prstGeom prst="rect">
            <a:avLst/>
          </a:prstGeom>
          <a:solidFill>
            <a:srgbClr val="f3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2214720" y="3270240"/>
            <a:ext cx="4714560" cy="3429000"/>
          </a:xfrm>
          <a:prstGeom prst="rect">
            <a:avLst/>
          </a:prstGeom>
          <a:solidFill>
            <a:srgbClr val="f3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го ж так оплоша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ш разумный царь Матвей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ыло то обидно 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ак, но есть причина тут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 царя двенадцать блюд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рагоценных, золотых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ыло в царских кладовых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готовили обед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А двенадцатого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Кем украдено оно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нать нам это не дано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Что ж тут делать? – царь сказал. 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ак и быть!» И не посла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н на пир старуху зв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2357280" y="6429240"/>
            <a:ext cx="357480" cy="285840"/>
          </a:xfrm>
          <a:prstGeom prst="rect">
            <a:avLst/>
          </a:prstGeom>
          <a:solidFill>
            <a:srgbClr val="f3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2857680" y="2643120"/>
            <a:ext cx="3429000" cy="642600"/>
          </a:xfrm>
          <a:prstGeom prst="rect">
            <a:avLst/>
          </a:prstGeom>
          <a:solidFill>
            <a:srgbClr val="f3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Почему не позвали двенадцатую чародей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-9360" y="-22320"/>
            <a:ext cx="915336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I:\Спящая царевна\Валентин Ходов из Палеха\0_71b99_4723aed2_L.jpg"/>
          <p:cNvPicPr/>
          <p:nvPr/>
        </p:nvPicPr>
        <p:blipFill>
          <a:blip r:embed="rId2"/>
          <a:stretch/>
        </p:blipFill>
        <p:spPr>
          <a:xfrm>
            <a:off x="2286000" y="142920"/>
            <a:ext cx="4572000" cy="65898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286000" y="3786120"/>
            <a:ext cx="4572000" cy="2928960"/>
          </a:xfrm>
          <a:prstGeom prst="rect">
            <a:avLst/>
          </a:prstGeom>
          <a:solidFill>
            <a:srgbClr val="f9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2286000" y="3786120"/>
            <a:ext cx="4572000" cy="2928960"/>
          </a:xfrm>
          <a:prstGeom prst="rect">
            <a:avLst/>
          </a:prstGeom>
          <a:solidFill>
            <a:srgbClr val="f9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незваная 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д царевной и ворч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На пиру я не бы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о подарок прине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 шестнадцат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встречаешь ты бе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этом возрасте сво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уку ты верет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царапаешь, мой св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умрёшь во цвете ле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928960" y="3214800"/>
            <a:ext cx="3571920" cy="91692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Как отреагировала чарод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на решение ц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766440" y="928800"/>
            <a:ext cx="74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Что вы скаж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о предсказании чародей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638640" y="2571840"/>
            <a:ext cx="83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Как об этом говорит сам авт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071800" y="4214880"/>
            <a:ext cx="5143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Arial"/>
              </a:rPr>
              <a:t>Проворчавши так, тотчас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onstantia"/>
                <a:ea typeface="Arial"/>
              </a:rPr>
              <a:t>Ведьма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  <a:ea typeface="Arial"/>
              </a:rPr>
              <a:t> скрылася из гла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:\Users\Я\Pictures\Спящая царевна\0_643ca_d6435f6e_XX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I:\Спящая царевна\Валентин Ходов из Палеха\0_71b9a_9ba9eb09_L.jpg"/>
          <p:cNvPicPr/>
          <p:nvPr/>
        </p:nvPicPr>
        <p:blipFill>
          <a:blip r:embed="rId2"/>
          <a:stretch/>
        </p:blipFill>
        <p:spPr>
          <a:xfrm>
            <a:off x="2143080" y="142920"/>
            <a:ext cx="4633920" cy="6572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2143080" y="142920"/>
            <a:ext cx="4572000" cy="703800"/>
          </a:xfrm>
          <a:prstGeom prst="rect">
            <a:avLst/>
          </a:prstGeom>
          <a:solidFill>
            <a:srgbClr val="f5d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Сколько времени прош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с момента рождения царев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2863440" y="6357960"/>
            <a:ext cx="3510720" cy="36828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Вот уж ей пятнадцать ле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2412360" y="3286080"/>
            <a:ext cx="4178160" cy="368280"/>
          </a:xfrm>
          <a:prstGeom prst="rect">
            <a:avLst/>
          </a:prstGeom>
          <a:solidFill>
            <a:srgbClr val="f5d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К какому эпизоду иллюстрац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2:28:47Z</dcterms:created>
  <dc:creator>Валентина</dc:creator>
  <dc:description/>
  <dc:language>en-US</dc:language>
  <cp:lastModifiedBy>Я</cp:lastModifiedBy>
  <dcterms:modified xsi:type="dcterms:W3CDTF">2013-11-12T23:14:28Z</dcterms:modified>
  <cp:revision>11</cp:revision>
  <dc:subject/>
  <dc:title>Слайд 1</dc:title>
</cp:coreProperties>
</file>