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3B3-97EA-4D10-AB13-CC6EBF4A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C5C-55ED-4A12-BFC5-E56BFB22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EA5-C23E-4927-B276-6B9C4469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E74-4CE9-40DA-A643-646A7D11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978-A650-43E7-85BB-ECD66B1B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FB8-DAD5-47D8-80A6-B232581A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7A8-586E-4FFE-91F8-9EC78ADA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786-24D5-4FC5-BF0F-A724EF53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2B2-6898-47FA-8E71-53067010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A56-F7EC-424D-95CB-A3E7F724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CB3-6103-4CCA-AEE9-439F3490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BA9-5252-4D7C-8107-900FF327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3C0B-8EA0-44E3-BFB7-60EA27B33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л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108000" y="476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БОУ СПО «Ленинск-Кузнецки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ческий технику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5508720" y="3770280"/>
            <a:ext cx="3384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 хим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ишина Еле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2301840" y="5300640"/>
            <a:ext cx="47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нинск – Кузнецкий городской окру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11280" y="333360"/>
          <a:ext cx="7632720" cy="6048360"/>
        </p:xfrm>
        <a:graphic>
          <a:graphicData uri="http://schemas.openxmlformats.org/drawingml/2006/table">
            <a:tbl>
              <a:tblPr/>
              <a:tblGrid>
                <a:gridCol w="144144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чем содержа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га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баль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ибд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жир, виноград, тыква, кабачки, хре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чки, тыква, свекла, фасоль, горох, картофель, инжир, курага, виноград, облепиха, сухофрук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блоки, слива, виноград, облепиха, клюква, ежевика, свёкла, баклажан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юк, курага, чернослив, изюм, абрикосы, персики, сливы, яблоки, апельсины, бананы, смородина, малина, огурцы, картофель, горох, фасоль, капуста, морковь, редис, петрушка, укроп, лу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лажаны, клюква, манг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ква, виноград, авокад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яжья печень, соя, фасоль, горо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блоки, киви, гранаты, виноград, абрикосы, изюм, крыжовник, облепиха, цветная капуста, кабачки, кукуруза, укроп, молочнокислые продук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блоки, малина, ежевика, крыжовник, клюква, виноград, баклажаны, шампиньон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9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Корроз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процесс самопроизвольного разрушения металлов и сплав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 влиянием внешней сред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от лат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osio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разъедание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358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ияние недостатка и избытка ионов металлов на состояние растений и животны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692280"/>
          <a:ext cx="9144000" cy="6216480"/>
        </p:xfrm>
        <a:graphic>
          <a:graphicData uri="http://schemas.openxmlformats.org/drawingml/2006/table">
            <a:tbl>
              <a:tblPr/>
              <a:tblGrid>
                <a:gridCol w="1835280"/>
                <a:gridCol w="3600360"/>
                <a:gridCol w="370836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металла в организм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9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Натр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аг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Каль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Алюми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Марга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Желез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Мед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Кобаль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Цин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Молибден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животных – мышечные боли, слабость. У растений – торможение образования хлорофилл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растений – мраморность листьев. У животных – травяная тетания (оцепенение, судорога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животных – остеопороз (костное заболевание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растений – хлороз. У птиц – нарушения развития крылье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растений – хлороз, замедление образования хлорофилла. У животных – анемические явл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животных – анем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животных – анем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левания растени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левания бобовых растени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особых форм растени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человека – гипертония. У растений – развитие галофитных форм (приспособленность к обитанию в условиях высокой солености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человека возможно отравление магнием (паралич дыхания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агонист магния, применяют при отравлении магние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особых форм растений. У человека – снижение умственных способносте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развития растений. В высоких степенях окисления сильно токсичен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больших количествах токсично для животных и растени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овышенной концентрации токсично для животных и растени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ен для животных и растени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избытке в почвах – заболевания скот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6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одействие металл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 кислород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железо с кислородом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669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аимодействие металлов с кислородом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Fe + 2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езная окалина – это смесь двух оксидов: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O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11280" y="2781360"/>
            <a:ext cx="79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ислородом воздуха взаимодействуют щелочные и щелочноземельные метал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Li + 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→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→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 и платиновые металлы не окисляются кислородом воздуха ни при каки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68360" y="2205000"/>
            <a:ext cx="8064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заимодействие металлов с неметаллами, с образованием оксидов, хлоридов, сульфид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, 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AL + 3C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→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95280" y="2276640"/>
            <a:ext cx="77058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Взаимодействие металлов с вод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a + 2HOH→2NaOH +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+ 2HOH→Ca(O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Fe + 4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→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Взаимодействие металл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кислотам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roduce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0809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 физические  и химические свойства металл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ыяснить значение металлов в  жизни челове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539640" y="2565360"/>
            <a:ext cx="84218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Взаимодействие металлов с кислот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 + 2HCL → Zn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539640" y="2276640"/>
            <a:ext cx="7993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 Взаимодействие металлов с соля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жел и сульф меди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00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539640" y="2276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Взаимодействие металлов с сол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 + Cu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 Fe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гадайте кроссв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765000"/>
          <a:ext cx="8229600" cy="362772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51840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Text Box 569"/>
          <p:cNvSpPr/>
          <p:nvPr/>
        </p:nvSpPr>
        <p:spPr>
          <a:xfrm>
            <a:off x="324000" y="4508640"/>
            <a:ext cx="864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й из данных металлов является лучшим проводником электричества: Медь, Марганец, Ртуть, Свине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аимодействие кальция с соляной кислотой относится к реакциям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   Жидкий метал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лько электронов содержит на внешнем энергетическом уровне атом маг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ым распространенным металлом в земной коре являетс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каким космическим телом ассоциировалась в древности золот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    Сколько электронов на внешнем энергетическом уровне имеет свинец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гадайте кроссв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765000"/>
          <a:ext cx="8229600" cy="362772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51840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Text Box 94"/>
          <p:cNvSpPr/>
          <p:nvPr/>
        </p:nvSpPr>
        <p:spPr>
          <a:xfrm>
            <a:off x="324000" y="4508640"/>
            <a:ext cx="864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й из данных металлов является лучшим проводником электричества: Медь, Марганец, Ртуть, Свине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аимодействие кальция с соляной кислотой относится к реакциям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   Жидкий метал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лько электронов содержит на внешнем энергетическом уровне атом маг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ым распространенным металлом в земной коре являетс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каким космическим телом ассоциировалась в древности золот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    Сколько электронов на внешнем энергетическом уровне имеет свинец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b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471600" y="1413000"/>
            <a:ext cx="828036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Габриелян, О.С. Химия для профессий и специальностей технического профиля: учебник [Текст]  ∕ О.С. Габриелян, И.Г. Остроумов. – 5-е изд., стереотип. – М.: Академия, 2012. – 256 с., цв. 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Горковенко, М.Ю. Поурочные разработки по химии 9 класс: учебно-методическое пособие [Текст] / М.Ю. Горковенко. – М.: Вако,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Денисова В.Г. Химия: учебно-методическое пособие [Текст] / В.Г. Денисова. – Волгоград.: Учитель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Ланина И.Я. Развитие интереса школьника к предмету [Текст]/И.Я.Ланина. - М.:Просвещение,2001.-24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Фестиваль педагогических идей «Открытый урок» [Электронный ресурс].- Режим доступ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iv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362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етал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ковкие, пластичные,                                                   тягучие вещества, которые имеют металлический блеск и способны проводить тепло и электрический т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7C7DBBFA"/>
          <p:cNvPicPr/>
          <p:nvPr/>
        </p:nvPicPr>
        <p:blipFill>
          <a:blip r:embed="rId1">
            <a:lum contrast="12000"/>
          </a:blip>
          <a:srcRect l="26558" t="7596" r="27797" b="63884"/>
          <a:stretch/>
        </p:blipFill>
        <p:spPr>
          <a:xfrm>
            <a:off x="1332000" y="476280"/>
            <a:ext cx="7056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Д. И. Менделеева.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211400" y="1738440"/>
            <a:ext cx="7111800" cy="4870440"/>
          </a:xfrm>
          <a:prstGeom prst="rect">
            <a:avLst/>
          </a:prstGeom>
          <a:ln w="0">
            <a:noFill/>
          </a:ln>
        </p:spPr>
      </p:pic>
      <p:sp>
        <p:nvSpPr>
          <p:cNvPr id="51" name="Line 4"/>
          <p:cNvSpPr/>
          <p:nvPr/>
        </p:nvSpPr>
        <p:spPr>
          <a:xfrm>
            <a:off x="3564000" y="2852640"/>
            <a:ext cx="252072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ние №1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из веществ, названных в приведенном стихотворении, не относится к металлам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 металлов создал с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числу семи план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ь, железо, серебр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 нам космос на доб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лато, олово, свинец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ын мой, сера – их от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еще ты должен зн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м им ртуть – родная м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ние №2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каком свойстве металлов говорится в приведенных строка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адский луч, как молния бо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мое лезвие злодею в очи блещ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, озираясь, он трепещ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 своих пи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556000" y="30855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→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3585618"/>
          <p:cNvPicPr/>
          <p:nvPr/>
        </p:nvPicPr>
        <p:blipFill>
          <a:blip r:embed="rId1"/>
          <a:srcRect l="38863" t="11113" r="4761" b="44834"/>
          <a:stretch/>
        </p:blipFill>
        <p:spPr>
          <a:xfrm>
            <a:off x="755640" y="189000"/>
            <a:ext cx="7272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8:25:18Z</dcterms:created>
  <dc:creator>Emachines</dc:creator>
  <dc:description/>
  <dc:language>en-US</dc:language>
  <cp:lastModifiedBy>Elena</cp:lastModifiedBy>
  <dcterms:modified xsi:type="dcterms:W3CDTF">2014-05-25T11:51:32Z</dcterms:modified>
  <cp:revision>23</cp:revision>
  <dc:subject/>
  <dc:title>Слайд 1</dc:title>
</cp:coreProperties>
</file>