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9.gif" ContentType="image/gif"/>
  <Override PartName="/ppt/media/image8.png" ContentType="image/png"/>
  <Override PartName="/ppt/media/image7.jpeg" ContentType="image/jpeg"/>
  <Override PartName="/ppt/media/image18.jpeg" ContentType="image/jpeg"/>
  <Override PartName="/ppt/media/image15.jpeg" ContentType="image/jpeg"/>
  <Override PartName="/ppt/media/image14.gif" ContentType="image/gif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1.gif" ContentType="image/gif"/>
  <Override PartName="/ppt/media/image6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9CFF1-D05F-49BE-843C-C7E12E2D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501C3-4D60-40CD-9FAC-E3089251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B279-0874-4B22-9E8C-856FC69D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932C-C9F9-41A8-ABB4-BEE39D1C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FE3F-75E1-4D8B-A2C1-57DA8F20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E704-5121-4F66-9730-665FEE27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70F2-11D5-406B-BACE-FF5A656C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1E07-4887-4426-A7E0-1A6C2D8E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E79B-5D01-4FF5-83C8-94984B01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4A5B-F5FC-4345-9BAE-9CBA8D79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29EE-6285-42B7-816F-D0D9583C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DDFE6-9FD6-4F4B-B3E3-77536C82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7EA2-85AA-404A-880F-BA9A4BDC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1BF8-BC40-4AC5-8879-158E0BBE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5DC8-C23C-489D-8B8A-4285D662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6F69-1293-44D3-945B-3410D474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E607-F1A2-45E8-9468-018678A6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65856-ECC6-4FD1-9031-9584E6CA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63AA6-1C93-4528-B308-72391D44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FA5A0-6DB0-4E96-A0DA-A8363645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4A64-45B5-46C0-8AA4-E13A8331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73ECF-3575-43B4-A494-E9C30C29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66660-B598-4E3D-8E42-202A281F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38538-343D-4189-A19B-A91488EA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2440" y="82440"/>
            <a:ext cx="8979120" cy="6540480"/>
            <a:chOff x="82440" y="82440"/>
            <a:chExt cx="8979120" cy="6540480"/>
          </a:xfrm>
        </p:grpSpPr>
        <p:grpSp>
          <p:nvGrpSpPr>
            <p:cNvPr id="1" name=""/>
            <p:cNvGrpSpPr/>
            <p:nvPr/>
          </p:nvGrpSpPr>
          <p:grpSpPr>
            <a:xfrm>
              <a:off x="82440" y="82440"/>
              <a:ext cx="444600" cy="6540480"/>
              <a:chOff x="82440" y="82440"/>
              <a:chExt cx="444600" cy="6540480"/>
            </a:xfrm>
          </p:grpSpPr>
          <p:sp>
            <p:nvSpPr>
              <p:cNvPr id="2" name=""/>
              <p:cNvSpPr/>
              <p:nvPr/>
            </p:nvSpPr>
            <p:spPr>
              <a:xfrm>
                <a:off x="82440" y="824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5405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2440" y="5396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618ff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2440" y="9968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00968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440" y="14540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ff500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2440" y="19112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aec5e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440" y="23684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5405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2440" y="28256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618ff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2440" y="32828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00968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2440" y="37400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ff500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2440" y="41972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aec5e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2440" y="46544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5405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2440" y="51116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618ff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2440" y="55688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00968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2440" y="60260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ff500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616960" y="82440"/>
              <a:ext cx="444600" cy="6540480"/>
              <a:chOff x="8616960" y="82440"/>
              <a:chExt cx="444600" cy="6540480"/>
            </a:xfrm>
          </p:grpSpPr>
          <p:sp>
            <p:nvSpPr>
              <p:cNvPr id="17" name=""/>
              <p:cNvSpPr/>
              <p:nvPr/>
            </p:nvSpPr>
            <p:spPr>
              <a:xfrm>
                <a:off x="8616960" y="824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5405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16960" y="5396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618ff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616960" y="9968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00968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16960" y="14540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ff500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616960" y="19112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aec5e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616960" y="23684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5405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16960" y="28256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618ff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616960" y="32828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00968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616960" y="37400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ff500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616960" y="41972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aec5e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616960" y="46544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5405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616960" y="51116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618ff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616960" y="55688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00968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616960" y="60260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ff500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8ff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6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96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68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68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68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A343-7CAF-48F2-9C73-43522162C120}" type="slidenum">
              <a:rPr b="0" lang="en-US" sz="1400" spc="-1" strike="noStrike">
                <a:solidFill>
                  <a:srgbClr val="00968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68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68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82440" y="82440"/>
            <a:ext cx="8979120" cy="6540480"/>
            <a:chOff x="82440" y="82440"/>
            <a:chExt cx="8979120" cy="6540480"/>
          </a:xfrm>
        </p:grpSpPr>
        <p:grpSp>
          <p:nvGrpSpPr>
            <p:cNvPr id="73" name=""/>
            <p:cNvGrpSpPr/>
            <p:nvPr/>
          </p:nvGrpSpPr>
          <p:grpSpPr>
            <a:xfrm>
              <a:off x="82440" y="82440"/>
              <a:ext cx="444600" cy="6540480"/>
              <a:chOff x="82440" y="82440"/>
              <a:chExt cx="444600" cy="6540480"/>
            </a:xfrm>
          </p:grpSpPr>
          <p:sp>
            <p:nvSpPr>
              <p:cNvPr id="74" name=""/>
              <p:cNvSpPr/>
              <p:nvPr/>
            </p:nvSpPr>
            <p:spPr>
              <a:xfrm>
                <a:off x="82440" y="824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5405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2440" y="5396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618ff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2440" y="9968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00968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2440" y="14540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ff500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2440" y="19112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aec5e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2440" y="23684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5405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2440" y="28256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618ff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2440" y="32828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00968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2440" y="37400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ff500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2440" y="41972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aec5e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2440" y="46544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5405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2440" y="51116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618ff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2440" y="55688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00968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2440" y="60260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ff500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8616960" y="82440"/>
              <a:ext cx="444600" cy="6540480"/>
              <a:chOff x="8616960" y="82440"/>
              <a:chExt cx="444600" cy="6540480"/>
            </a:xfrm>
          </p:grpSpPr>
          <p:sp>
            <p:nvSpPr>
              <p:cNvPr id="89" name=""/>
              <p:cNvSpPr/>
              <p:nvPr/>
            </p:nvSpPr>
            <p:spPr>
              <a:xfrm>
                <a:off x="8616960" y="824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5405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616960" y="5396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618ff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616960" y="9968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00968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616960" y="14540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ff500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616960" y="19112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aec5e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616960" y="23684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5405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616960" y="28256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618ff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616960" y="32828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00968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616960" y="37400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ff500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616960" y="41972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aec5e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616960" y="46544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e5405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616960" y="51116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618ffd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616960" y="55688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00968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616960" y="6026040"/>
                <a:ext cx="444600" cy="596880"/>
              </a:xfrm>
              <a:prstGeom prst="parallelogram">
                <a:avLst>
                  <a:gd name="adj" fmla="val 42852"/>
                </a:avLst>
              </a:prstGeom>
              <a:solidFill>
                <a:srgbClr val="ff5008"/>
              </a:solidFill>
              <a:ln w="1260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9688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8ff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68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68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68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68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68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8107-941D-4C50-824B-2A5A29CB35D2}" type="slidenum">
              <a:rPr b="0" lang="en-US" sz="1400" spc="-1" strike="noStrike">
                <a:solidFill>
                  <a:srgbClr val="00968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hyperlink" Target="http://www.skachcom.ru/pictures/3733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uctt.ru/spasti/images/erlarge/kish/kish1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rkutsk.ru/remschool/galerei/rezba5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beresta.co.cc/img/masterskaya/domovoy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file.interdeti.ru/photo/00/15/1551/vo9hrk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file.interdeti.ru/photo/00/15/1551/vo9hrk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alend.ru/img/content_images/i0/109_o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8ffd"/>
                </a:solidFill>
                <a:latin typeface="Arial"/>
              </a:rPr>
              <a:t>НАЧИНАЕТСЯ УРОК,</a:t>
            </a:r>
            <a:br>
              <a:rPr sz="3600"/>
            </a:br>
            <a:r>
              <a:rPr b="0" lang="en-US" sz="3600" spc="-1" strike="noStrike">
                <a:solidFill>
                  <a:srgbClr val="618ffd"/>
                </a:solidFill>
                <a:latin typeface="Arial"/>
              </a:rPr>
              <a:t>ОН ПОЙДЁТ РЕБЯТАМ ВПРОК.</a:t>
            </a:r>
            <a:br>
              <a:rPr sz="3600"/>
            </a:br>
            <a:r>
              <a:rPr b="0" lang="en-US" sz="3600" spc="-1" strike="noStrike">
                <a:solidFill>
                  <a:srgbClr val="618ffd"/>
                </a:solidFill>
                <a:latin typeface="Arial"/>
              </a:rPr>
              <a:t>ПОСТАРАЮСЬ ВСЁ ПОНЯТЬ,</a:t>
            </a:r>
            <a:br>
              <a:rPr sz="3600"/>
            </a:br>
            <a:r>
              <a:rPr b="0" lang="en-US" sz="3600" spc="-1" strike="noStrike">
                <a:solidFill>
                  <a:srgbClr val="618ffd"/>
                </a:solidFill>
                <a:latin typeface="Arial"/>
              </a:rPr>
              <a:t>БУДУ ПРАВИЛЬНО РЕШАТЬ!</a:t>
            </a:r>
            <a:endParaRPr b="0" lang="en-US" sz="36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141720"/>
            <a:ext cx="7772400" cy="82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68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68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68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688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73480" y="3429000"/>
            <a:ext cx="259704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c0d2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2016000" cy="2160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4f123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eaec5e"/>
              </a:gs>
              <a:gs pos="100000">
                <a:srgbClr val="6b6c2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 advTm="1000">
    <p:comb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185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18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193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197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eaec5e"/>
              </a:gs>
              <a:gs pos="100000">
                <a:srgbClr val="6b6c2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214" dur="3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08360" y="4292640"/>
            <a:ext cx="18734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224" dur="3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PieSlice"/>
          <p:cNvSpPr/>
          <p:nvPr/>
        </p:nvSpPr>
        <p:spPr>
          <a:xfrm>
            <a:off x="1547640" y="404640"/>
            <a:ext cx="6912000" cy="619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27"/>
                </a:moveTo>
                <a:arcTo wR="10800" hR="10800" stAng="-23329" swAng="-21576671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9688"/>
          </a:solidFill>
          <a:ln w="936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242" dur="5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59280" y="4221000"/>
            <a:ext cx="2520720" cy="21607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419 L -0.00382 -0.61609 E">
                                      <p:cBhvr>
                                        <p:cTn id="248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60823 L -0.00382 0.08418 E">
                                      <p:cBhvr>
                                        <p:cTn id="251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95280" y="2492280"/>
            <a:ext cx="2376360" cy="208908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3423E-006 L 0.66944 0.00532 E">
                                      <p:cBhvr>
                                        <p:cTn id="257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pat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0532 L -3.33333E-006 -0.00509 E">
                                      <p:cBhvr>
                                        <p:cTn id="260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780000" y="2708280"/>
            <a:ext cx="1655640" cy="1512720"/>
          </a:xfrm>
          <a:prstGeom prst="ellipse">
            <a:avLst/>
          </a:prstGeom>
          <a:gradFill rotWithShape="0">
            <a:gsLst>
              <a:gs pos="0">
                <a:srgbClr val="e03c82"/>
              </a:gs>
              <a:gs pos="100000">
                <a:srgbClr val="671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518240" y="5533920"/>
            <a:ext cx="1203480" cy="1022400"/>
          </a:xfrm>
          <a:prstGeom prst="ellipse">
            <a:avLst/>
          </a:prstGeom>
          <a:solidFill>
            <a:srgbClr val="e03c82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97000" y="6264000"/>
            <a:ext cx="8596080" cy="9036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000" y="5543640"/>
            <a:ext cx="8550000" cy="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000" y="4824360"/>
            <a:ext cx="8550000" cy="4464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4103640"/>
            <a:ext cx="8642160" cy="4608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7000" y="3384720"/>
            <a:ext cx="8596080" cy="4428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7000" y="2664000"/>
            <a:ext cx="8596080" cy="4428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50920" y="1942920"/>
            <a:ext cx="8686800" cy="4572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97000" y="1223640"/>
            <a:ext cx="8596080" cy="4428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41280" y="549000"/>
            <a:ext cx="8505720" cy="4428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5040" y="0"/>
            <a:ext cx="8856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8588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0660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912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4984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34040" y="0"/>
            <a:ext cx="6012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1488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3740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5812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120160" y="0"/>
            <a:ext cx="11880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90100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336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3120" y="5894280"/>
            <a:ext cx="8597880" cy="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2552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9776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4624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6876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429000" y="0"/>
            <a:ext cx="6048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5116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7188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43000" y="5232240"/>
            <a:ext cx="8597880" cy="6048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000" y="4451400"/>
            <a:ext cx="8658000" cy="6012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3716280"/>
            <a:ext cx="8658000" cy="6048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3000" y="3008160"/>
            <a:ext cx="8658000" cy="6048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50920" y="2276280"/>
            <a:ext cx="8658000" cy="6012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50920" y="1557360"/>
            <a:ext cx="8742240" cy="7128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3120" y="842760"/>
            <a:ext cx="8597880" cy="6012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43000" y="242640"/>
            <a:ext cx="8658000" cy="5868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54520" y="0"/>
            <a:ext cx="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5240" y="0"/>
            <a:ext cx="6048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758000" y="0"/>
            <a:ext cx="6048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540640" y="0"/>
            <a:ext cx="60480" cy="6858000"/>
          </a:xfrm>
          <a:prstGeom prst="line">
            <a:avLst/>
          </a:prstGeom>
          <a:ln w="57240">
            <a:solidFill>
              <a:srgbClr val="00968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10916E-006 L -0.78264 -0.784 E">
                                      <p:cBhvr>
                                        <p:cTn id="272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-0.784 L -0.78264 0.0481 E">
                                      <p:cBhvr>
                                        <p:cTn id="27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6563 -0.80157 E">
                                      <p:cBhvr>
                                        <p:cTn id="280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81 -0.80157 L 0.03281 -0.01318 E">
                                      <p:cBhvr>
                                        <p:cTn id="28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-0.0592 0.03931 E">
                                      <p:cBhvr>
                                        <p:cTn id="288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3281 -0.80157 E">
                                      <p:cBhvr>
                                        <p:cTn id="292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3 -0.80157 L -0.77604 -0.81036 E">
                                      <p:cBhvr>
                                        <p:cTn id="29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866960" y="963720"/>
            <a:ext cx="4967280" cy="4966920"/>
            <a:chOff x="1866960" y="963720"/>
            <a:chExt cx="4967280" cy="4966920"/>
          </a:xfrm>
        </p:grpSpPr>
        <p:sp>
          <p:nvSpPr>
            <p:cNvPr id="234" name=""/>
            <p:cNvSpPr/>
            <p:nvPr/>
          </p:nvSpPr>
          <p:spPr>
            <a:xfrm rot="16200000">
              <a:off x="514296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9688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200000">
              <a:off x="255060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968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82960" y="35560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968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82960" y="9637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9688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54600" y="3051000"/>
              <a:ext cx="86508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9688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solidFill>
            <a:srgbClr val="ffff00"/>
          </a:soli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9688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3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305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Ols" descr=""/>
          <p:cNvPicPr/>
          <p:nvPr/>
        </p:nvPicPr>
        <p:blipFill>
          <a:blip r:embed="rId1"/>
          <a:stretch/>
        </p:blipFill>
        <p:spPr>
          <a:xfrm rot="20139000">
            <a:off x="1056960" y="6872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708360" y="357336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 -0.08395 C 0.54931 -0.08395 0.71216 0.09945 0.71216 0.32493 C 0.71216 0.55042 0.54931 0.73427 0.35 0.73427 C 0.15018 0.73427 -0.01215 0.55042 -0.01215 0.32493 C -0.01215 0.09945 0.15018 -0.08395 0.35 -0.08395 Z">
                                      <p:cBhvr>
                                        <p:cTn id="313" dur="5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21924E-006 L 0.09444 0.57702 E">
                                      <p:cBhvr>
                                        <p:cTn id="316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136 -0.0148 L 0.42726 0.34182 E">
                                      <p:cBhvr>
                                        <p:cTn id="325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688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9688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84360" y="260280"/>
          <a:ext cx="7559640" cy="6078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0280"/>
                    <a:ext cx="755964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7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1d5323"/>
                </a:solidFill>
                <a:latin typeface="Arial"/>
              </a:rPr>
              <a:t>Будьте здоровы!</a:t>
            </a:r>
            <a:endParaRPr b="0" lang="en-US" sz="12900" spc="-1" strike="noStrike">
              <a:solidFill>
                <a:srgbClr val="009688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670200" y="4390920"/>
            <a:ext cx="1728720" cy="22924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 rot="17554200">
            <a:off x="2987640" y="4581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43000" y="243000"/>
            <a:ext cx="847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5323"/>
                </a:solidFill>
                <a:latin typeface="Arial"/>
              </a:rPr>
              <a:t>Ежедневно делайте зарядку для глаз от 2 до 5 минут!</a:t>
            </a:r>
            <a:endParaRPr b="0" lang="en-US" sz="6600" spc="-1" strike="noStrike">
              <a:solidFill>
                <a:srgbClr val="009688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3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Национальная одежда ханты и манси</a:t>
            </a:r>
            <a:endParaRPr b="0" lang="en-US" sz="3200" spc="-1" strike="noStrike">
              <a:solidFill>
                <a:srgbClr val="618ffd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Картинка 2 из 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92360" y="1917720"/>
            <a:ext cx="55436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8ffd"/>
                </a:solidFill>
                <a:latin typeface="Arial"/>
              </a:rPr>
              <a:t>Задача от рукодельницы</a:t>
            </a:r>
            <a:endParaRPr b="0" lang="en-US" sz="36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39574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На украшение 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платья истратили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23г синего бисера,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а красного–в 3 раза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больше. Сколько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граммов красного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бисера истратили?    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pic>
        <p:nvPicPr>
          <p:cNvPr id="251" name="" descr="Картинка 1 из 1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276640"/>
            <a:ext cx="41716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8ffd"/>
                </a:solidFill>
                <a:latin typeface="Arial"/>
              </a:rPr>
              <a:t>Решение </a:t>
            </a:r>
            <a:endParaRPr b="0" lang="en-US" sz="36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688"/>
                </a:solidFill>
                <a:latin typeface="Arial"/>
              </a:rPr>
              <a:t>23 г х 3 = 69 г</a:t>
            </a:r>
            <a:endParaRPr b="0" lang="en-US" sz="3600" spc="-1" strike="noStrike">
              <a:solidFill>
                <a:srgbClr val="00968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688"/>
                </a:solidFill>
                <a:latin typeface="Arial"/>
              </a:rPr>
              <a:t>Ответ: 69 г красного бисера истратили.</a:t>
            </a:r>
            <a:endParaRPr b="0" lang="en-US" sz="3600" spc="-1" strike="noStrike">
              <a:solidFill>
                <a:srgbClr val="0096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380988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688"/>
                </a:solidFill>
                <a:latin typeface="Arial"/>
              </a:rPr>
              <a:t>48 игрушек</a:t>
            </a:r>
            <a:endParaRPr b="0" lang="en-US" sz="36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00360" y="1268280"/>
            <a:ext cx="417492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688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9688"/>
                </a:solidFill>
                <a:latin typeface="Arial"/>
              </a:rPr>
              <a:t>в 4 раза меньше</a:t>
            </a:r>
            <a:endParaRPr b="0" lang="en-US" sz="3600" spc="-1" strike="noStrike">
              <a:solidFill>
                <a:srgbClr val="009688"/>
              </a:solidFill>
              <a:latin typeface="Arial"/>
            </a:endParaRPr>
          </a:p>
        </p:txBody>
      </p:sp>
      <p:pic>
        <p:nvPicPr>
          <p:cNvPr id="257" name="" descr="Картинка 406 из 58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421000"/>
            <a:ext cx="3673440" cy="3529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Картинка 3 из 18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00720" y="2421000"/>
            <a:ext cx="424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8ffd"/>
                </a:solidFill>
                <a:latin typeface="Arial"/>
              </a:rPr>
              <a:t>Решение </a:t>
            </a:r>
            <a:endParaRPr b="0" lang="en-US" sz="36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688"/>
                </a:solidFill>
                <a:latin typeface="Arial"/>
              </a:rPr>
              <a:t>1)48:4=12 (иг.)- из берёсты.</a:t>
            </a:r>
            <a:endParaRPr b="0" lang="en-US" sz="3600" spc="-1" strike="noStrike">
              <a:solidFill>
                <a:srgbClr val="00968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688"/>
                </a:solidFill>
                <a:latin typeface="Arial"/>
              </a:rPr>
              <a:t>2)48+12=60 (иг.)</a:t>
            </a:r>
            <a:endParaRPr b="0" lang="en-US" sz="3600" spc="-1" strike="noStrike">
              <a:solidFill>
                <a:srgbClr val="00968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688"/>
                </a:solidFill>
                <a:latin typeface="Arial"/>
              </a:rPr>
              <a:t>Ответ: 60 игрушек из древесины и берёсты изготовили.</a:t>
            </a:r>
            <a:endParaRPr b="0" lang="en-US" sz="3600" spc="-1" strike="noStrike">
              <a:solidFill>
                <a:srgbClr val="0096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39640" y="1268280"/>
            <a:ext cx="784872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 </a:t>
            </a: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молодцы!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8ffd"/>
                </a:solidFill>
                <a:latin typeface="Times New Roman"/>
              </a:rPr>
              <a:t>МУЗЕЙ НАРОДОВ СЕВЕРА</a:t>
            </a:r>
            <a:endParaRPr b="0" lang="en-US" sz="36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pic>
        <p:nvPicPr>
          <p:cNvPr id="266" name="" descr="Картинка 5 из 58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773360"/>
            <a:ext cx="69120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688"/>
                </a:solidFill>
                <a:latin typeface="Arial"/>
              </a:rPr>
              <a:t>Колодкина Светлана Шамильевна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688"/>
                </a:solidFill>
                <a:latin typeface="Arial"/>
              </a:rPr>
              <a:t>учитель математики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688"/>
                </a:solidFill>
                <a:latin typeface="Arial"/>
              </a:rPr>
              <a:t>первая квалификационная категория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68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96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8ffd"/>
                </a:solidFill>
                <a:latin typeface="Times New Roman"/>
              </a:rPr>
              <a:t>МУЗЕЙ НАРОДОВ СЕВЕРА</a:t>
            </a:r>
            <a:endParaRPr b="0" lang="en-US" sz="36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pic>
        <p:nvPicPr>
          <p:cNvPr id="152" name="" descr="Картинка 5 из 58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1773360"/>
            <a:ext cx="69120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18ffd"/>
                </a:solidFill>
                <a:latin typeface="Times New Roman"/>
              </a:rPr>
              <a:t>Как называется жилище кочевых народов Севера?</a:t>
            </a:r>
            <a:endParaRPr b="0" lang="en-US" sz="32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688"/>
                </a:solidFill>
                <a:latin typeface="Arial"/>
              </a:rPr>
              <a:t>Квартира  58</a:t>
            </a:r>
            <a:endParaRPr b="0" lang="en-US" sz="3600" spc="-1" strike="noStrike">
              <a:solidFill>
                <a:srgbClr val="00968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688"/>
                </a:solidFill>
                <a:latin typeface="Arial"/>
              </a:rPr>
              <a:t>Коттедж    60</a:t>
            </a:r>
            <a:endParaRPr b="0" lang="en-US" sz="3600" spc="-1" strike="noStrike">
              <a:solidFill>
                <a:srgbClr val="00968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688"/>
                </a:solidFill>
                <a:latin typeface="Arial"/>
              </a:rPr>
              <a:t>Чум           96</a:t>
            </a:r>
            <a:endParaRPr b="0" lang="en-US" sz="3600" spc="-1" strike="noStrike">
              <a:solidFill>
                <a:srgbClr val="00968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68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68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405d"/>
                </a:solidFill>
                <a:latin typeface="Arial"/>
              </a:rPr>
              <a:t>32Х3=?</a:t>
            </a:r>
            <a:endParaRPr b="0" lang="en-US" sz="3600" spc="-1" strike="noStrike">
              <a:solidFill>
                <a:srgbClr val="009688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48320" y="2081160"/>
            <a:ext cx="38098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8ffd"/>
                </a:solidFill>
                <a:latin typeface="Arial"/>
              </a:rPr>
              <a:t>ЧУМ</a:t>
            </a:r>
            <a:endParaRPr b="0" lang="en-US" sz="4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405d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5405d"/>
                </a:solidFill>
                <a:latin typeface="Arial"/>
              </a:rPr>
              <a:t>32х3=96</a:t>
            </a:r>
            <a:endParaRPr b="0" lang="en-US" sz="4400" spc="-1" strike="noStrike">
              <a:solidFill>
                <a:srgbClr val="009688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688"/>
              </a:solidFill>
              <a:latin typeface="Arial"/>
            </a:endParaRPr>
          </a:p>
        </p:txBody>
      </p:sp>
      <p:pic>
        <p:nvPicPr>
          <p:cNvPr id="158" name="" descr="Картинка 6 из 59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2421000"/>
            <a:ext cx="5402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Times New Roman"/>
              </a:rPr>
              <a:t>Как называется место в чуме для сна и сидения? </a:t>
            </a:r>
            <a:endParaRPr b="0" lang="en-US" sz="3200" spc="-1" strike="noStrike">
              <a:solidFill>
                <a:srgbClr val="618ffd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1981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405d"/>
                </a:solidFill>
                <a:latin typeface="Arial"/>
              </a:rPr>
              <a:t>84:2=42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3600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Диван    43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Нары     42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Кровать 14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405d"/>
                </a:solidFill>
                <a:latin typeface="Arial"/>
              </a:rPr>
              <a:t>84:2=?</a:t>
            </a: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3280" y="1980720"/>
            <a:ext cx="4500720" cy="130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688"/>
                </a:solidFill>
                <a:latin typeface="Arial"/>
              </a:rPr>
              <a:t>НАРЫ</a:t>
            </a:r>
            <a:endParaRPr b="0" lang="en-US" sz="3600" spc="-1" strike="noStrike">
              <a:solidFill>
                <a:srgbClr val="00968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6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Какой посудой раньше пользовались ханты и манси?</a:t>
            </a:r>
            <a:endParaRPr b="0" lang="en-US" sz="32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Хрустальной  70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Фарфоровой   46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Берестяной    64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405d"/>
                </a:solidFill>
                <a:latin typeface="Arial"/>
              </a:rPr>
              <a:t>96:3х2=?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</a:rPr>
              <a:t>Берестяной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6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405d"/>
                </a:solidFill>
                <a:latin typeface="Arial"/>
              </a:rPr>
              <a:t>96:3х2=64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8ffd"/>
                </a:solidFill>
                <a:latin typeface="Arial"/>
              </a:rPr>
              <a:t>Изделия из берёсты</a:t>
            </a:r>
            <a:endParaRPr b="0" lang="en-US" sz="36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53294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b9"/>
            </a:gs>
            <a:gs pos="50000">
              <a:srgbClr val="fdfdf6"/>
            </a:gs>
            <a:gs pos="100000">
              <a:srgbClr val="fcfe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80d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da080d"/>
                </a:solidFill>
                <a:latin typeface="Times New Roman"/>
              </a:rPr>
              <a:t>физминутка</a:t>
            </a:r>
            <a:endParaRPr b="0" lang="en-US" sz="32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64120" y="3774600"/>
            <a:ext cx="4295520" cy="16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c5e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9688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Мастерская Масько Л.Г.</a:t>
            </a: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3:47:51Z</dcterms:created>
  <dc:creator>user</dc:creator>
  <dc:description/>
  <dc:language>en-US</dc:language>
  <cp:lastModifiedBy>user</cp:lastModifiedBy>
  <dcterms:modified xsi:type="dcterms:W3CDTF">2009-03-24T16:56:48Z</dcterms:modified>
  <cp:revision>20</cp:revision>
  <dc:subject/>
  <dc:title>Слайд 1</dc:title>
</cp:coreProperties>
</file>