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5996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31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1240" y="4564800"/>
            <a:ext cx="87631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5996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60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1520" y="1963440"/>
            <a:ext cx="42760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1240" y="4564800"/>
            <a:ext cx="42760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1520" y="4564800"/>
            <a:ext cx="42760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5996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28213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4040" y="1963440"/>
            <a:ext cx="28213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66840" y="1963440"/>
            <a:ext cx="28213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1240" y="4564800"/>
            <a:ext cx="28213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4040" y="4564800"/>
            <a:ext cx="28213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66840" y="4564800"/>
            <a:ext cx="28213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5996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1240" y="1963440"/>
            <a:ext cx="8763120" cy="49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5996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3120" cy="497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5996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6080" cy="497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1520" y="1963440"/>
            <a:ext cx="4276080" cy="497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5996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59968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5996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60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1520" y="1963440"/>
            <a:ext cx="4276080" cy="497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1240" y="4564800"/>
            <a:ext cx="42760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5996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6080" cy="497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1520" y="1963440"/>
            <a:ext cx="42760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1520" y="4564800"/>
            <a:ext cx="42760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5996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60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1520" y="1963440"/>
            <a:ext cx="42760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1240" y="4564800"/>
            <a:ext cx="87631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5996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3120" cy="497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ОГАОУ “Центр образования “Ступени”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6800" y="1619280"/>
            <a:ext cx="4992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39000"/>
          </a:bodyPr>
          <a:p>
            <a:pPr marL="16812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16812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16812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600" spc="-1" strike="noStrike">
              <a:solidFill>
                <a:srgbClr val="e6e6e6"/>
              </a:solidFill>
              <a:latin typeface="Times New Roman"/>
            </a:endParaRPr>
          </a:p>
          <a:p>
            <a:pPr marL="16812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9600" spc="-1" strike="noStrike">
                <a:solidFill>
                  <a:srgbClr val="ffff00"/>
                </a:solidFill>
                <a:latin typeface="Times New Roman"/>
              </a:rPr>
              <a:t>КУРАТОРСКИЙ ЧАС</a:t>
            </a:r>
            <a:endParaRPr b="0" lang="en-US" sz="9600" spc="-1" strike="noStrike">
              <a:solidFill>
                <a:srgbClr val="e6e6e6"/>
              </a:solidFill>
              <a:latin typeface="Times New Roman"/>
            </a:endParaRPr>
          </a:p>
          <a:p>
            <a:pPr marL="16812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9600" spc="-1" strike="noStrike">
                <a:solidFill>
                  <a:srgbClr val="00ff00"/>
                </a:solidFill>
                <a:latin typeface="Times New Roman"/>
              </a:rPr>
              <a:t>“</a:t>
            </a:r>
            <a:r>
              <a:rPr b="1" i="1" lang="en-US" sz="9600" spc="-1" strike="noStrike">
                <a:solidFill>
                  <a:srgbClr val="00ff00"/>
                </a:solidFill>
                <a:latin typeface="Times New Roman"/>
              </a:rPr>
              <a:t>Изучай</a:t>
            </a:r>
            <a:endParaRPr b="0" lang="en-US" sz="9600" spc="-1" strike="noStrike">
              <a:solidFill>
                <a:srgbClr val="e6e6e6"/>
              </a:solidFill>
              <a:latin typeface="Times New Roman"/>
            </a:endParaRPr>
          </a:p>
          <a:p>
            <a:pPr marL="16812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9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i="1" lang="en-US" sz="9600" spc="-1" strike="noStrike">
                <a:solidFill>
                  <a:srgbClr val="00ff00"/>
                </a:solidFill>
                <a:latin typeface="Times New Roman"/>
              </a:rPr>
              <a:t>и </a:t>
            </a:r>
            <a:endParaRPr b="0" lang="en-US" sz="9600" spc="-1" strike="noStrike">
              <a:solidFill>
                <a:srgbClr val="e6e6e6"/>
              </a:solidFill>
              <a:latin typeface="Times New Roman"/>
            </a:endParaRPr>
          </a:p>
          <a:p>
            <a:pPr marL="16812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9600" spc="-1" strike="noStrike">
                <a:solidFill>
                  <a:srgbClr val="00ff00"/>
                </a:solidFill>
                <a:latin typeface="Times New Roman"/>
              </a:rPr>
              <a:t>соблюдай!»</a:t>
            </a:r>
            <a:endParaRPr b="0" lang="en-US" sz="9600" spc="-1" strike="noStrike">
              <a:solidFill>
                <a:srgbClr val="e6e6e6"/>
              </a:solidFill>
              <a:latin typeface="Times New Roman"/>
            </a:endParaRPr>
          </a:p>
          <a:p>
            <a:pPr marL="16812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e6e6e6"/>
              </a:solidFill>
              <a:latin typeface="Times New Roman"/>
            </a:endParaRPr>
          </a:p>
          <a:p>
            <a:pPr marL="16812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16812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16812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16812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16812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16812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5400" spc="-1" strike="noStrike">
                <a:solidFill>
                  <a:srgbClr val="00ff00"/>
                </a:solidFill>
                <a:latin typeface="Times New Roman"/>
              </a:rPr>
              <a:t>Презентацию составила:</a:t>
            </a: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e6e6e6"/>
              </a:solidFill>
              <a:latin typeface="Times New Roman"/>
            </a:endParaRPr>
          </a:p>
          <a:p>
            <a:pPr marL="16812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Номоконова А.А., </a:t>
            </a:r>
            <a:endParaRPr b="0" lang="en-US" sz="5400" spc="-1" strike="noStrike">
              <a:solidFill>
                <a:srgbClr val="e6e6e6"/>
              </a:solidFill>
              <a:latin typeface="Times New Roman"/>
            </a:endParaRPr>
          </a:p>
          <a:p>
            <a:pPr marL="16812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учитель  биологии, куратор 8 класса</a:t>
            </a:r>
            <a:endParaRPr b="0" lang="en-US" sz="5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975280" y="2314440"/>
            <a:ext cx="3436920" cy="35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20720" y="1800360"/>
            <a:ext cx="8772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b613d"/>
                </a:solidFill>
                <a:latin typeface="Times New Roman"/>
              </a:rPr>
              <a:t>Решите</a:t>
            </a:r>
            <a:r>
              <a:rPr b="1" lang="ru-RU" sz="3200" spc="-1" strike="noStrike">
                <a:solidFill>
                  <a:srgbClr val="eb613d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eb613d"/>
                </a:solidFill>
                <a:latin typeface="Times New Roman"/>
              </a:rPr>
              <a:t>задачу: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М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ша,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выйдя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из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автобуса,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побежала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школу.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Успеет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ли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водитель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идущего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за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автобусом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автомобиля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остановиться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не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совершить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наезд,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если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остановочный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путь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автомобиля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м,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на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момент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начала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торможения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расстояние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между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девочкой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машиной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было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м?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Какие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правила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нарушила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msmincho"/>
              </a:rPr>
              <a:t>Маша?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ПРАКТИЧЕСКАЯ РАБОТА</a:t>
            </a:r>
            <a:br>
              <a:rPr sz="4000"/>
            </a:b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Скорость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движения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и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остановочный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  <a:ea typeface="msmincho"/>
              </a:rPr>
              <a:t>путь</a:t>
            </a: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40880" y="1963800"/>
            <a:ext cx="50180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впереди зеленый - танцуем веселее, активно двигаясь, если желтый - танцуем на месте, а красный – погрозим друг другу пальцем: нельзя идти вперед!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ой!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уть опасен!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ФИЗМИНУТКА</a:t>
            </a:r>
            <a:br>
              <a:rPr sz="4000"/>
            </a:b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“Танец светофора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335640" y="1728720"/>
            <a:ext cx="32400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600360" y="502920"/>
            <a:ext cx="5913360" cy="64501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бята,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кто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из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вас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знает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как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надо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кататься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на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велосипедах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роликах?  Незнайка тоже не знает  правил велосипедистов и любителей роликов.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казывается,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что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катаясь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на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роликах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велосипеде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надо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знать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правила.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ними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вас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познакомят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наши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гости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—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учащиеся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класса,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которые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изучали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эти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правила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консультировались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работниками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ДПС</a:t>
            </a:r>
            <a:r>
              <a:rPr b="1" i="1" lang="ru-RU" sz="3200" spc="-1" strike="noStrike">
                <a:solidFill>
                  <a:srgbClr val="e6e6e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92000" y="720720"/>
            <a:ext cx="2808360" cy="2158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20720" y="4103640"/>
            <a:ext cx="287964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904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ff9966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Ребята,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мы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живем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вами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красивом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городе,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где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много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улиц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msmincho"/>
              </a:rPr>
              <a:t>переулков.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msmincho"/>
              </a:rPr>
              <a:t>По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msmincho"/>
              </a:rPr>
              <a:t>ним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msmincho"/>
              </a:rPr>
              <a:t>движется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msmincho"/>
              </a:rPr>
              <a:t>много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msmincho"/>
              </a:rPr>
              <a:t>автомобилей,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msmincho"/>
              </a:rPr>
              <a:t>автобусов,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msmincho"/>
              </a:rPr>
              <a:t>велосипедов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msmincho"/>
              </a:rPr>
              <a:t>и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msmincho"/>
              </a:rPr>
              <a:t>мотоциклов.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msmincho"/>
              </a:rPr>
              <a:t>По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msmincho"/>
              </a:rPr>
              <a:t>ним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msmincho"/>
              </a:rPr>
              <a:t>передвигаются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msmincho"/>
              </a:rPr>
              <a:t>пешеходы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msmincho"/>
              </a:rPr>
              <a:t>нашего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msmincho"/>
              </a:rPr>
              <a:t>города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—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msmincho"/>
              </a:rPr>
              <a:t>биробиджанцы.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384720" y="4680000"/>
            <a:ext cx="3109680" cy="1852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551640" y="2592360"/>
            <a:ext cx="2808360" cy="1866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74760" y="2808360"/>
            <a:ext cx="3008160" cy="1790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032600" y="4824360"/>
            <a:ext cx="261612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944360" y="502920"/>
            <a:ext cx="6264360" cy="64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А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вот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перейти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одной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стороны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улицы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на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другую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не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просто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этом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нам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помогают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светофоры,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оснащенные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тремя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цветовыми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сигналами: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зеленый,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желтый,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красныйА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если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вдруг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случится,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что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светофор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сломался,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то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на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улицы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Биробиджана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выходят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служащие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ДПС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-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регулировщики,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которые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управляют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движением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транспорта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по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городу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при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помощи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«волшебной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палочки»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—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жезла.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И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никто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никому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не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мешает.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Это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потому,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что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все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участники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дорожного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движения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соблюдают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четкие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и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строгие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правила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для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водителей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машин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и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пешеходов.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1280" y="360360"/>
            <a:ext cx="1944720" cy="1871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423280" y="384120"/>
            <a:ext cx="1511280" cy="1704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423280" y="2808360"/>
            <a:ext cx="1511280" cy="1568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96920" y="2879640"/>
            <a:ext cx="189072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К нам прибыл сказочный гость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767640" y="1944720"/>
            <a:ext cx="3095640" cy="453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03280" y="1655640"/>
            <a:ext cx="597528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Ребята, сегодня в Биробиджан прибыл Незнайка из Цветочного города.  Он попал сразу на улицы нашего города и растерялся, потому что не знает дорожных знаков и совсем не знаком со светофор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Давайте познакомим Незнайку с правилами дорожного движения и с дорожными знакам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ВИКТОРИНА</a:t>
            </a:r>
            <a:br>
              <a:rPr sz="4000"/>
            </a:br>
            <a:r>
              <a:rPr b="1" i="1" lang="en-US" sz="4000" spc="-1" strike="noStrike">
                <a:solidFill>
                  <a:srgbClr val="c5000b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420e"/>
                </a:solidFill>
                <a:latin typeface="Arial"/>
              </a:rPr>
              <a:t>Дорожные знаки в загадках»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63640" y="2087640"/>
            <a:ext cx="500868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Форма странная у знак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Больше нет таких, ребята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Не квадрат он и не круг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А машины встали вдруг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881680" y="2376360"/>
            <a:ext cx="347832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47280" y="502920"/>
            <a:ext cx="5832360" cy="65214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 fontScale="99000"/>
          </a:bodyPr>
          <a:p>
            <a:pPr marL="3394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Times New Roman"/>
              </a:rPr>
              <a:t>Чудо-конь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</a:rPr>
              <a:t>-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</a:rPr>
              <a:t>велосипед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94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</a:rPr>
              <a:t>Можно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</a:rPr>
              <a:t>ехать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</a:rPr>
              <a:t>или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</a:rPr>
              <a:t>нет?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94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</a:rPr>
              <a:t>Странный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</a:rPr>
              <a:t>этот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</a:rPr>
              <a:t>синий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</a:rPr>
              <a:t>знак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94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</a:rPr>
              <a:t>Не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</a:rPr>
              <a:t>понять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</a:rPr>
              <a:t>его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</a:rPr>
              <a:t>никак!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94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e6e6e6"/>
              </a:solidFill>
              <a:latin typeface="Times New Roman"/>
            </a:endParaRPr>
          </a:p>
          <a:p>
            <a:pPr marL="3394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e6e6e6"/>
              </a:solidFill>
              <a:latin typeface="Times New Roman"/>
            </a:endParaRPr>
          </a:p>
          <a:p>
            <a:pPr marL="3394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e6e6e6"/>
              </a:solidFill>
              <a:latin typeface="Times New Roman"/>
            </a:endParaRPr>
          </a:p>
          <a:p>
            <a:pPr marL="3394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e6e6e6"/>
              </a:solidFill>
              <a:latin typeface="Times New Roman"/>
            </a:endParaRPr>
          </a:p>
          <a:p>
            <a:pPr marL="3394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e6e6e6"/>
              </a:solidFill>
              <a:latin typeface="Times New Roman"/>
            </a:endParaRPr>
          </a:p>
          <a:p>
            <a:pPr marL="3394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Видно,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строить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будут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дом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–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94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Кирпичи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висят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кругом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94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Но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у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нашего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двора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94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Стройплощадка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не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видна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94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94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e6e6e6"/>
              </a:solidFill>
              <a:latin typeface="Times New Roman"/>
            </a:endParaRPr>
          </a:p>
          <a:p>
            <a:pPr marL="3394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e6e6e6"/>
              </a:solidFill>
              <a:latin typeface="Times New Roman"/>
            </a:endParaRPr>
          </a:p>
          <a:p>
            <a:pPr marL="3394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e6e6e6"/>
              </a:solidFill>
              <a:latin typeface="Times New Roman"/>
            </a:endParaRPr>
          </a:p>
          <a:p>
            <a:pPr marL="3394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e6e6e6"/>
              </a:solidFill>
              <a:latin typeface="Times New Roman"/>
            </a:endParaRPr>
          </a:p>
          <a:p>
            <a:pPr marL="3394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480000" y="720720"/>
            <a:ext cx="2087640" cy="2160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50080" y="3944880"/>
            <a:ext cx="2293920" cy="25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40880" y="647640"/>
            <a:ext cx="4443480" cy="63057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 fontScale="90000"/>
          </a:bodyPr>
          <a:p>
            <a:pPr marL="30852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коро выезд на каток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0852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авь машину здесь, дружок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0852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девай скорей коньки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0852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смелей вперед смотр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0852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0852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0852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коро будет огород –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0852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Знак об этом знать дает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0852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Если есть с собой лопата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0852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Вас там ждут всегда, ребята!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0852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e6e6e6"/>
              </a:solidFill>
              <a:latin typeface="Times New Roman"/>
            </a:endParaRPr>
          </a:p>
          <a:p>
            <a:pPr marL="30852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313320" y="593640"/>
            <a:ext cx="2614680" cy="2575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807160" y="4032360"/>
            <a:ext cx="276048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20360" y="1042560"/>
            <a:ext cx="4319640" cy="541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Тормози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скорей,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шофер!</a:t>
            </a:r>
            <a:endParaRPr b="0" lang="en-US" sz="44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Можно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врезаться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забор!</a:t>
            </a:r>
            <a:endParaRPr b="0" lang="en-US" sz="44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Кто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нам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путь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загородил</a:t>
            </a:r>
            <a:endParaRPr b="0" lang="en-US" sz="44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дорогу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перекрыл?</a:t>
            </a:r>
            <a:endParaRPr b="0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32360" y="1584360"/>
            <a:ext cx="33847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Город, в котором с тобой мы живем...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11280" y="1728720"/>
            <a:ext cx="70563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03:09:38Z</dcterms:created>
  <dc:creator/>
  <dc:description>Оранжевый заголовок на темно-синем фоне; оранжевые линии по нижней границе</dc:description>
  <dc:language>en-US</dc:language>
  <cp:lastModifiedBy/>
  <dcterms:modified xsi:type="dcterms:W3CDTF">2012-10-01T01:52:18Z</dcterms:modified>
  <cp:revision>8</cp:revision>
  <dc:subject/>
  <dc:title>Темно-синий с оранжевым</dc:title>
</cp:coreProperties>
</file>