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3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213-50E6-4F35-B941-6F1D62727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6D01-CB39-469E-A019-60DF3FA6D7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4E0-EE7E-49FB-830E-D6F195B3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9B8-E586-45A4-812D-86F44AB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0630-F06D-4885-A127-90E33EDF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CC2EF-1578-43D0-9D26-CD9982F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F984C-833F-4F01-BA78-AF44D72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6C813-740D-42D7-B200-03CCD25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EF7F1-3C01-4261-805D-1445002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17174-1022-4AC3-9BFF-87F20C9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9120-BC94-486B-B8F3-1F6C425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41624-92AF-4DD9-B836-1C8B6C1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100C-FC8A-450E-AA40-B2503F19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8D995-E2EA-409D-89F1-6F29B3FB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09A-186F-46B9-9695-8B8426BB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16B0-6DAA-4638-AC58-58E9B52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2D46-BF4B-4180-AA9E-2EC6FEA3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49B6-7167-497A-AEF9-ED2B6BC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97BD9-EBCB-4AFE-B5CF-6F6A3E1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1B54C-7993-45EE-B32C-87D6FCC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FC0A0-8F6E-4FEC-8A07-60E3D62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D9586-BE4E-4F45-A917-4857CBA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0EE38-DDCB-4D38-AA6A-A711576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9462-81E3-4637-8EB8-8D4D564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100D-96CF-4811-913B-6C030F9B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D4C-7857-4606-BB42-23549727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ED1D-1E71-4EC1-A68E-8B7612BD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B18E-E365-42BD-96FB-AEA6187A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CC4-2643-499E-9CCD-BD8478B4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DE2B-646D-4DF5-9B62-7E6C4E79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BAC6-CD17-4209-9E6F-E8154ABD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48A-0033-4496-B2E7-4ABA46C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DDF0-E4B7-43D2-9F0E-26204C0E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04D-0AFF-4554-A930-C301C62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372-25D6-4BDF-A212-48D6170F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C56-B7E1-4EAE-924E-BACAAED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C65E-4F88-439E-9AF4-1C77401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891-28F5-4685-A725-45366CC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C3AD-15F7-4796-968A-9A4996F0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ABF6-D214-4EA7-80F9-875249C1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7727-2342-458E-BEA1-111AF62A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55B6-0C2F-4100-A073-F57C431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8C00-DF27-40BB-AB07-BD049293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5C28-BF0E-43F9-8261-6BE7DE9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2BDB-7B9B-4D03-B696-6B37E22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B30-857D-4857-BE32-8C4E980E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E5CC-7DB8-4FA9-8B38-E1634B68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594C-8220-44C3-8248-1A54B22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B002-DF80-4B09-8A8F-8A6F545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270C-4E81-41F4-BA5A-2EC4990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6E21-E128-41C9-B6A3-B2337CD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8D0D-1F38-4C71-957D-AE6C5F09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7E94-03DE-466E-A379-2CB3DC85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1D29-BC24-4D6A-B1CA-54D274D8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266E-9862-43AB-A9C8-B6B498A0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5912-C7B7-4863-9790-9B8BE56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769-E65D-429D-B0E5-8EE01CC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73DF-0452-4DF7-9100-36D8514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BE06-BC9E-4993-9842-921385A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2CE6-D3D4-45A3-AEAA-6D1627C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6571-3AFC-4B15-AE98-FD53651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A251-83DC-427E-AE3A-3A07893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39B4-972B-449B-A267-D244D78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480F-C501-4AAA-8446-FA1E6A7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2135-5051-4E44-A404-515843C0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EB80-EC20-45EB-9229-64DAAAD0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798C-236E-45D8-899C-3266863C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F25-4AB4-487A-93E7-F066842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4578-E057-42C5-8E30-D7CD87A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FADC-A206-4D6E-AC3E-D91B3C98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F0F7-9739-4D10-9B7B-E51DD808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C80D-85F5-4937-B7AF-218795F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1063-C972-41D8-AF62-8D06D90A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0A09-D339-415C-B061-C46D55F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D7272-6A88-4BDE-909F-2B7683D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4131-B4A7-4264-90BE-63DC99D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689D-3A32-464E-8758-5EAFE5F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2CFE-E937-48EB-BF8A-6E637206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9F8-5B39-4C1A-8103-C8D1C63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7BF4-213C-44E8-9356-150DC614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5857-7DE2-4BAF-8141-DE957B5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CB06-F0AB-4E47-81B2-E8D6BC6E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62A4-15E1-4E14-9C1B-725B687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7EFC-6A4D-4795-B5D5-AF99DE30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9FA8-6945-416E-B114-C15A0175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6B0F-0176-4BD4-B416-19F0491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0E42-10B0-4074-BCB6-18C226AB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9A5D-6235-4972-B302-97CDB9F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AF76-11CA-4EE7-9D48-A4663E8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728-4ADA-4B78-AD54-977DF2A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0686-8574-4C36-B2AD-7DE85D59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0EEA-E921-442B-AE62-95F2631A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7029-C219-40FC-82BD-3FB6AC93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B06E-913F-495B-B1CF-C15398D4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3488-A07C-452D-8A1C-603EBEE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0FD9-E824-4213-BB00-7AEDCC1D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5071-3C99-4038-BBC1-B9856F31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E698-C868-4AD6-B838-9F9F906C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4AC3-51F1-412C-A917-CF3742EF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572A6-7FB3-4E0F-9752-4E6219C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D48-5445-4DAE-A2F5-E6CF8F3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DE50-EE68-4493-8166-FD893E2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55C8C-904E-4B29-BF61-348EF32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75BC-F972-4380-8990-294D0C7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1802-BE1B-4E33-9741-44751C83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8185-4510-495F-9D85-0447C7D5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053D-EBD7-4238-9120-CCE4AB4B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ECA7-8A29-450C-AE1C-2F67A85E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1387-B179-44E0-8DA2-3FCE0D7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5C18-7F09-480D-9249-6CA04541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7F30-417D-49A0-BEBA-C0B4122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088-E78E-4A91-8494-A902549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45FBD-953D-4283-B838-2B46E7EA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095D-EA73-4315-B7F7-E9FBF81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4F10-A80F-4050-AD98-CE8F2DD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C25B-4FE9-472B-B59F-7A55732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965DA-83C5-4281-81A8-FCFF726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BE4C-315A-4B9F-9BF2-DE6A6AE0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E65F-C36A-48C0-AC77-97DA3A67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85D5-A2CF-4290-B5EF-20966CA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F5C51-FCE9-4C4F-B2C5-1E7272D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57BA6-6C7D-4FCD-B6DB-43F51A4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E3C9-5913-462E-839A-126C695C0C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CB4F-DA9C-4814-8145-9A49372E7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803E-E0A1-479C-8A41-43879051BF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321-F630-44D0-AC71-6A7E41BCE8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684-5663-448A-B7EA-EA71FBECA7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F3E-F4B0-40BF-94A2-D9A0BF53AA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C64-D43A-4C66-A3E8-DA9435FC55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18C-CEC0-4880-86E9-48F07D0BA5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BC72-D729-46EC-B89C-FC795F0D36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E1E-B595-493C-99A0-97BB79D503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javascript:%20window.close();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%20window.close();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143000" y="285840"/>
            <a:ext cx="7786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Проектная работа по литературе</a:t>
            </a:r>
            <a:r>
              <a:rPr b="0" lang="en-US" sz="3200" spc="-1" strike="noStrike">
                <a:solidFill>
                  <a:srgbClr val="ac0000"/>
                </a:solidFill>
                <a:latin typeface="Franklin Gothic Book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А.С. Пушкин. роман «Капитанская дочка»</a:t>
            </a:r>
            <a:br>
              <a:rPr sz="3600"/>
            </a:br>
            <a:br>
              <a:rPr sz="2000"/>
            </a:b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Тема урока:  </a:t>
            </a:r>
            <a:r>
              <a:rPr b="0" lang="ru-RU" sz="2800" spc="-1" strike="noStrike">
                <a:solidFill>
                  <a:srgbClr val="820000"/>
                </a:solidFill>
                <a:latin typeface="Franklin Gothic Book"/>
              </a:rPr>
              <a:t>Образ Емельяна Пугач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820000"/>
                </a:solidFill>
                <a:latin typeface="Franklin Gothic Book"/>
              </a:rPr>
              <a:t>Выполнила учитель </a:t>
            </a:r>
            <a:r>
              <a:rPr b="0" lang="ru-RU" sz="1600" spc="-1" strike="noStrike">
                <a:solidFill>
                  <a:srgbClr val="82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ГС(К)ОУ школы-интерната</a:t>
            </a:r>
            <a:r>
              <a:rPr b="0" lang="en-US" sz="3200" spc="-1" strike="noStrike">
                <a:solidFill>
                  <a:srgbClr val="ac0000"/>
                </a:solidFill>
                <a:latin typeface="Franklin Gothic Book"/>
              </a:rPr>
              <a:t> I </a:t>
            </a: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вид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Н.Г.Жуко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2013г</a:t>
            </a:r>
            <a:br>
              <a:rPr sz="3200"/>
            </a:br>
            <a:r>
              <a:rPr b="0" lang="ru-RU" sz="3200" spc="-1" strike="noStrike">
                <a:solidFill>
                  <a:srgbClr val="ac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7" descr="44707"/>
          <p:cNvPicPr/>
          <p:nvPr/>
        </p:nvPicPr>
        <p:blipFill>
          <a:blip r:embed="rId1"/>
          <a:stretch/>
        </p:blipFill>
        <p:spPr>
          <a:xfrm>
            <a:off x="69840" y="679320"/>
            <a:ext cx="127152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0" y="357120"/>
          <a:ext cx="8991720" cy="6492960"/>
        </p:xfrm>
        <a:graphic>
          <a:graphicData uri="http://schemas.openxmlformats.org/drawingml/2006/table">
            <a:tbl>
              <a:tblPr/>
              <a:tblGrid>
                <a:gridCol w="500040"/>
                <a:gridCol w="1476360"/>
                <a:gridCol w="2070000"/>
                <a:gridCol w="1849680"/>
                <a:gridCol w="3095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предме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Емельяна Пугачева. Историческая правда и художественный вымыс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представление о Пугачеве как исторической личности и герое художественного произве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овать формированию понятий "историческая повесть", "художественный образ", выявить взаимосвязь образа Емельяна Пугачева с идеей произвед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ть умение выразительного чтения, связного высказывания •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батывать умение сравнительного анализа исторического материала и художественного произ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полнение таблиц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6072120" y="1714680"/>
          <a:ext cx="3071880" cy="1188720"/>
        </p:xfrm>
        <a:graphic>
          <a:graphicData uri="http://schemas.openxmlformats.org/drawingml/2006/table">
            <a:tbl>
              <a:tblPr/>
              <a:tblGrid>
                <a:gridCol w="1876320"/>
                <a:gridCol w="1195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Историческая прав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Художественный вымы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4920" y="357120"/>
            <a:ext cx="8686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Тема урока:  </a:t>
            </a:r>
            <a:r>
              <a:rPr b="0" lang="ru-RU" sz="2800" spc="-1" strike="noStrike">
                <a:solidFill>
                  <a:srgbClr val="820000"/>
                </a:solidFill>
                <a:latin typeface="Franklin Gothic Book"/>
              </a:rPr>
              <a:t>Образ Емельяна Пугаче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 характеристики героя по пл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алистичность образа Е.Пугачев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мельян Пугачев как предводитель восстания (одаренность, смелость, демократизм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защитник обездоленных и обиженны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иворечивость личности Е.Пугачев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стокость, грубость и способность к милосердию и благодарност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ирокий размах натуры и тщеслав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Нахождение ответа на проблемный вопрос  «Кто Пугачев? «Благородный разбойник или злодей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Художественные приемы создания образа (поступки, портрет, сопоставление эпизод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Художественный обр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дна из основных категорий эстетики, которая характеризует присущий только искусству способ отображения и преобразования действительност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Художественный образ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картина человеческой жизни, в центре которой стоит конкретный человек, но которая включает в себя и всё то, что его в жизни окружает. Так, в художественном произведении человек изображается во взаимоотношениях с другими людь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Художественный обр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твет художника на интересующие его вопрос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ает максимальную емкость содержания</a:t>
            </a: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Художественный образ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– это форма отражения действительности средствами искусства в сознании человека, конкретная и вместе с тем обобщенная картина жизни, преображенная в эстетическом идеале художника; средство познания мира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4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813880" cy="1170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ДАНИЕ УЧИТЕЛ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Ы УЧАЩИХ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лючевые словосочетания определяют понятие «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удожественный обра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эти словосоче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Способ отображения и преобразования действительност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Картина человеческой жизн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Взаимоотношение с другими людьм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Ответ художника на интересующие его вопрос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85840" y="214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йте свое определение  понятия  литературного образа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удем работать над Образом  Пугачёва  и средствами  его раскрыт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чните со слов: «Я думаю, что……….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9" name="Picture 2" descr="http://festival.1september.ru/files/articles/55/5563/556371/2.jpg"/>
          <p:cNvPicPr/>
          <p:nvPr/>
        </p:nvPicPr>
        <p:blipFill>
          <a:blip r:embed="rId1"/>
          <a:stretch/>
        </p:blipFill>
        <p:spPr>
          <a:xfrm>
            <a:off x="2214720" y="2357280"/>
            <a:ext cx="407196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1"/>
          <a:stretch/>
        </p:blipFill>
        <p:spPr>
          <a:xfrm>
            <a:off x="195120" y="4565520"/>
            <a:ext cx="8783640" cy="22989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42920" y="0"/>
            <a:ext cx="86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суждение акцентного вычитывания произвед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просы для вычитывания текста ученики получают заранее, после  жестового перевода  и комментированного чтения произведения. Проверяя работы, учитель отмечает значками верные и неверные цитаты из произведения. На уроке идет корректировка неточных, и неправильных ответов учеников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3"/>
          <p:cNvSpPr/>
          <p:nvPr/>
        </p:nvSpPr>
        <p:spPr>
          <a:xfrm>
            <a:off x="5508720" y="4292640"/>
            <a:ext cx="3456000" cy="647640"/>
          </a:xfrm>
          <a:prstGeom prst="rect">
            <a:avLst/>
          </a:prstGeom>
          <a:solidFill>
            <a:srgbClr val="fde4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84522"/>
                </a:solidFill>
                <a:latin typeface="Verdana"/>
              </a:rPr>
              <a:t>Милосердие и жесток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44"/>
          <p:cNvSpPr/>
          <p:nvPr/>
        </p:nvSpPr>
        <p:spPr>
          <a:xfrm>
            <a:off x="395280" y="1628640"/>
            <a:ext cx="3529080" cy="720720"/>
          </a:xfrm>
          <a:prstGeom prst="rect">
            <a:avLst/>
          </a:prstGeom>
          <a:gradFill rotWithShape="0">
            <a:gsLst>
              <a:gs pos="0">
                <a:srgbClr val="f3e6d9"/>
              </a:gs>
              <a:gs pos="50000">
                <a:srgbClr val="ffffff"/>
              </a:gs>
              <a:gs pos="100000">
                <a:srgbClr val="f3e6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392613"/>
                </a:solidFill>
                <a:latin typeface="Verdana"/>
              </a:rPr>
              <a:t>Тема народного бу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45"/>
          <p:cNvSpPr/>
          <p:nvPr/>
        </p:nvSpPr>
        <p:spPr>
          <a:xfrm>
            <a:off x="5148360" y="1628640"/>
            <a:ext cx="3744720" cy="720720"/>
          </a:xfrm>
          <a:prstGeom prst="rect">
            <a:avLst/>
          </a:prstGeom>
          <a:gradFill rotWithShape="0">
            <a:gsLst>
              <a:gs pos="0">
                <a:srgbClr val="f3e6d9"/>
              </a:gs>
              <a:gs pos="50000">
                <a:srgbClr val="ffffff"/>
              </a:gs>
              <a:gs pos="100000">
                <a:srgbClr val="f3e6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392613"/>
                </a:solidFill>
                <a:latin typeface="Verdana"/>
              </a:rPr>
              <a:t>Тема чести и милосерд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46"/>
          <p:cNvSpPr/>
          <p:nvPr/>
        </p:nvSpPr>
        <p:spPr>
          <a:xfrm>
            <a:off x="468360" y="4365720"/>
            <a:ext cx="3095640" cy="647640"/>
          </a:xfrm>
          <a:prstGeom prst="rect">
            <a:avLst/>
          </a:prstGeom>
          <a:solidFill>
            <a:srgbClr val="fde4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84522"/>
                </a:solidFill>
                <a:latin typeface="Verdana"/>
              </a:rPr>
              <a:t>Народ и вл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Oval 47"/>
          <p:cNvSpPr/>
          <p:nvPr/>
        </p:nvSpPr>
        <p:spPr>
          <a:xfrm>
            <a:off x="3276720" y="2781360"/>
            <a:ext cx="2879640" cy="115236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50000">
                <a:srgbClr val="fbeec9"/>
              </a:gs>
              <a:gs pos="100000">
                <a:srgbClr val="e6b9b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Образ Пугач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48"/>
          <p:cNvSpPr/>
          <p:nvPr/>
        </p:nvSpPr>
        <p:spPr>
          <a:xfrm>
            <a:off x="3059280" y="5661000"/>
            <a:ext cx="3744720" cy="720720"/>
          </a:xfrm>
          <a:prstGeom prst="rect">
            <a:avLst/>
          </a:prstGeom>
          <a:solidFill>
            <a:srgbClr val="fde4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84522"/>
                </a:solidFill>
                <a:latin typeface="Verdana"/>
              </a:rPr>
              <a:t>Честь и преда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6300720" y="3573360"/>
            <a:ext cx="13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716360" y="4292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51"/>
          <p:cNvSpPr/>
          <p:nvPr/>
        </p:nvSpPr>
        <p:spPr>
          <a:xfrm flipH="1">
            <a:off x="1763640" y="3500280"/>
            <a:ext cx="1440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52"/>
          <p:cNvSpPr/>
          <p:nvPr/>
        </p:nvSpPr>
        <p:spPr>
          <a:xfrm flipH="1" flipV="1">
            <a:off x="1979280" y="2492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53"/>
          <p:cNvSpPr/>
          <p:nvPr/>
        </p:nvSpPr>
        <p:spPr>
          <a:xfrm flipV="1">
            <a:off x="6156360" y="2492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AutoShape 55">
            <a:hlinkClick r:id="" action="ppaction://hlinkshowjump?jump=firstslide"/>
          </p:cNvPr>
          <p:cNvSpPr/>
          <p:nvPr/>
        </p:nvSpPr>
        <p:spPr>
          <a:xfrm>
            <a:off x="8388360" y="6165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3c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Заголовок 1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3" descr=""/>
          <p:cNvPicPr/>
          <p:nvPr/>
        </p:nvPicPr>
        <p:blipFill>
          <a:blip r:embed="rId1"/>
          <a:stretch/>
        </p:blipFill>
        <p:spPr>
          <a:xfrm>
            <a:off x="-201600" y="281160"/>
            <a:ext cx="8437680" cy="13032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«Век не забуду ваших милостей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«Улица моя тесна; воли мне мало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«Поздно мне каяться</a:t>
            </a:r>
            <a:r>
              <a:rPr b="0" i="1" lang="ru-RU" sz="2600" spc="-1" strike="noStrike">
                <a:solidFill>
                  <a:srgbClr val="4e3b30"/>
                </a:solidFill>
                <a:latin typeface="Arial"/>
              </a:rPr>
              <a:t>»</a:t>
            </a: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«Кто из моих людей смеет обижать сироту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600" spc="-1" strike="noStrike">
                <a:solidFill>
                  <a:srgbClr val="4e3b30"/>
                </a:solidFill>
                <a:latin typeface="Franklin Gothic Book"/>
              </a:rPr>
              <a:t>«Казнить так казнить, жаловать так жаловать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4824000"/>
            <a:ext cx="815652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«Как ты смел лезть ко мне с такими пустяками …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я с тебя живого кожу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елю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содрать на тулупы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2000" spc="-1" strike="noStrike">
                <a:solidFill>
                  <a:srgbClr val="4e3b30"/>
                </a:solidFill>
                <a:latin typeface="Arial"/>
              </a:rPr>
              <a:t>А разве нет удачи удалому? Разве в старину Гришка Отрепьев не царствовал?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8" name="Рисунок 6" descr="pugachex.jpg"/>
          <p:cNvPicPr/>
          <p:nvPr/>
        </p:nvPicPr>
        <p:blipFill>
          <a:blip r:embed="rId2"/>
          <a:stretch/>
        </p:blipFill>
        <p:spPr>
          <a:xfrm>
            <a:off x="5857920" y="-285840"/>
            <a:ext cx="3011400" cy="370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071600" y="713880"/>
            <a:ext cx="461484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Век не забуду вашей милост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Улица моя тесна, воли мне мал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Поздно  мне каять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Кто из моих людей смеет обижать сироту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Казнить, так казнить, жаловать, так жалова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Franklin Gothic Book"/>
              </a:rPr>
              <a:t>ты смел лезть ко мне с такими пустяками …</a:t>
            </a:r>
            <a:r>
              <a:rPr b="0" i="1" lang="en-US" sz="24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Franklin Gothic Book"/>
              </a:rPr>
              <a:t>я с тебя живого кожу </a:t>
            </a:r>
            <a:r>
              <a:rPr b="0" i="1" lang="ru-RU" sz="2400" spc="-1" strike="noStrike">
                <a:solidFill>
                  <a:srgbClr val="c00000"/>
                </a:solidFill>
                <a:latin typeface="Franklin Gothic Book"/>
              </a:rPr>
              <a:t>велю</a:t>
            </a:r>
            <a:r>
              <a:rPr b="0" i="1" lang="ru-RU" sz="2400" spc="-1" strike="noStrike">
                <a:solidFill>
                  <a:srgbClr val="c00000"/>
                </a:solidFill>
                <a:latin typeface="Franklin Gothic Book"/>
              </a:rPr>
              <a:t> содрать на тулупы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А разве нет удачи удалому? Разве в старину Гришка Отрепьев не царствовал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Блок-схема: процесс 14"/>
          <p:cNvSpPr/>
          <p:nvPr/>
        </p:nvSpPr>
        <p:spPr>
          <a:xfrm>
            <a:off x="142920" y="2357280"/>
            <a:ext cx="3786120" cy="613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род и вл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Блок-схема: процесс 15"/>
          <p:cNvSpPr/>
          <p:nvPr/>
        </p:nvSpPr>
        <p:spPr>
          <a:xfrm>
            <a:off x="1214280" y="4429080"/>
            <a:ext cx="46080" cy="46080"/>
          </a:xfrm>
          <a:prstGeom prst="flowChart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Блок-схема: процесс 16"/>
          <p:cNvSpPr/>
          <p:nvPr/>
        </p:nvSpPr>
        <p:spPr>
          <a:xfrm>
            <a:off x="0" y="3571920"/>
            <a:ext cx="385776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илосердие и жесток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Блок-схема: процесс 17"/>
          <p:cNvSpPr/>
          <p:nvPr/>
        </p:nvSpPr>
        <p:spPr>
          <a:xfrm>
            <a:off x="0" y="4429080"/>
            <a:ext cx="371484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есть и милосерд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Блок-схема: процесс 18"/>
          <p:cNvSpPr/>
          <p:nvPr/>
        </p:nvSpPr>
        <p:spPr>
          <a:xfrm>
            <a:off x="0" y="5357880"/>
            <a:ext cx="364320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есть и преда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214200" y="1357200"/>
            <a:ext cx="402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 народного бу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152280" y="328680"/>
            <a:ext cx="8564760" cy="1536480"/>
          </a:xfrm>
          <a:prstGeom prst="rect">
            <a:avLst/>
          </a:prstGeom>
          <a:ln w="0">
            <a:noFill/>
          </a:ln>
        </p:spPr>
      </p:pic>
      <p:sp>
        <p:nvSpPr>
          <p:cNvPr id="507" name="Овал 4"/>
          <p:cNvSpPr/>
          <p:nvPr/>
        </p:nvSpPr>
        <p:spPr>
          <a:xfrm>
            <a:off x="3429000" y="3786120"/>
            <a:ext cx="2000160" cy="10717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угач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Овал 5"/>
          <p:cNvSpPr/>
          <p:nvPr/>
        </p:nvSpPr>
        <p:spPr>
          <a:xfrm>
            <a:off x="1000080" y="1714680"/>
            <a:ext cx="2143080" cy="9284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ртр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Овал 7"/>
          <p:cNvSpPr/>
          <p:nvPr/>
        </p:nvSpPr>
        <p:spPr>
          <a:xfrm>
            <a:off x="5072040" y="1928880"/>
            <a:ext cx="3857760" cy="11430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вость личности Е.Пугач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Овал 8"/>
          <p:cNvSpPr/>
          <p:nvPr/>
        </p:nvSpPr>
        <p:spPr>
          <a:xfrm>
            <a:off x="5500800" y="4857840"/>
            <a:ext cx="3643200" cy="14288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 обездоленных и обижен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Овал 9"/>
          <p:cNvSpPr/>
          <p:nvPr/>
        </p:nvSpPr>
        <p:spPr>
          <a:xfrm>
            <a:off x="1285920" y="5143680"/>
            <a:ext cx="2857320" cy="17143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размах натуры и тщеслав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2" name="Прямая со стрелкой 12"/>
          <p:cNvCxnSpPr/>
          <p:nvPr/>
        </p:nvCxnSpPr>
        <p:spPr>
          <a:xfrm flipH="1" flipV="1">
            <a:off x="3071160" y="2428560"/>
            <a:ext cx="1215000" cy="1357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513" name="Прямая со стрелкой 14"/>
          <p:cNvCxnSpPr>
            <a:stCxn id="507" idx="2"/>
          </p:cNvCxnSpPr>
          <p:nvPr/>
        </p:nvCxnSpPr>
        <p:spPr>
          <a:xfrm flipH="1">
            <a:off x="2316960" y="4322880"/>
            <a:ext cx="1112040" cy="1324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514" name="Прямая со стрелкой 16"/>
          <p:cNvCxnSpPr>
            <a:endCxn id="509" idx="3"/>
          </p:cNvCxnSpPr>
          <p:nvPr/>
        </p:nvCxnSpPr>
        <p:spPr>
          <a:xfrm flipH="1" flipV="1">
            <a:off x="5636880" y="2904840"/>
            <a:ext cx="149760" cy="244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515" name="Прямая со стрелкой 18"/>
          <p:cNvCxnSpPr>
            <a:endCxn id="510" idx="1"/>
          </p:cNvCxnSpPr>
          <p:nvPr/>
        </p:nvCxnSpPr>
        <p:spPr>
          <a:xfrm>
            <a:off x="5429160" y="4428720"/>
            <a:ext cx="605520" cy="6390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516" name="Прямая со стрелкой 20"/>
          <p:cNvCxnSpPr>
            <a:stCxn id="507" idx="3"/>
            <a:endCxn id="511" idx="7"/>
          </p:cNvCxnSpPr>
          <p:nvPr/>
        </p:nvCxnSpPr>
        <p:spPr>
          <a:xfrm>
            <a:off x="3722760" y="4700160"/>
            <a:ext cx="2160" cy="6944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517" name="Прямая со стрелкой 29"/>
          <p:cNvCxnSpPr>
            <a:stCxn id="507" idx="6"/>
            <a:endCxn id="509" idx="3"/>
          </p:cNvCxnSpPr>
          <p:nvPr/>
        </p:nvCxnSpPr>
        <p:spPr>
          <a:xfrm flipV="1">
            <a:off x="5429160" y="2904840"/>
            <a:ext cx="208800" cy="14184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518" name="Овал 35"/>
          <p:cNvSpPr/>
          <p:nvPr/>
        </p:nvSpPr>
        <p:spPr>
          <a:xfrm>
            <a:off x="0" y="3214800"/>
            <a:ext cx="2990880" cy="1285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ев как предводитель восст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89000" y="396720"/>
            <a:ext cx="8808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304920" y="1554120"/>
          <a:ext cx="8686800" cy="6765840"/>
        </p:xfrm>
        <a:graphic>
          <a:graphicData uri="http://schemas.openxmlformats.org/drawingml/2006/table">
            <a:tbl>
              <a:tblPr/>
              <a:tblGrid>
                <a:gridCol w="409320"/>
                <a:gridCol w="2071800"/>
                <a:gridCol w="2000160"/>
                <a:gridCol w="1928880"/>
                <a:gridCol w="2276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1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сторическая основа повести А. С. Пушкина «Капитанская дочк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знакомить с историческим материалом для более глубокого представления о предводителе крестьянской войны 1773 – 1775 гг. Емельяне Пугаче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нимать причины  народного бу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меть работать с текстом, находить объяснения событиям, описанным в рома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меть сопоставлять исторические факты и  художественный вымыс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нализ и осмысление получен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214200" y="1357200"/>
            <a:ext cx="4286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статочно красочно и четко даны портретные описания Пугачева в повести. Когда бунтовщик появляется перед читателем в образе бедного беглеца, автор характеризует его внешность довольно нейтрально, отмечая, правда, его бегающие глаза. Совсем по-другому показан он, когда речь идет не об обычном мужике, а о самозванце, – красный казацкий кафтан, соболья шапка, сверкающие глаза, правильные и приятные черты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Заголовок 4" descr=""/>
          <p:cNvPicPr/>
          <p:nvPr/>
        </p:nvPicPr>
        <p:blipFill>
          <a:blip r:embed="rId1"/>
          <a:stretch/>
        </p:blipFill>
        <p:spPr>
          <a:xfrm>
            <a:off x="85680" y="566640"/>
            <a:ext cx="8893080" cy="1152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800240" y="571320"/>
            <a:ext cx="4343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можно заметить, немаловажную роль играет в создании его портрета описание глаз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ушкин постоянно заострял на этой детали внимани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"живые большие глаза так и бегали"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"сверкающие глаза"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"сверкнув огненными глазами"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"взглянул ястребиными своими глазами"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чевидно, для автора было важным отразить в них многоликость, неоднозначность русского народ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Реалистичность образа Е Пугачева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- Пугачев как предводитель восстания (одаренность, смелость, демократизм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-защитник обездоленных и обиженны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Противоречивость личности Пугач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-жестокость, грубость и способность к милосердию и благодарнос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-широкий размах натуры и тщеслав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Художественные приемы создания образа (поступки, сопоставлени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356760"/>
            <a:ext cx="40384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Какие поступки Пугачева рисуют нам его как человека великодушного, гуманного, справедливого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356760"/>
            <a:ext cx="40384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Пушкин изобразил Пугачева человеком, заботящемся о справедливости. Его гуманизм обнаруживается прежде всего в том, что он во главе восставших встал на борьбу за освобождение народа от крепостной зависимост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Franklin Gothic Book"/>
              </a:rPr>
              <a:t>В чем проявляются незаурядный ум, личное мужество и военно-организаторские способности Пугачева?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4832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Book"/>
              </a:rPr>
              <a:t>Пугачев выступает в повести как человек, обладающий природным умом. Он умеет обращаться с людьми разных социальных групп и привлекать симпатии окружающих. Поведение Пугачева во время боев обнаруживает в нем незаурядное личное мужество. Он принимает непосредственное участие в сражениях, ободряя личным примером своих бойцов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Как относится к Пугачеву народ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Какую роль играет Пугачев в судьбе Гринева и Марьи Ивановны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64832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Народ видит в нем своего вождя и заступни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Судьба Гринева и Маши дает возможность показать доброту и благородство Пугачева, представив его в роли представителя человеческого счасть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-171360" y="-6480"/>
            <a:ext cx="9321840" cy="29750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14200" y="278568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ложность характера Пугачева явилась символом сложности времени, раздираемого социальными противоречиями. В повести «Капитанская дочка» ярко проявился реализм Пушкина и гуманизм писателя, который учит не ставить клеймо на человеке, а воспринимать его во всем многообразии социальных и личных отношени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255600" y="-23760"/>
            <a:ext cx="8407440" cy="197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973680" y="2060280"/>
            <a:ext cx="517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Д/З . Найдите общие положения в отношении автора к главным героям в произведениях Пушкина «Дубровский» и «Капитанская дочка» .</a:t>
            </a: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3" name="Picture 5" descr="pushkin"/>
          <p:cNvPicPr/>
          <p:nvPr/>
        </p:nvPicPr>
        <p:blipFill>
          <a:blip r:embed="rId2"/>
          <a:stretch/>
        </p:blipFill>
        <p:spPr>
          <a:xfrm>
            <a:off x="357120" y="1857240"/>
            <a:ext cx="2455920" cy="295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4" name="Text Box 6"/>
          <p:cNvSpPr/>
          <p:nvPr/>
        </p:nvSpPr>
        <p:spPr>
          <a:xfrm>
            <a:off x="539640" y="4869000"/>
            <a:ext cx="820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Человеческие взаимоотношения должны строиться на уважении и милосерди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чему  д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ро жизнетворн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395280" y="1268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Историческая правда</a:t>
            </a:r>
            <a:r>
              <a:rPr b="0" lang="ru-RU" sz="2200" spc="-1" strike="noStrike">
                <a:solidFill>
                  <a:srgbClr val="4e3b3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едводитель восстания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ада Оренбург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родный герой; демократиз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метливость ума, хитро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естоко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агическая судьб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42920" y="1267920"/>
            <a:ext cx="4249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            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Вымысел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зменен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рактер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геро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ен проявить мило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жет быть благодарным: на добро отвечает милость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ен оценить честь и мужество противн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24000" y="530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820000"/>
                </a:solidFill>
                <a:latin typeface="Calibri"/>
              </a:rPr>
              <a:t>Изменение характера героя –</a:t>
            </a:r>
            <a:r>
              <a:rPr b="0" lang="ru-RU" sz="2800" spc="-1" strike="noStrike">
                <a:solidFill>
                  <a:srgbClr val="82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20000"/>
                </a:solidFill>
                <a:latin typeface="Calibri"/>
              </a:rPr>
              <a:t>стремление автора раскрыть проблематику и идею произвед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2" descr=""/>
          <p:cNvPicPr/>
          <p:nvPr/>
        </p:nvPicPr>
        <p:blipFill>
          <a:blip r:embed="rId1"/>
          <a:stretch/>
        </p:blipFill>
        <p:spPr>
          <a:xfrm>
            <a:off x="158760" y="328680"/>
            <a:ext cx="9040680" cy="1353960"/>
          </a:xfrm>
          <a:prstGeom prst="rect">
            <a:avLst/>
          </a:prstGeom>
          <a:ln w="0">
            <a:noFill/>
          </a:ln>
        </p:spPr>
      </p:pic>
      <p:pic>
        <p:nvPicPr>
          <p:cNvPr id="540" name="Содержимое 4" descr="«Капитанская дочка». Глава 3. «Крепость». Гринев и Швабрин у Мироновых. Художник С. Герасимо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280" y="1600200"/>
            <a:ext cx="3254040" cy="47242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647960" y="1285920"/>
            <a:ext cx="43434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20000"/>
                </a:solidFill>
                <a:latin typeface="Franklin Gothic Book"/>
              </a:rPr>
              <a:t>«Прости, народ православный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2" name="Рисунок 3" descr="3251.jpg"/>
          <p:cNvPicPr/>
          <p:nvPr/>
        </p:nvPicPr>
        <p:blipFill>
          <a:blip r:embed="rId4"/>
          <a:stretch/>
        </p:blipFill>
        <p:spPr>
          <a:xfrm>
            <a:off x="4714920" y="2143080"/>
            <a:ext cx="3857760" cy="419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457200" y="357120"/>
          <a:ext cx="8543880" cy="5500800"/>
        </p:xfrm>
        <a:graphic>
          <a:graphicData uri="http://schemas.openxmlformats.org/drawingml/2006/table">
            <a:tbl>
              <a:tblPr/>
              <a:tblGrid>
                <a:gridCol w="399960"/>
                <a:gridCol w="1928880"/>
                <a:gridCol w="2286000"/>
                <a:gridCol w="1785960"/>
                <a:gridCol w="2143080"/>
              </a:tblGrid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2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ормирование характера и взглядов Петруши Грине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яснить, влияют ли обстоятельства на формирование личности геро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анализиров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уть становления личности Петра Гринева в движении и развит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меть объяснять изменения в характере главного геро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лать выводы, кратко излагать свои мыс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тод сопоставительно-сравнительного анали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ыяснить, влияют ли обстоятельства на формирование личности геро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04920" y="357120"/>
          <a:ext cx="8686800" cy="6012000"/>
        </p:xfrm>
        <a:graphic>
          <a:graphicData uri="http://schemas.openxmlformats.org/drawingml/2006/table">
            <a:tbl>
              <a:tblPr/>
              <a:tblGrid>
                <a:gridCol w="552240"/>
                <a:gridCol w="1785960"/>
                <a:gridCol w="2214720"/>
                <a:gridCol w="2214360"/>
                <a:gridCol w="19195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 и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Многозначительные обстоятельства встречи с вожаты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действовать развитию умения сопоставлять, обобщать, оценивать сво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вершенствование навыков художественного чтения и анализа художественного текста. (глава «Вожатый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 Работа в творческих групп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УППА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ПЕРВАЯ ВСТРЕЧА ГРИНЕВА С ПУГАЧЕВЫ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УППА№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ПОРТРЕТ  ВОЖАТОГ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бота со словар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62" name="Рисунок 4" descr="http://s52.radikal.ru/i135/0812/b4/480ef20cdf47.jpg"/>
          <p:cNvPicPr/>
          <p:nvPr/>
        </p:nvPicPr>
        <p:blipFill>
          <a:blip r:embed="rId1"/>
          <a:stretch/>
        </p:blipFill>
        <p:spPr>
          <a:xfrm>
            <a:off x="1500120" y="3214800"/>
            <a:ext cx="30718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304920" y="357120"/>
          <a:ext cx="8686800" cy="5357880"/>
        </p:xfrm>
        <a:graphic>
          <a:graphicData uri="http://schemas.openxmlformats.org/drawingml/2006/table">
            <a:tbl>
              <a:tblPr/>
              <a:tblGrid>
                <a:gridCol w="266760"/>
                <a:gridCol w="2286000"/>
                <a:gridCol w="2214360"/>
                <a:gridCol w="2000160"/>
                <a:gridCol w="191952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предме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1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лужба в Белогорской креп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нимать содержание прочитанн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казать приемы создания автором образа главных героев.(поступки, поведение в различных ситуаци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меть сравнивать и  делать вы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хождение и отбор информации в текст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нализ и осмысление полученной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04920" y="428760"/>
          <a:ext cx="8686800" cy="5394240"/>
        </p:xfrm>
        <a:graphic>
          <a:graphicData uri="http://schemas.openxmlformats.org/drawingml/2006/table">
            <a:tbl>
              <a:tblPr/>
              <a:tblGrid>
                <a:gridCol w="552240"/>
                <a:gridCol w="2071800"/>
                <a:gridCol w="2214720"/>
                <a:gridCol w="1785600"/>
                <a:gridCol w="2062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стория любви Петра Гринева и Маши Миронов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нимать содержание главы «Любовь», отвечать на вопросы по содержанию прочитанн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находить в тексте художественно- выразительные  средства я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ированное чтение главы «Любов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ловар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цитатными характеристиками, определяющими основные черты характера  главного геро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214200" y="571680"/>
          <a:ext cx="8686800" cy="2651040"/>
        </p:xfrm>
        <a:graphic>
          <a:graphicData uri="http://schemas.openxmlformats.org/drawingml/2006/table">
            <a:tbl>
              <a:tblPr/>
              <a:tblGrid>
                <a:gridCol w="428760"/>
                <a:gridCol w="1785960"/>
                <a:gridCol w="2143080"/>
                <a:gridCol w="2357280"/>
                <a:gridCol w="19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инев и Швабрин. Проблемы чести, 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характеризовать отношения Гринева и Шваб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меть сравнивать и  делать вы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бота над понятиями «честь» и «достоин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полнение табл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66" name="Рисунок 4" descr="«Капитанская дочка». Глава 3. «Поединок». Художник С. Герасим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214800"/>
            <a:ext cx="821556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304920" y="428760"/>
          <a:ext cx="8686800" cy="4572000"/>
        </p:xfrm>
        <a:graphic>
          <a:graphicData uri="http://schemas.openxmlformats.org/drawingml/2006/table">
            <a:tbl>
              <a:tblPr/>
              <a:tblGrid>
                <a:gridCol w="552240"/>
                <a:gridCol w="2071800"/>
                <a:gridCol w="2214720"/>
                <a:gridCol w="1785600"/>
                <a:gridCol w="2062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зображение народной войны и ее вожд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казать способность народных масс восставать против существующих условий жизн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нимать значение сильной личности  в рома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чить находить в тексте художественно- выразительные  средства я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накомство  с литературным направлением – реализм, родовым признаком которого является воспроизведение типических характеров в типических обстоятельств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04920" y="357120"/>
          <a:ext cx="8686800" cy="5357880"/>
        </p:xfrm>
        <a:graphic>
          <a:graphicData uri="http://schemas.openxmlformats.org/drawingml/2006/table">
            <a:tbl>
              <a:tblPr/>
              <a:tblGrid>
                <a:gridCol w="266760"/>
                <a:gridCol w="2286000"/>
                <a:gridCol w="2214360"/>
                <a:gridCol w="1857240"/>
                <a:gridCol w="206244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нать, пони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ниверсальная предме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1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Образ Емельяна Пугаче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способствовать формированию понятий: "художественный образ", "приёмы раскрытия образа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правильно оценивать поступк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формировать умения акцентного вычитывания произведения, составления характеристики геро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бота над формированием понятия «художественный образ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7:18:59Z</dcterms:created>
  <dc:creator>comp</dc:creator>
  <dc:description/>
  <dc:language>en-US</dc:language>
  <cp:lastModifiedBy>Global</cp:lastModifiedBy>
  <dcterms:modified xsi:type="dcterms:W3CDTF">2013-11-06T13:51:51Z</dcterms:modified>
  <cp:revision>208</cp:revision>
  <dc:subject/>
  <dc:title>Слайд 1</dc:title>
</cp:coreProperties>
</file>