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3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46A-53F9-4F8B-975B-4B851E30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EB3-93F5-47D0-BF5C-FC2DCA7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20F-A886-4D9D-B51C-178DE53B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69D-7EF4-4EEF-8D0A-92A25FF0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ADF-0862-41DA-BCC9-7751C9C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311-650C-451E-AB60-C474FFE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8C7-004E-4749-A2BE-2F360291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A8C-193D-4EBA-A741-E70CECE9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552-2F92-4A18-8E50-C8618735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ACC-3A13-40BB-8BA7-B161981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836-8EBB-457A-ACD3-2A5EF4B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646-E611-4791-AEB3-092C5AD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9560-766C-4DDA-9D35-9A9977A34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yborg.tv/image/texts/4d/79/a5/340/0d134a8a191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forps.com/uploads/posts/2008-03/thumbs/1206287036_wu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96;&#1082;&#1086;&#1083;&#1100;&#1085;&#1080;&#1082;&#1080;%20&#1074;%20&#1082;&#1072;&#1088;&#1090;&#1080;&#1085;&#1082;&#1072;&#1093;&amp;img_url=img-fotki.yandex.ru/get/3004/ilixina.6/0_1f33b_39bf9290_L&amp;spsite=fake-023-11101441.ru&amp;p=12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bms.24open.ru/images/16a2cdfd032e56689053a167d6ce5c2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6204s-nevsosh5.edusite.ru/images/c09-3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ШКОЛЬНЫЙ ОТРЯД ПРАВОПОРЯДКА</a:t>
            </a:r>
            <a:br>
              <a:rPr sz="3800"/>
            </a:b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«ЩИТ»</a:t>
            </a:r>
            <a:br>
              <a:rPr sz="3800"/>
            </a:b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СОВМЕСТНО С МВД РБ  </a:t>
            </a: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8989"/>
                </a:solidFill>
                <a:latin typeface="Calibri"/>
              </a:rPr>
              <a:t>представляю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Картинка 78 из 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3643200"/>
            <a:ext cx="323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6665760" cy="4998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428840" y="428760"/>
            <a:ext cx="60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ле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000920" cy="525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1428840" y="428760"/>
            <a:ext cx="60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ле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а 34 из 64000"/>
          <p:cNvPicPr/>
          <p:nvPr/>
        </p:nvPicPr>
        <p:blipFill>
          <a:blip r:embed="rId1"/>
          <a:stretch/>
        </p:blipFill>
        <p:spPr>
          <a:xfrm>
            <a:off x="71280" y="0"/>
            <a:ext cx="91378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2766960"/>
            <a:ext cx="9979200" cy="1128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2 из 63889"/>
          <p:cNvPicPr/>
          <p:nvPr/>
        </p:nvPicPr>
        <p:blipFill>
          <a:blip r:embed="rId3"/>
          <a:stretch/>
        </p:blipFill>
        <p:spPr>
          <a:xfrm>
            <a:off x="571680" y="4000680"/>
            <a:ext cx="2628720" cy="2571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5500800" y="414324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428760" y="338040"/>
            <a:ext cx="3071520" cy="23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6"/>
          <a:stretch/>
        </p:blipFill>
        <p:spPr>
          <a:xfrm>
            <a:off x="5715000" y="28584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 год 062"/>
          <p:cNvPicPr/>
          <p:nvPr/>
        </p:nvPicPr>
        <p:blipFill>
          <a:blip r:embed="rId1"/>
          <a:stretch/>
        </p:blipFill>
        <p:spPr>
          <a:xfrm>
            <a:off x="571680" y="50004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3929040" y="2857680"/>
            <a:ext cx="5072040" cy="3803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" descr=""/>
          <p:cNvPicPr/>
          <p:nvPr/>
        </p:nvPicPr>
        <p:blipFill>
          <a:blip r:embed="rId3"/>
          <a:stretch/>
        </p:blipFill>
        <p:spPr>
          <a:xfrm>
            <a:off x="285840" y="4389480"/>
            <a:ext cx="3274920" cy="1888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500800" y="11430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32d2e"/>
                </a:solidFill>
                <a:latin typeface="Arial"/>
              </a:rPr>
              <a:t>Шко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356680" cy="626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8570880" cy="642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85840" y="142920"/>
            <a:ext cx="8713800" cy="653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285840" y="71280"/>
            <a:ext cx="8715240" cy="653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5"/>
          <a:stretch/>
        </p:blipFill>
        <p:spPr>
          <a:xfrm>
            <a:off x="144360" y="144360"/>
            <a:ext cx="8785440" cy="658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6"/>
          <a:stretch/>
        </p:blipFill>
        <p:spPr>
          <a:xfrm>
            <a:off x="144360" y="144360"/>
            <a:ext cx="8999640" cy="675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7"/>
          <a:stretch/>
        </p:blipFill>
        <p:spPr>
          <a:xfrm>
            <a:off x="144360" y="144360"/>
            <a:ext cx="8785440" cy="658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8"/>
          <a:stretch/>
        </p:blipFill>
        <p:spPr>
          <a:xfrm>
            <a:off x="144360" y="144360"/>
            <a:ext cx="8713800" cy="653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9"/>
          <a:stretch/>
        </p:blipFill>
        <p:spPr>
          <a:xfrm>
            <a:off x="144360" y="144360"/>
            <a:ext cx="8570880" cy="6427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10"/>
          <a:stretch/>
        </p:blipFill>
        <p:spPr>
          <a:xfrm>
            <a:off x="144360" y="144360"/>
            <a:ext cx="8713800" cy="653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11"/>
          <a:stretch/>
        </p:blipFill>
        <p:spPr>
          <a:xfrm>
            <a:off x="144360" y="144360"/>
            <a:ext cx="8713800" cy="653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12"/>
          <a:stretch/>
        </p:blipFill>
        <p:spPr>
          <a:xfrm>
            <a:off x="144360" y="144360"/>
            <a:ext cx="8785440" cy="658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13"/>
          <a:stretch/>
        </p:blipFill>
        <p:spPr>
          <a:xfrm>
            <a:off x="144360" y="144360"/>
            <a:ext cx="8955360" cy="671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14"/>
          <a:stretch/>
        </p:blipFill>
        <p:spPr>
          <a:xfrm>
            <a:off x="144360" y="144360"/>
            <a:ext cx="8999640" cy="674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15"/>
          <a:stretch/>
        </p:blipFill>
        <p:spPr>
          <a:xfrm>
            <a:off x="144360" y="144360"/>
            <a:ext cx="885672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ШКОЛЬНЫЙ ОТРЯД ПРАВОПОРЯДКА</a:t>
            </a:r>
            <a:br>
              <a:rPr sz="3800"/>
            </a:b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«ЩИТ»  </a:t>
            </a: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8989"/>
                </a:solidFill>
                <a:latin typeface="Calibri"/>
              </a:rPr>
              <a:t>До новых встреч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Картинка 78 из 351"/>
          <p:cNvPicPr/>
          <p:nvPr/>
        </p:nvPicPr>
        <p:blipFill>
          <a:blip r:embed="rId1"/>
          <a:stretch/>
        </p:blipFill>
        <p:spPr>
          <a:xfrm>
            <a:off x="2857680" y="3643200"/>
            <a:ext cx="323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 rot="20956800">
            <a:off x="277560" y="668160"/>
            <a:ext cx="596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«Закон – это справедливые рассуждения предписывающие то, что благородно». Древнеримские юрис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285920" y="2967120"/>
            <a:ext cx="64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Законы нужны не только для того, чтобы устрашать граждан, но и для того, чтобы помогать им». Воль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 rot="571200">
            <a:off x="3488760" y="47116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Нравы – это люди. Законы – разум страны». Аристо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6 из 75"/>
          <p:cNvPicPr/>
          <p:nvPr/>
        </p:nvPicPr>
        <p:blipFill>
          <a:blip r:embed="rId1"/>
          <a:stretch/>
        </p:blipFill>
        <p:spPr>
          <a:xfrm>
            <a:off x="7000920" y="214200"/>
            <a:ext cx="134316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7-tub.yandex.net/i?id=52850266-04"/>
          <p:cNvPicPr/>
          <p:nvPr/>
        </p:nvPicPr>
        <p:blipFill>
          <a:blip r:embed="rId2"/>
          <a:stretch/>
        </p:blipFill>
        <p:spPr>
          <a:xfrm>
            <a:off x="357120" y="2928960"/>
            <a:ext cx="1190520" cy="134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im7-tub.yandex.net/i?id=54430190-01"/>
          <p:cNvPicPr/>
          <p:nvPr/>
        </p:nvPicPr>
        <p:blipFill>
          <a:blip r:embed="rId3"/>
          <a:stretch/>
        </p:blipFill>
        <p:spPr>
          <a:xfrm>
            <a:off x="2000160" y="4857840"/>
            <a:ext cx="12146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26 из 4395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28760"/>
            <a:ext cx="380052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6160" y="142560"/>
            <a:ext cx="4057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АШ ОТРЯ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428720" y="1213920"/>
            <a:ext cx="3900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Arial Black"/>
              </a:rPr>
              <a:t>щи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2"/>
          <p:cNvSpPr/>
          <p:nvPr/>
        </p:nvSpPr>
        <p:spPr>
          <a:xfrm>
            <a:off x="4357800" y="2714760"/>
            <a:ext cx="4057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АШ ДЕВИ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786040" y="4357800"/>
            <a:ext cx="578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«ЩИТ» СТОИТ НА СТРАЖЕ ПОРЯДКА И ЗАКО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3-tub.yandex.net/i?id=26636626-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071720"/>
            <a:ext cx="157176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и себя с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8480" y="1600200"/>
            <a:ext cx="68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71440" indent="-22860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Calibri"/>
              </a:rPr>
              <a:t>ЗАПОМНИ,</a:t>
            </a:r>
            <a:r>
              <a:rPr b="0" lang="ru-RU" sz="19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чтобы не стать жертвой преступления, необходимо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271440" indent="-22860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- не привлекать внимание грабителей дорогостоящими  вещами, не вывешивать напоказ свои ценные вещ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271440" indent="-22860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- выбирать самый безопасный путь домой: избегать малолюдных и темных мест, заброшенных строек, а если есть такая возможность, попросить чтобы тебя встретил кто – нибудь из взрослых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271440" indent="-22860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Никогда не стоит на улице заводить разговор с незнакомыми людьми, никуда с ними не ходить, как бы они тебя не уговаривал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271440" indent="-22860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оказавшись лицом к лицу с преступником, оставаться спокойным, быть готовым к самообороне: использовать любой предмет для отражения напад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271440" indent="-22860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стараться вести себя разумно: твоя задача – сохранить свою жизнь и здоровье, так как никакие богатств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27144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ru-RU" sz="1900" spc="-1" strike="noStrike">
                <a:solidFill>
                  <a:srgbClr val="002060"/>
                </a:solidFill>
                <a:latin typeface="Calibri"/>
              </a:rPr>
              <a:t>их не стоят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30 из 52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00960" y="5429160"/>
            <a:ext cx="1476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201040" y="144720"/>
            <a:ext cx="42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Будь на связи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57120" y="654840"/>
            <a:ext cx="6000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этого не произошло,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более серьезно относиться к сохранности своего телефона, на улице переводить его в режим вибрации (чтобы не привлекать внимание вор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 время поездок в общественном транспорте нужно всегда снимать телефон с поясных ремней и с шейных шнур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 оставляй сотовый телефон на столах, в сумках, карманах куртки, всегда носи его при се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авать звонить ни под каким предлогом со своего телефона незнакомым людям; при просьбе вызвать скорую помощь, милицию сделать это самим, не давая свой телефон в чужие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М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дли сообщить родителям, классному руководителю школьному инспектору о пропаже сотового теле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 покупай сотовый телефон «с рук» у незнакомых людей, так как он может оказаться крад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-main-pic" descr="Картинка 127 из 52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3533760"/>
            <a:ext cx="2286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624040" y="14436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Ты мне, а я тебе..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799000" y="42984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актика вымогатель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1068840"/>
            <a:ext cx="7215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хоть раз выполнишь требование вымогателей, то с тебя будут требовать снова и снова в больших разме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бы угрозы не высказывались в твой адрес, стой на своем и докажи вымогателям, что ты их не боишься и не собираешься выполнять их треб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Изображение копия5677877888 001"/>
          <p:cNvPicPr/>
          <p:nvPr/>
        </p:nvPicPr>
        <p:blipFill>
          <a:blip r:embed="rId1"/>
          <a:stretch/>
        </p:blipFill>
        <p:spPr>
          <a:xfrm>
            <a:off x="357120" y="1000080"/>
            <a:ext cx="1143000" cy="1435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214200" y="3868200"/>
            <a:ext cx="6357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тись за помощью к взрослым людям, которым ты доверяешь (родителям, друзьям, учителям, сотрудникам мили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же несмотря на твою стойкость, у тебя все – таки забрали что – либо ценное, постарайся как можно лучше запомнить приметы вымогателей (манеру держаться, имена, клички, одежду) и срочно сообщить в милици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Изображение копия5677877888"/>
          <p:cNvPicPr/>
          <p:nvPr/>
        </p:nvPicPr>
        <p:blipFill>
          <a:blip r:embed="rId2"/>
          <a:stretch/>
        </p:blipFill>
        <p:spPr>
          <a:xfrm>
            <a:off x="6875640" y="3714840"/>
            <a:ext cx="1720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428760" y="428760"/>
            <a:ext cx="828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омкая музыка может вызвать шумовое опьянение и действовать как наркотик, пагубно влияя на самочувствие и здоровье самого слуш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omskpress.ru/images/cartoons/640_9724e4af81b236ccf5e61f18bffbd4bc.jpg"/>
          <p:cNvPicPr/>
          <p:nvPr/>
        </p:nvPicPr>
        <p:blipFill>
          <a:blip r:embed="rId1"/>
          <a:stretch/>
        </p:blipFill>
        <p:spPr>
          <a:xfrm>
            <a:off x="785880" y="3500280"/>
            <a:ext cx="3591000" cy="300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hnet.ru/files/2(594).jpg"/>
          <p:cNvPicPr/>
          <p:nvPr/>
        </p:nvPicPr>
        <p:blipFill>
          <a:blip r:embed="rId2"/>
          <a:stretch/>
        </p:blipFill>
        <p:spPr>
          <a:xfrm>
            <a:off x="5357880" y="3470400"/>
            <a:ext cx="32148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инка 37 из 132868"/>
          <p:cNvPicPr/>
          <p:nvPr/>
        </p:nvPicPr>
        <p:blipFill>
          <a:blip r:embed="rId1"/>
          <a:stretch/>
        </p:blipFill>
        <p:spPr>
          <a:xfrm>
            <a:off x="2428920" y="1643040"/>
            <a:ext cx="4286160" cy="46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00"/>
                </a:solidFill>
                <a:latin typeface="Calibri"/>
              </a:rPr>
              <a:t>Жить в зелёном мире этом хорошо зимой и летом,</a:t>
            </a:r>
            <a:br>
              <a:rPr sz="2700"/>
            </a:br>
            <a:r>
              <a:rPr b="1" lang="ru-RU" sz="2700" spc="-1" strike="noStrike">
                <a:solidFill>
                  <a:srgbClr val="ffff00"/>
                </a:solidFill>
                <a:latin typeface="Calibri"/>
              </a:rPr>
              <a:t>жизнь прекрасна, жизнь вокруг – человек природе др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Картинка 4 из 64000"/>
          <p:cNvPicPr/>
          <p:nvPr/>
        </p:nvPicPr>
        <p:blipFill>
          <a:blip r:embed="rId1"/>
          <a:stretch/>
        </p:blipFill>
        <p:spPr>
          <a:xfrm>
            <a:off x="285840" y="428760"/>
            <a:ext cx="87613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713640" cy="5035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785960" y="57168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ле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2:34:17Z</dcterms:created>
  <dc:creator>Админ</dc:creator>
  <dc:description/>
  <dc:language>en-US</dc:language>
  <cp:lastModifiedBy>Админ</cp:lastModifiedBy>
  <dcterms:modified xsi:type="dcterms:W3CDTF">2010-09-17T02:38:51Z</dcterms:modified>
  <cp:revision>2</cp:revision>
  <dc:subject/>
  <dc:title>ШКОЛЬНЫЙ ОТРЯД ПРАВОПОРЯДКА «ЩИТ» СОВМЕСТНО С МВД РБ   </dc:title>
</cp:coreProperties>
</file>