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E80-AED6-455E-A2DC-2D645197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49B-F32E-4401-BB84-E38C87AE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BB8-C9B1-47AF-A5DC-C6135770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2C1-9D1C-4EBC-BCEF-CE868AB8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D308-42EF-4476-A77E-42F8345A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C1539-8AE3-4C7C-BC70-360EA1C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18814-B301-4832-863D-7E80976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D03CC-B936-41E7-AAD8-7DDC0139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2386F-66CB-4461-B340-114A91B0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696C9-6334-435E-AA63-E1329D6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2AFC1-C914-4D2B-88B4-B3320D2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9BA-93C7-40A4-B0CF-0FB0AB25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504F4-94DA-461E-92E6-C0C2DE46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855A4-0AAE-41BC-8196-60F75E98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CE66E-4A2F-49C1-A4B1-924DF643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F566F-6ECD-4D6E-98C5-B7565EB3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902E3-FA76-41CE-BAB4-CFEB8C52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5B0B7-2B0D-4427-A28F-F17EB58F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A83C1-09D1-4CF8-BE0D-F9B4554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8648C-825C-4537-8D69-D78B802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7157F-0C03-4A30-A79B-49660BF7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4ED9F-A489-481C-8C19-230DAB8D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34A-BC05-4AB8-9D32-E11B73F8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AF61E-F28F-4807-BC7A-1DFAA6B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3E039-6544-4F03-9B9B-68BAA93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A6898-7CB3-4FC7-8D4C-0D308BB9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BC3BA-B0CA-4F16-BF66-49AA054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4C638-493C-49BD-AEF3-FD38682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3E613-3B09-40ED-94B8-7426863B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9ADC2-C99A-425C-8579-06F61B6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2E859-CDB3-4E67-BACF-04B005E6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E2326-6C79-4437-90B6-97382FF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D783F-2628-48C1-9C21-028F9F4D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881-36C7-4BDA-90E5-541693D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FE3A8-1050-416E-93D2-9DB59870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44FFD2-56B3-424D-84C4-0742FEFA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09957-8DDF-4F0E-AE3D-DBE72138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C40B5-9FE0-41D7-B15F-3A11E563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7AE82-0CD0-4EB7-9B17-E0560EE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6C89A-0BB5-4FF6-B9DD-4FA2D37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5AC3B-EDD0-493C-BDF5-38F23B3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C1B83-08E7-4217-8E96-473A1FF9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AD052F-5948-472A-81F0-18D0E242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6F95D-7830-4E04-94AA-217BBB92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655-96DD-4415-9B4F-41CCBAA5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9800C-8B5F-49DB-B89D-26069EAB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EA81C-54B2-40AF-A0E9-7495EC63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D8C7B-A8DF-4E36-A1ED-DB9D64D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576F36-0FA1-446A-844B-D4B43791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191C3-BF8A-4E9F-8BE7-4AD16EE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9A7114-D021-4A00-9877-14626395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F25F0-0ECA-492A-B0EF-D125A53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AC68A-6234-42A7-A628-C023FE4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60A94-187F-4D5F-80CE-C9112DD1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1295D-8A01-4109-A5D7-F66B7AB5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266-BCAE-438C-A18A-3327C547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D52D7-A1BA-414B-9186-92F33A64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F564C-F203-48BD-9382-A9FBDB6A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11B59-FC44-4899-ADFC-00723CB6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6BF2C-41DA-486B-B8AE-39D03832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A74974-795E-49FA-B158-BE85AE2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8C74E-1434-41E6-8495-EAB8488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DC459-5C80-458A-86E1-BEFF440F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3E6D6-A0CB-40E8-8A4F-0B5D5D4A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46638-BFCB-4989-8AF4-CCEA716E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4A7848-7252-4EE4-9738-BAD829AB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8D9-CBA9-410B-A608-D127B4D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50ABA-5ABD-44EF-9CEC-6549905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02904-4CD3-45CF-ACFC-80BAC506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7D89E-5866-457E-81A0-07B27B84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99A-8697-45A9-B332-577CDB0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2FD-F1EA-4522-85D3-094BD26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FE4-52B7-43D6-B9C5-E98104CB36D2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D093-EC92-43B0-A20C-1349C696760C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6A4-0D1B-424A-8B2F-DF46C30E3D0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CBE-C8E6-4B93-91C5-89B94EE692B8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A20A-65CC-444A-A4EA-892E83502FA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C79-0B9A-405E-8278-EB6325D23200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8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5" descr=""/>
          <p:cNvPicPr/>
          <p:nvPr/>
        </p:nvPicPr>
        <p:blipFill>
          <a:blip r:embed="rId2"/>
          <a:stretch/>
        </p:blipFill>
        <p:spPr>
          <a:xfrm>
            <a:off x="658800" y="1292400"/>
            <a:ext cx="4967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52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1066680"/>
            <a:ext cx="55911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56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57" name="Прямоугольник 4" descr=""/>
          <p:cNvPicPr/>
          <p:nvPr/>
        </p:nvPicPr>
        <p:blipFill>
          <a:blip r:embed="rId2"/>
          <a:stretch/>
        </p:blipFill>
        <p:spPr>
          <a:xfrm>
            <a:off x="804960" y="1176480"/>
            <a:ext cx="4236840" cy="184788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5" descr=""/>
          <p:cNvPicPr/>
          <p:nvPr/>
        </p:nvPicPr>
        <p:blipFill>
          <a:blip r:embed="rId3"/>
          <a:stretch/>
        </p:blipFill>
        <p:spPr>
          <a:xfrm>
            <a:off x="738360" y="2779560"/>
            <a:ext cx="47052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1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4" descr=""/>
          <p:cNvPicPr/>
          <p:nvPr/>
        </p:nvPicPr>
        <p:blipFill>
          <a:blip r:embed="rId2"/>
          <a:stretch/>
        </p:blipFill>
        <p:spPr>
          <a:xfrm>
            <a:off x="804960" y="1176480"/>
            <a:ext cx="423684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3" descr=""/>
          <p:cNvPicPr/>
          <p:nvPr/>
        </p:nvPicPr>
        <p:blipFill>
          <a:blip r:embed="rId3"/>
          <a:stretch/>
        </p:blipFill>
        <p:spPr>
          <a:xfrm>
            <a:off x="725400" y="2292480"/>
            <a:ext cx="49561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6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1176480"/>
            <a:ext cx="4406760" cy="252396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6" descr=""/>
          <p:cNvPicPr/>
          <p:nvPr/>
        </p:nvPicPr>
        <p:blipFill>
          <a:blip r:embed="rId3"/>
          <a:stretch/>
        </p:blipFill>
        <p:spPr>
          <a:xfrm>
            <a:off x="596880" y="2620800"/>
            <a:ext cx="49132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1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1176480"/>
            <a:ext cx="4406760" cy="25239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3" descr=""/>
          <p:cNvPicPr/>
          <p:nvPr/>
        </p:nvPicPr>
        <p:blipFill>
          <a:blip r:embed="rId3"/>
          <a:stretch/>
        </p:blipFill>
        <p:spPr>
          <a:xfrm>
            <a:off x="701640" y="2444760"/>
            <a:ext cx="48769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76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1176480"/>
            <a:ext cx="4406760" cy="2523960"/>
          </a:xfrm>
          <a:prstGeom prst="rect">
            <a:avLst/>
          </a:prstGeom>
          <a:ln w="0">
            <a:noFill/>
          </a:ln>
        </p:spPr>
      </p:pic>
      <p:pic>
        <p:nvPicPr>
          <p:cNvPr id="278" name="Прямоугольник 3" descr=""/>
          <p:cNvPicPr/>
          <p:nvPr/>
        </p:nvPicPr>
        <p:blipFill>
          <a:blip r:embed="rId3"/>
          <a:stretch/>
        </p:blipFill>
        <p:spPr>
          <a:xfrm>
            <a:off x="596880" y="2371680"/>
            <a:ext cx="47242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1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оугольник 4" descr=""/>
          <p:cNvPicPr/>
          <p:nvPr/>
        </p:nvPicPr>
        <p:blipFill>
          <a:blip r:embed="rId2"/>
          <a:stretch/>
        </p:blipFill>
        <p:spPr>
          <a:xfrm>
            <a:off x="719280" y="1176480"/>
            <a:ext cx="4406760" cy="2523960"/>
          </a:xfrm>
          <a:prstGeom prst="rect">
            <a:avLst/>
          </a:prstGeom>
          <a:ln w="0">
            <a:noFill/>
          </a:ln>
        </p:spPr>
      </p:pic>
      <p:pic>
        <p:nvPicPr>
          <p:cNvPr id="283" name="Прямоугольник 7" descr=""/>
          <p:cNvPicPr/>
          <p:nvPr/>
        </p:nvPicPr>
        <p:blipFill>
          <a:blip r:embed="rId3"/>
          <a:stretch/>
        </p:blipFill>
        <p:spPr>
          <a:xfrm>
            <a:off x="517680" y="2457360"/>
            <a:ext cx="52178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6" name="Picture 2" descr="http://im6-tub-ru.yandex.net/i?id=384080210-05-72&amp;n=21"/>
          <p:cNvPicPr/>
          <p:nvPr/>
        </p:nvPicPr>
        <p:blipFill>
          <a:blip r:embed="rId1"/>
          <a:stretch/>
        </p:blipFill>
        <p:spPr>
          <a:xfrm>
            <a:off x="-139680" y="-22320"/>
            <a:ext cx="9252000" cy="6973920"/>
          </a:xfrm>
          <a:prstGeom prst="rect">
            <a:avLst/>
          </a:prstGeom>
          <a:ln w="0">
            <a:noFill/>
          </a:ln>
        </p:spPr>
      </p:pic>
      <p:pic>
        <p:nvPicPr>
          <p:cNvPr id="287" name="Прямоугольник 4" descr=""/>
          <p:cNvPicPr/>
          <p:nvPr/>
        </p:nvPicPr>
        <p:blipFill>
          <a:blip r:embed="rId2"/>
          <a:stretch/>
        </p:blipFill>
        <p:spPr>
          <a:xfrm>
            <a:off x="804960" y="1176480"/>
            <a:ext cx="4236840" cy="252396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3" descr=""/>
          <p:cNvPicPr/>
          <p:nvPr/>
        </p:nvPicPr>
        <p:blipFill>
          <a:blip r:embed="rId3"/>
          <a:stretch/>
        </p:blipFill>
        <p:spPr>
          <a:xfrm>
            <a:off x="701640" y="2365200"/>
            <a:ext cx="4651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6:55:17Z</dcterms:created>
  <dc:creator>REEZIG</dc:creator>
  <dc:description/>
  <dc:language>en-US</dc:language>
  <cp:lastModifiedBy>REEZIG</cp:lastModifiedBy>
  <dcterms:modified xsi:type="dcterms:W3CDTF">2013-12-03T17:52:09Z</dcterms:modified>
  <cp:revision>7</cp:revision>
  <dc:subject/>
  <dc:title>Презентация PowerPoint</dc:title>
</cp:coreProperties>
</file>