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0.jpeg" ContentType="image/jpeg"/>
  <Override PartName="/ppt/media/image25.gif" ContentType="image/gif"/>
  <Override PartName="/ppt/media/image6.gif" ContentType="image/gif"/>
  <Override PartName="/ppt/media/image24.gif" ContentType="image/gif"/>
  <Override PartName="/ppt/media/image16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11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81E4-6395-4B60-B98D-F2756878AB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375-7AA2-4D29-8E17-4E086DFE7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C2C-426D-4DA9-8301-2B516A54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345-EAD6-47A8-A331-D0772B24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147-AE97-4A98-8692-20D5473B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98A-BBC0-4DFF-8A86-24290E4D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69B4-126E-431C-9CD2-1D348E60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E68-2A51-459E-8AA0-AF7F8088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6C57-300D-450E-A781-5BBD5E6D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2A7A-D39A-4070-BAE6-19F33DA7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F3C-41FE-4538-BD0C-8D0EE739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A2E9-9E35-42D3-AC2B-112EA062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90DD-E2FF-449D-A5CF-59F14F3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440-D254-486D-86F9-9E2E52E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3BF9-41C3-4CCC-9ECE-640B16F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9081-7375-4E15-BE8F-0BF6679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1E1C-6F35-41AA-A687-DA639302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948C-F934-4E64-B53C-BEEC9A3A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DAB5-0F8E-4FCD-8843-ADF29E39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D15-CE17-4ADB-BD3B-47326B0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FEE-114B-469B-AC16-01DF32A9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BFA-56D3-422C-B840-0C37D7E7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10F-3859-4A14-BEC4-3E2615E0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BDE-A492-4CC5-ABB3-6F20E8C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892-BC1D-4A23-A928-8E0BD8F9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A77-E55A-4408-AB99-2C10D9B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5AF-ECB1-4CE7-ABD4-DF0605A01C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5FD0-CCB2-48D9-9A41-E97AC2767CEB}" type="datetime">
              <a:rPr b="0" lang="ru-RU" sz="1200" spc="-1" strike="noStrike">
                <a:solidFill>
                  <a:srgbClr val="ac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Times New Roman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E514-C542-44CC-A12F-635B351EA5DC}" type="slidenum">
              <a:rPr b="0" lang="ru-RU" sz="1200" spc="-1" strike="noStrike">
                <a:solidFill>
                  <a:srgbClr val="ac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pekaspb.ru/?do=photo&amp;otherpixsize=1280&amp;q=50&amp;w=1&amp;id=023413200912116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Рисунок 4" descr="1225578270_xfjt_2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УДЕ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1" name="Picture 3" descr="C:\Users\владелец\Desktop\ОРКиСЭ\тора 2.jpeg"/>
          <p:cNvPicPr/>
          <p:nvPr/>
        </p:nvPicPr>
        <p:blipFill>
          <a:blip r:embed="rId1"/>
          <a:stretch/>
        </p:blipFill>
        <p:spPr>
          <a:xfrm>
            <a:off x="468360" y="2997360"/>
            <a:ext cx="424800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57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БУДДИ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4" name="Picture 3" descr="C:\Users\владелец\Desktop\ОРКиСЭ\книга буддистов.jpeg"/>
          <p:cNvPicPr/>
          <p:nvPr/>
        </p:nvPicPr>
        <p:blipFill>
          <a:blip r:embed="rId1"/>
          <a:stretch/>
        </p:blipFill>
        <p:spPr>
          <a:xfrm>
            <a:off x="539640" y="2492280"/>
            <a:ext cx="2621160" cy="396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владелец\Desktop\ОРКиСЭ\буддистская семья.jpeg"/>
          <p:cNvPicPr/>
          <p:nvPr/>
        </p:nvPicPr>
        <p:blipFill>
          <a:blip r:embed="rId2"/>
          <a:stretch/>
        </p:blipFill>
        <p:spPr>
          <a:xfrm>
            <a:off x="3995640" y="1844640"/>
            <a:ext cx="3978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ПРАВОСЛАВН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3" descr="C:\Users\владелец\Desktop\ОРКиСЭ\библия 2.jpeg"/>
          <p:cNvPicPr/>
          <p:nvPr/>
        </p:nvPicPr>
        <p:blipFill>
          <a:blip r:embed="rId1"/>
          <a:stretch/>
        </p:blipFill>
        <p:spPr>
          <a:xfrm>
            <a:off x="395280" y="1700280"/>
            <a:ext cx="361332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владелец\Desktop\ОРКиСЭ\православная семья.jpeg"/>
          <p:cNvPicPr/>
          <p:nvPr/>
        </p:nvPicPr>
        <p:blipFill>
          <a:blip r:embed="rId2"/>
          <a:stretch/>
        </p:blipFill>
        <p:spPr>
          <a:xfrm>
            <a:off x="4284720" y="1484280"/>
            <a:ext cx="4228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ятые Муромские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ётр и Феврония - покровители счастливого супружества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EF5C-0DFA-4D06-8B54-4CE047679B5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911320" cy="4824720"/>
          </a:xfrm>
          <a:prstGeom prst="rect">
            <a:avLst/>
          </a:prstGeom>
          <a:ln w="0">
            <a:noFill/>
          </a:ln>
        </p:spPr>
      </p:pic>
      <p:pic>
        <p:nvPicPr>
          <p:cNvPr id="173" name="muzhskoj_hor_Peresvet_-_Petr_i_Fevroniya_(iPlayer[1].fm).mp3" descr=""/>
          <p:cNvPicPr/>
          <p:nvPr/>
        </p:nvPicPr>
        <p:blipFill>
          <a:blip r:embed="rId2"/>
          <a:stretch/>
        </p:blipFill>
        <p:spPr>
          <a:xfrm>
            <a:off x="842976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6732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Царская семья</a:t>
            </a: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Романовых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9E1D-A6F6-45AF-915E-FDBE912EA46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38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07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Понимание             Любо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Уважение               Доверие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Доброта                 Забота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Помощь                  Дружб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Согласие              Ответственнос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79" name="Picture 5" descr="i?id=37266047-13"/>
          <p:cNvPicPr/>
          <p:nvPr/>
        </p:nvPicPr>
        <p:blipFill>
          <a:blip r:embed="rId1"/>
          <a:stretch/>
        </p:blipFill>
        <p:spPr>
          <a:xfrm>
            <a:off x="5364000" y="333360"/>
            <a:ext cx="35179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Праздники, посвящённые членам семьи   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 июля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День семьи, любви и верности в Росс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5 мая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Международный день сем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 июня 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День защиты дет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0 ноября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«Всемирный день ребенка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следнее воскресенье ноября – День матери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6993-5383-40CD-B3E2-A8DD35A9665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инквейн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1 строка – одно существительное, выражающее главную тему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2 строка – два прилагательных, выражающих главную мысль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3 строка – три глагола, описывающие действия в рамках темы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4 строка – фраза, несущая определенный смысл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5 строка – заключение в форме существительного (ассоциация с первым словом)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347-73C0-4918-9D0F-7455DD33EEF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5C3-E94B-41FC-86AD-488703924B8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Картинка 10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519360"/>
            <a:ext cx="3997440" cy="2998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ама и папа для меня самые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 доверяю свои тайны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 люблю  бабушку за то…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вою семью я считаю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Родным я хочу пожелать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оговорить с родителями о ценностях своей семь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Вопросы на странице 75 учебни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Написать сочинение о своей семье или нарисовать эмблему своей семьи( по желанию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оставить заповеди дружной и крепкой семь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Улыбнись новому дню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A8C6-3D41-4DC3-B655-9776EDD9FA4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2" descr="023413200912113"/>
          <p:cNvPicPr/>
          <p:nvPr/>
        </p:nvPicPr>
        <p:blipFill>
          <a:blip r:embed="rId1"/>
          <a:stretch/>
        </p:blipFill>
        <p:spPr>
          <a:xfrm>
            <a:off x="590400" y="2066760"/>
            <a:ext cx="5565960" cy="417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48464139_789_thumb"/>
          <p:cNvPicPr/>
          <p:nvPr/>
        </p:nvPicPr>
        <p:blipFill>
          <a:blip r:embed="rId2"/>
          <a:stretch/>
        </p:blipFill>
        <p:spPr>
          <a:xfrm>
            <a:off x="6156360" y="836640"/>
            <a:ext cx="2512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Users\лора\Desktop\ольге\анимация\ca50dbacfda71b6727d9ab5e16abc778.gif"/>
          <p:cNvPicPr/>
          <p:nvPr/>
        </p:nvPicPr>
        <p:blipFill>
          <a:blip r:embed="rId1"/>
          <a:stretch/>
        </p:blipFill>
        <p:spPr>
          <a:xfrm>
            <a:off x="395280" y="2060640"/>
            <a:ext cx="8415360" cy="44686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 rot="21243000">
            <a:off x="1332000" y="90792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b2b2b2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Мира и счастья вашей семье!</a:t>
            </a:r>
            <a:endParaRPr b="1" lang="en-US" sz="1800" spc="1" strike="noStrike">
              <a:ln w="28440">
                <a:solidFill>
                  <a:srgbClr val="b2b2b2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194" name="Picture 7" descr="49"/>
          <p:cNvPicPr/>
          <p:nvPr/>
        </p:nvPicPr>
        <p:blipFill>
          <a:blip r:embed="rId2"/>
          <a:stretch/>
        </p:blipFill>
        <p:spPr>
          <a:xfrm>
            <a:off x="133200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49"/>
          <p:cNvPicPr/>
          <p:nvPr/>
        </p:nvPicPr>
        <p:blipFill>
          <a:blip r:embed="rId3"/>
          <a:stretch/>
        </p:blipFill>
        <p:spPr>
          <a:xfrm>
            <a:off x="2700360" y="4724280"/>
            <a:ext cx="1238400" cy="129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49"/>
          <p:cNvPicPr/>
          <p:nvPr/>
        </p:nvPicPr>
        <p:blipFill>
          <a:blip r:embed="rId4"/>
          <a:stretch/>
        </p:blipFill>
        <p:spPr>
          <a:xfrm>
            <a:off x="414036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49"/>
          <p:cNvPicPr/>
          <p:nvPr/>
        </p:nvPicPr>
        <p:blipFill>
          <a:blip r:embed="rId5"/>
          <a:stretch/>
        </p:blipFill>
        <p:spPr>
          <a:xfrm>
            <a:off x="5508720" y="4653000"/>
            <a:ext cx="1238040" cy="1295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49"/>
          <p:cNvPicPr/>
          <p:nvPr/>
        </p:nvPicPr>
        <p:blipFill>
          <a:blip r:embed="rId6"/>
          <a:stretch/>
        </p:blipFill>
        <p:spPr>
          <a:xfrm>
            <a:off x="6877080" y="46530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Проверка д/з</a:t>
            </a:r>
            <a:br>
              <a:rPr sz="3200"/>
            </a:b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Какое определение вы дали слову «милосердие»?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А как считают ваши родители?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Выбрать качества, которые характеризуют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 милосердного человека.</a:t>
            </a: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2852640"/>
          <a:ext cx="8086680" cy="2844720"/>
        </p:xfrm>
        <a:graphic>
          <a:graphicData uri="http://schemas.openxmlformats.org/drawingml/2006/table">
            <a:tbl>
              <a:tblPr/>
              <a:tblGrid>
                <a:gridCol w="2697120"/>
                <a:gridCol w="2435040"/>
                <a:gridCol w="295452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добр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жад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пережива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л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Ebrima"/>
                        </a:rPr>
                        <a:t>лицемер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вежлив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лжив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хвасто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дружелюб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сочув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зазна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груб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005000"/>
            <a:ext cx="3724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Семья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Задачи урока: 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должить знакомство с традиционными религиями России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кретизировать  понятия «семья» и «семейные  ценности»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яснить как  традиционные религии России относятся к семье;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явить совпадают ли   семейные ценности различных  религиозных   культур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Что такое семья?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800000"/>
                </a:solidFill>
                <a:latin typeface="Calibri"/>
              </a:rPr>
              <a:t>Это группа живущих вместе близких родственников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Calibri"/>
              </a:rPr>
              <a:t>Объединение людей, сплочённых общими интересами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(Из словаря Ожегова С.И.)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46" name="Рисунок 8" descr="semya_580.jpg"/>
          <p:cNvPicPr/>
          <p:nvPr/>
        </p:nvPicPr>
        <p:blipFill>
          <a:blip r:embed="rId1"/>
          <a:stretch/>
        </p:blipFill>
        <p:spPr>
          <a:xfrm>
            <a:off x="960480" y="3645000"/>
            <a:ext cx="4316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Признаки семьи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а)  брачные  или  кровно  родственные  связи  между  всеми  её  членами,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б)  совместное  проживание  в  одном  помещении,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в)  общий  совместный  бюдже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7C25-8588-4577-83B6-79DA9CB02D9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BFE-5D1C-4687-A2BC-C5071F53BBA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                   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                                   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                               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13ED-450B-4789-A984-42ABF7B1BB3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2BD8-CFED-4C30-A7F2-EE3D8781B94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СЛАМ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58" name="Picture 2" descr="C:\Users\владелец\Desktop\ОРКиСЭ\коран.jpg"/>
          <p:cNvPicPr/>
          <p:nvPr/>
        </p:nvPicPr>
        <p:blipFill>
          <a:blip r:embed="rId1"/>
          <a:stretch/>
        </p:blipFill>
        <p:spPr>
          <a:xfrm>
            <a:off x="395280" y="1916280"/>
            <a:ext cx="3495600" cy="424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Users\владелец\Desktop\ОРКиСЭ\исламская семья.jpeg"/>
          <p:cNvPicPr/>
          <p:nvPr/>
        </p:nvPicPr>
        <p:blipFill>
          <a:blip r:embed="rId2"/>
          <a:stretch/>
        </p:blipFill>
        <p:spPr>
          <a:xfrm>
            <a:off x="4427640" y="2060640"/>
            <a:ext cx="39304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38:01Z</dcterms:created>
  <dc:creator>Евгений</dc:creator>
  <dc:description/>
  <dc:language>en-US</dc:language>
  <cp:lastModifiedBy>user</cp:lastModifiedBy>
  <dcterms:modified xsi:type="dcterms:W3CDTF">2013-04-26T07:33:04Z</dcterms:modified>
  <cp:revision>13</cp:revision>
  <dc:subject/>
  <dc:title> Семья</dc:title>
</cp:coreProperties>
</file>