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008-6354-4F86-A070-0D2D0B4A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8D6-D627-47A0-BC44-3B31CEAD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786-BA4D-4D7A-8A76-B9938E1B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EC2-4935-4DBD-84A7-BFA159EF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95D-514E-4952-AB05-0F2E8672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B7F-D450-4BD9-BB31-DBC5538C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3C3-48ED-4A24-AC5D-F3F66202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53C-1FA5-45F5-AD20-2E3AA4BA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603-D049-4DCD-94E1-1BF7FBD5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598-A17E-4E34-B3FC-FB4826A0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8F8-4D74-4025-B704-47DEBE0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036-028F-4E82-B2D6-6F85D76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B1B-26C9-4456-AD90-B083CFB49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1094800">
            <a:off x="468000" y="835920"/>
            <a:ext cx="798984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дународный день спасиб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5292720" y="3500280"/>
            <a:ext cx="418464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hank you (сэнк ю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Рисунок1.gif"/>
          <p:cNvPicPr/>
          <p:nvPr/>
        </p:nvPicPr>
        <p:blipFill>
          <a:blip r:embed="rId1"/>
          <a:stretch/>
        </p:blipFill>
        <p:spPr>
          <a:xfrm>
            <a:off x="6300720" y="4508640"/>
            <a:ext cx="3270240" cy="32716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Рисунок1.jpg"/>
          <p:cNvPicPr/>
          <p:nvPr/>
        </p:nvPicPr>
        <p:blipFill>
          <a:blip r:embed="rId2"/>
          <a:stretch/>
        </p:blipFill>
        <p:spPr>
          <a:xfrm>
            <a:off x="1332000" y="2087640"/>
            <a:ext cx="51721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й: Danke schön (данке шон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Рисунок1.gif"/>
          <p:cNvPicPr/>
          <p:nvPr/>
        </p:nvPicPr>
        <p:blipFill>
          <a:blip r:embed="rId1"/>
          <a:stretch/>
        </p:blipFill>
        <p:spPr>
          <a:xfrm>
            <a:off x="6300720" y="4508640"/>
            <a:ext cx="3270240" cy="3271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Рисунок1.jpg"/>
          <p:cNvPicPr/>
          <p:nvPr/>
        </p:nvPicPr>
        <p:blipFill>
          <a:blip r:embed="rId2"/>
          <a:stretch/>
        </p:blipFill>
        <p:spPr>
          <a:xfrm>
            <a:off x="539640" y="1989000"/>
            <a:ext cx="55054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й: Mercib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ucoups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рси бок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Рисунок1.gif"/>
          <p:cNvPicPr/>
          <p:nvPr/>
        </p:nvPicPr>
        <p:blipFill>
          <a:blip r:embed="rId1"/>
          <a:stretch/>
        </p:blipFill>
        <p:spPr>
          <a:xfrm>
            <a:off x="6300720" y="4508640"/>
            <a:ext cx="3270240" cy="3271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Рисунок1.jpg"/>
          <p:cNvPicPr/>
          <p:nvPr/>
        </p:nvPicPr>
        <p:blipFill>
          <a:blip r:embed="rId2"/>
          <a:stretch/>
        </p:blipFill>
        <p:spPr>
          <a:xfrm>
            <a:off x="900000" y="2205000"/>
            <a:ext cx="5284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 молчите, словно рыбы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оворите всем “спасибо”!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ень “спасибо”, без сомненья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ажен, словно День рожденья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-304920"/>
            <a:ext cx="8242560" cy="21402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3" descr="F:\8d065380b25c.jpg"/>
          <p:cNvPicPr/>
          <p:nvPr/>
        </p:nvPicPr>
        <p:blipFill>
          <a:blip r:embed="rId2"/>
          <a:stretch/>
        </p:blipFill>
        <p:spPr>
          <a:xfrm>
            <a:off x="701640" y="1728720"/>
            <a:ext cx="7715160" cy="46436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3" descr="Рисунок1.gif"/>
          <p:cNvPicPr/>
          <p:nvPr/>
        </p:nvPicPr>
        <p:blipFill>
          <a:blip r:embed="rId3"/>
          <a:stretch/>
        </p:blipFill>
        <p:spPr>
          <a:xfrm>
            <a:off x="6300720" y="4508640"/>
            <a:ext cx="32702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332000" y="141120"/>
            <a:ext cx="6840360" cy="62470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Рисунок1.gif"/>
          <p:cNvPicPr/>
          <p:nvPr/>
        </p:nvPicPr>
        <p:blipFill>
          <a:blip r:embed="rId2"/>
          <a:stretch/>
        </p:blipFill>
        <p:spPr>
          <a:xfrm>
            <a:off x="6732720" y="4653000"/>
            <a:ext cx="30319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11 января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Международный день спасибо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 по-английски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International Thank You Day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6443640" y="4653000"/>
            <a:ext cx="3033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Благодарность – это важно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Рисунок 5" descr="Рисунок3.jpg"/>
          <p:cNvPicPr/>
          <p:nvPr/>
        </p:nvPicPr>
        <p:blipFill>
          <a:blip r:embed="rId1"/>
          <a:stretch/>
        </p:blipFill>
        <p:spPr>
          <a:xfrm>
            <a:off x="171360" y="2127240"/>
            <a:ext cx="705816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Рисунок1.gif"/>
          <p:cNvPicPr/>
          <p:nvPr/>
        </p:nvPicPr>
        <p:blipFill>
          <a:blip r:embed="rId2"/>
          <a:stretch/>
        </p:blipFill>
        <p:spPr>
          <a:xfrm>
            <a:off x="6588000" y="4365720"/>
            <a:ext cx="303372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Благодарность – это важно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5280" y="2060280"/>
            <a:ext cx="737712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6588000" y="4365720"/>
            <a:ext cx="3033720" cy="3031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611280" y="234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ак аукнется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116000" y="292428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так и откликнетс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8360" y="400536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то посеешь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116000" y="472428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то и пожнеш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Благодарность – это важн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добрый при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обрый отве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то добро творит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того Бог отблагодари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Спасибо» или «благодарю»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55280" y="4868640"/>
            <a:ext cx="70167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Дарю благо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6443640" y="4581360"/>
            <a:ext cx="3033720" cy="3032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Рисунок2.png"/>
          <p:cNvPicPr/>
          <p:nvPr/>
        </p:nvPicPr>
        <p:blipFill>
          <a:blip r:embed="rId2"/>
          <a:stretch/>
        </p:blipFill>
        <p:spPr>
          <a:xfrm>
            <a:off x="2181240" y="1747800"/>
            <a:ext cx="47815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Спасибо» или «благодарю»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5229000"/>
            <a:ext cx="626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паси Бог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6443640" y="4581360"/>
            <a:ext cx="3033720" cy="3032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1.jpg"/>
          <p:cNvPicPr/>
          <p:nvPr/>
        </p:nvPicPr>
        <p:blipFill>
          <a:blip r:embed="rId2"/>
          <a:stretch/>
        </p:blipFill>
        <p:spPr>
          <a:xfrm>
            <a:off x="3124080" y="1490760"/>
            <a:ext cx="28958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ила благодарности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Рисунок1.gif"/>
          <p:cNvPicPr/>
          <p:nvPr/>
        </p:nvPicPr>
        <p:blipFill>
          <a:blip r:embed="rId1"/>
          <a:stretch/>
        </p:blipFill>
        <p:spPr>
          <a:xfrm>
            <a:off x="6300720" y="4653000"/>
            <a:ext cx="3054240" cy="3056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Рисунок3.jpg"/>
          <p:cNvPicPr/>
          <p:nvPr/>
        </p:nvPicPr>
        <p:blipFill>
          <a:blip r:embed="rId2"/>
          <a:stretch/>
        </p:blipFill>
        <p:spPr>
          <a:xfrm>
            <a:off x="1763640" y="1628640"/>
            <a:ext cx="57895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п</cp:lastModifiedBy>
  <dcterms:modified xsi:type="dcterms:W3CDTF">2015-01-18T12:53:52Z</dcterms:modified>
  <cp:revision>35</cp:revision>
  <dc:subject/>
  <dc:title>Презентация PowerPoint</dc:title>
</cp:coreProperties>
</file>