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373-C848-40A4-8296-AE8608F2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0B9-302E-42D2-8F23-2B265016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16E-05B5-4177-A92B-9D210255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F58-AAD6-474F-BB90-28910594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CFA-EE22-4684-B58E-48F566B8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6DE-7CD2-4E85-ABE7-58C43E4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B37-4814-4E8E-8F1B-6E10617D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3D3-2889-44EA-BC9F-D6D41D45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EFB-2463-46B6-A277-CFB92959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15B-6492-4F2A-BBFB-AB00361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BCB-0D16-45D7-B218-DE42B2C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6A0-698E-48E1-9ED0-3B54A1A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13E7-C997-41D6-858E-C564DCE66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09480" y="152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00000"/>
                </a:solidFill>
                <a:uFillTx/>
                <a:latin typeface="Arial"/>
              </a:rPr>
              <a:t>Лев Николаевич </a:t>
            </a:r>
            <a:br>
              <a:rPr sz="4800"/>
            </a:br>
            <a:r>
              <a:rPr b="1" lang="en-US" sz="4800" spc="-1" strike="noStrike" u="sng">
                <a:solidFill>
                  <a:srgbClr val="800000"/>
                </a:solidFill>
                <a:uFillTx/>
                <a:latin typeface="Arial"/>
              </a:rPr>
              <a:t>Толст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572000" cy="3429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809880" cy="3116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058120" y="243828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828 - 1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cc99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Везде, где в моем рассказе говорят и действуют исторические лица, я не выдумывал, а пользовался материалом, из которого у меня накопилась и образовалась целая библиотека книг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русские и иностранные исторические источники о войне 1812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оспоминания современников, участников Отечественной вой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архивы, акты и рукописи Румянцевского муз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фамильные воспоминания Толстых и Волконск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сетил Бородинское поле, составил карту расположения русских и француз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732600">
            <a:off x="6858000" y="2590920"/>
            <a:ext cx="1700280" cy="2162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419200" cy="2419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2971800" cy="196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72200" y="4724280"/>
            <a:ext cx="2819520" cy="187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4648320"/>
            <a:ext cx="2743200" cy="1969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152960" cy="311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724280" y="304920"/>
            <a:ext cx="412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«…оригинальное и многосторо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оизведение, соединяющее в себ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попею, исторический роман и 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рав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И.С.Турген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028680" cy="2416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1320" y="4419720"/>
            <a:ext cx="3181320" cy="200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3009960" cy="205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2120760" cy="2210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915120" y="579132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Баграт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6040" y="396252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пер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8400" y="64911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Наполе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8520" y="1905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уту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6095880" cy="701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Духовный кризис 70-8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877 г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–  «Анна Каренина» - семейно-психологический роман. Счастье личное и счастье народное. Жизнь семьи и жизнь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800000"/>
                </a:solidFill>
                <a:latin typeface="Arial"/>
              </a:rPr>
              <a:t>«Всякий человек произошел на этот свет по воле Бога. И Бог так сотворил человека, что всякий человек может погубить свою душу или спасти её. Задача человека в жизни – спасти свою душу; чтобы спасти свою душу, нужно жить по-божьи, а чтобы жить по-божьи,      нужно отрекаться от всех утех  жизни, трудиться, смириться, терпеть и быть милостивы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Непротивление злу насилием</a:t>
            </a:r>
            <a:r>
              <a:rPr b="0" i="1" lang="en-US" sz="1600" spc="-1" strike="noStrike">
                <a:solidFill>
                  <a:srgbClr val="800000"/>
                </a:solidFill>
                <a:latin typeface="Arial"/>
              </a:rPr>
              <a:t> – одна из главных заповедей «толстовского христианства»: не противься злу, «и если кто ударит тебя в одну щеку, лучше подставить другую щеку, чем за удар ответить ударом»; люби всех людей, даже врагов, и делай им добро. («Учение Христа, изложенное для детей», 1907-19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879 – 1882 г.г. – «Исповед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«Так что же нам делать?», «В чем моя вера?», «О жизни», «Не могу молчать»(19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Защита интересов крестьянства. Ожидание революции и неверие в н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ритика всех основ современного государственного и общественного строя. Отречение от жизни дворянского к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00800" y="685800"/>
            <a:ext cx="2606760" cy="3713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2819520" cy="196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05280" y="456840"/>
            <a:ext cx="5410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Толстовство» явилось причиной семейного разлада. Отказ писателя от прав литературной собственности, религиозные убеждения, общественные выступления не находили сочувствия у многих членов семьи. Тяжба между дворянским домом –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вместилищем всех пороко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-  и мужицкой избой –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бителью покоя и добродетели –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обретает у Толстого характер неразрешимого противоре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исатель пытается привести свой образ жизни в соответствие со своим вероучением (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речение, труд, смирение, терпение, деятельная любовь к людям)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 мучительно страдает от невозможности это сдел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3124080"/>
            <a:ext cx="2667240" cy="3314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685800"/>
            <a:ext cx="3381120" cy="2158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281952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889 - 1899 г.г. – «Воскресение» - социально-идеологический роман - протест против беззакония и лжи общества; вера в обновление возрожденной души, в нравственное перерождение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В феврале 1901 года граф Толстой был отлучен   от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280"/>
            <a:ext cx="65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Дидактический, нравоучительный характер произвед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886 год – повесть «Смерть Ивана Ильич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887-1889 г.г. – «Крейцерова сона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890-1898 г.г. – «Отец Серг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03 год – рассказ «После б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рамы - «Власть тьмы» (1886), «Живой труп» (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21169200">
            <a:off x="4952880" y="4038480"/>
            <a:ext cx="2497320" cy="2514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368400">
            <a:off x="7314840" y="4514400"/>
            <a:ext cx="1639800" cy="23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1511280" cy="226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 rot="778200">
            <a:off x="7467480" y="2133360"/>
            <a:ext cx="1519200" cy="219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57909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Я ведь от вас никогда не скрывал, что я в этом доме киплю, как в аду, и всегда думал и желал уйти куда-нибудь в лес, в сторожку… где мы помогали бы друг другу. Но Бог не давал мне силы порвать с семьей … я для личного своего удовольствия не мог заставить страдать других, хотя бы и семейных»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Толстой крестьянину М.П.Новикову, 191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«Чувствую большую тяжесть от глупой благотворительности внешней в соединении с безумной роскошью жизни своей» (1908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«Все больше и больше тягощусь этой жизнью…» (26 октября 1910 года)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ночь с 27 на 28 октября 1910 года Л.Н.Толстой тайно покинул Ясную Поляну в сопровождении дочери Александры и доктора Маковицкого. В дороге простудился и заболел воспалением легких. 7 (20) ноября 1910 года на станции Астапово Рязанской железной дороги Толстой у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752920" cy="1974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427800">
            <a:off x="6095520" y="2133360"/>
            <a:ext cx="2610000" cy="1863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1955520" cy="2743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176720" cy="2835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498200" y="50292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М.Н.Волко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3480" y="502920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Н.И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83160" y="228600"/>
            <a:ext cx="723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Л.Н.Толстой родился 28 августа (9 сентября) 1828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имении Ясная Поляна   Тульской губер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аристократической дворянской сем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203200" cy="28656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3886200" cy="29145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520" y="4572000"/>
            <a:ext cx="2838240" cy="2027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718440" y="625968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Братья Тол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257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семье было пятеро детей: Николай, Сергей, Дмитрий, Лев, Мария. В 1830 году умерла мать, Мария Николаевна, а в 1837 году – отец, Николай Ильич. Воспитанием детей занималась тетушка Татьяна Александровна Ерголь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«…в детстве она научила меня духовному наслаждению любви. Она не словами учила меня этому, а всем своим существом заражала меня любовь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Летом 1841 года детей увозит в Казань сестра отца П.И.Юшкова. Старшие братья учатся в Казанском университете, куда в 1844 году поступает и Лев Толстой на факультет восточных языков, затем переводится на юридический. Но в 1847 году уходит из университета и уезжает в Ясную Поля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733920" cy="241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609480"/>
            <a:ext cx="2313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cc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Поиски смысла жизни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847 - 18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пытки прогрессивных хозяйственных преобразований в Ясной Поля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етербург. Юридический факультет Петербург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ужба в канцелярии Тульского губернского правления (18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тературные опы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51 год – едет служить на Кавказ вместе с братом Никол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628200">
            <a:off x="6172200" y="609120"/>
            <a:ext cx="2608200" cy="3733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3095640" cy="2265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Военная служба (1851 – 18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частие в военных сражениях. Осознание бессмысленной, разрушительной стороны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накомство с простым, естественным миром вольного казачества, гордыми и независимыми характерами казаков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«Казаки» - 1863 го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весть «Детство»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852 год, журнал «Современник») – начало художественной автобиографии «Четыре эпохи разви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ымская война (1853 – 1855).Дунайская армия (1854) «Севастопольские рассказ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573280" cy="313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353040" cy="2103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141000">
            <a:off x="304920" y="457200"/>
            <a:ext cx="2374920" cy="312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010040" cy="2720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962160" cy="2678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771640" y="15228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Севастополь в декабре месяце»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Севастополь в мае» (18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Севастополь в августе» (18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6560" y="1422360"/>
            <a:ext cx="5703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«Надолго оставит в России  вели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леды эта эпопея  Севастопол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которой героем был русский нар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«Герой моей повести – ПРАВ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аким надо быть? К чему стрем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52 год – «Дет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ервые радости, которые дает  человеку   м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и первые тревоги и разочарования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54 год – «Отроче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Разлад   с   миром  духовно выросшего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57 год – «Ю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Герой – человек, ищущий истину, борющийся за н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тремящийся   к   нравственному   обновл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овершенств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1814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«Чтобы жить честно, надо рваться, путаться, б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ошибаться, начинать и бросать, и опять бросать;    и веч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бороться и лишаться. А спокойствие – душевная подл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2600" y="62485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0360" y="1066680"/>
            <a:ext cx="48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Процесс умственного и нравств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развит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311200" cy="3124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Идейные искания 50 – 60-х г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162160" cy="2495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2149560" cy="2286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1066680"/>
            <a:ext cx="883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56 год – «Утро помещ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Главное зло – жалкое, бедственное положение муж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щущение надвигающейся крестьянской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бличение правящих кругов и проповедь всеобще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438280"/>
            <a:ext cx="6400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1862 год – Л.Н.Толстой женится на Софье Андреевне Берс, дочери известного московского вр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«Я дожил до 34 лет и не знал, что можно так любить и быть так счастливы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Счастье семейное поглощает меня всего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358128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99ff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«Война и мир»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(1863 – 18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752480" cy="2190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744920" cy="2590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-7560" y="2286000"/>
            <a:ext cx="70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Декабристы»    -   «Три поры»    -     «1805 год»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Все хорошо, что хорошо кончается» - «Война и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80" y="2517840"/>
            <a:ext cx="71805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857 г. – после   встречи   с   декабристами (Пущин, Волконск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.Н.Толстой задумал роман об одном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825 г. – «Невольно от настоящего  я  перешел  к  1825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похе заблуждений и несчастий моего гер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812 г. – «Чтобы  понять моего героя,  мне  нужно    перенест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 его молодости, которая совпала со славной для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похой 1812 г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805 г. – «Мне совестно было писать о нашем  торж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 борьбе  с бонопартовской Францией,  не  опис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удач и нашего ср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6324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«Я старался писать историю на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Л.Н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4-03-31T16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